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wmf" ContentType="image/x-wmf"/>
  <Override PartName="/ppt/media/image55.jpeg" ContentType="image/jpeg"/>
  <Override PartName="/ppt/media/image43.png" ContentType="image/png"/>
  <Override PartName="/ppt/media/image54.wmf" ContentType="image/x-wmf"/>
  <Override PartName="/ppt/media/image53.wmf" ContentType="image/x-wmf"/>
  <Override PartName="/ppt/media/image51.jpeg" ContentType="image/jpeg"/>
  <Override PartName="/ppt/media/image49.jpeg" ContentType="image/jpeg"/>
  <Override PartName="/ppt/media/image4.jpeg" ContentType="image/jpeg"/>
  <Override PartName="/ppt/media/image40.png" ContentType="image/png"/>
  <Override PartName="/ppt/media/image37.jpeg" ContentType="image/jpeg"/>
  <Override PartName="/ppt/media/image3.jpeg" ContentType="image/jpeg"/>
  <Override PartName="/ppt/media/image28.wmf" ContentType="image/x-wmf"/>
  <Override PartName="/ppt/media/image62.wmf" ContentType="image/x-wmf"/>
  <Override PartName="/ppt/media/image50.wmf" ContentType="image/x-wmf"/>
  <Override PartName="/ppt/media/image1.jpeg" ContentType="image/jpeg"/>
  <Override PartName="/ppt/media/image10.png" ContentType="image/png"/>
  <Override PartName="/ppt/media/image26.wmf" ContentType="image/x-wmf"/>
  <Override PartName="/ppt/media/image9.png" ContentType="image/png"/>
  <Override PartName="/ppt/media/image22.jpeg" ContentType="image/jpeg"/>
  <Override PartName="/ppt/media/image24.jpeg" ContentType="image/jpeg"/>
  <Override PartName="/ppt/media/image52.wmf" ContentType="image/x-wmf"/>
  <Override PartName="/ppt/media/image23.jpeg" ContentType="image/jpeg"/>
  <Override PartName="/ppt/media/image46.jpeg" ContentType="image/jpeg"/>
  <Override PartName="/ppt/media/image15.wmf" ContentType="image/x-wmf"/>
  <Override PartName="/ppt/media/image66.wmf" ContentType="image/x-wmf"/>
  <Override PartName="/ppt/media/image19.wmf" ContentType="image/x-wmf"/>
  <Override PartName="/ppt/media/image61.wmf" ContentType="image/x-wmf"/>
  <Override PartName="/ppt/media/image65.wmf" ContentType="image/x-wmf"/>
  <Override PartName="/ppt/media/image42.jpeg" ContentType="image/jpeg"/>
  <Override PartName="/ppt/media/image64.png" ContentType="image/png"/>
  <Override PartName="/ppt/media/image16.wmf" ContentType="image/x-wmf"/>
  <Override PartName="/ppt/media/image27.wmf" ContentType="image/x-wmf"/>
  <Override PartName="/ppt/media/image14.wmf" ContentType="image/x-wmf"/>
  <Override PartName="/ppt/media/image57.png" ContentType="image/png"/>
  <Override PartName="/ppt/media/image18.wmf" ContentType="image/x-wmf"/>
  <Override PartName="/ppt/media/image21.jpeg" ContentType="image/jpeg"/>
  <Override PartName="/ppt/media/image63.wmf" ContentType="image/x-wmf"/>
  <Override PartName="/ppt/media/image20.wmf" ContentType="image/x-wmf"/>
  <Override PartName="/ppt/media/image7.jpeg" ContentType="image/jpeg"/>
  <Override PartName="/ppt/media/image38.jpeg" ContentType="image/jpeg"/>
  <Override PartName="/ppt/media/image11.png" ContentType="image/png"/>
  <Override PartName="/ppt/media/image6.jpeg" ContentType="image/jpeg"/>
  <Override PartName="/ppt/media/image12.wmf" ContentType="image/x-wmf"/>
  <Override PartName="/ppt/media/image5.wmf" ContentType="image/x-wmf"/>
  <Override PartName="/ppt/media/image17.wmf" ContentType="image/x-wmf"/>
  <Override PartName="/ppt/media/image29.jpeg" ContentType="image/jpeg"/>
  <Override PartName="/ppt/media/image8.jpeg" ContentType="image/jpeg"/>
  <Override PartName="/ppt/media/image41.wmf" ContentType="image/x-wmf"/>
  <Override PartName="/ppt/media/image56.png" ContentType="image/png"/>
  <Override PartName="/ppt/media/image13.wmf" ContentType="image/x-wmf"/>
  <Override PartName="/ppt/media/image58.jpeg" ContentType="image/jpeg"/>
  <Override PartName="/ppt/media/image30.wmf" ContentType="image/x-wmf"/>
  <Override PartName="/ppt/media/image2.jpeg" ContentType="image/jpeg"/>
  <Override PartName="/ppt/media/image31.png" ContentType="image/png"/>
  <Override PartName="/ppt/media/image32.png" ContentType="image/png"/>
  <Override PartName="/ppt/media/image33.png" ContentType="image/png"/>
  <Override PartName="/ppt/media/image34.wmf" ContentType="image/x-wmf"/>
  <Override PartName="/ppt/media/image35.png" ContentType="image/png"/>
  <Override PartName="/ppt/media/image36.wmf" ContentType="image/x-wmf"/>
  <Override PartName="/ppt/media/image25.wmf" ContentType="image/x-wmf"/>
  <Override PartName="/ppt/media/image47.jpeg" ContentType="image/jpeg"/>
  <Override PartName="/ppt/media/image39.wmf" ContentType="image/x-wmf"/>
  <Override PartName="/ppt/media/image60.wmf" ContentType="image/x-wmf"/>
  <Override PartName="/ppt/media/image44.jpeg" ContentType="image/jpeg"/>
  <Override PartName="/ppt/media/image45.png" ContentType="image/png"/>
  <Override PartName="/ppt/media/image4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368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3DA5-031C-4F1B-99AF-D53F480AAB18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3D8E-EC58-41F0-AACC-2B3C38AA032A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0A5C-D0FB-4804-9B10-185343549982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313E-332F-4CEE-8188-084D92E95BBC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6F65-A05E-4EE2-895D-D6D9ABD3600D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F400-EB25-4293-82DC-9CBD2F5DB1B4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8A9F-FD6F-4977-A61A-E6DC0F4D0807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D085-C557-4795-A00B-366CFEC16C7C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3459-6945-4BDA-A59F-2598564EC82B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0AF9-15B0-4B66-96CC-D875E87F334C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B1B0-6F68-4A41-8F34-40F4B5D75B68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AE80-44F5-4F7C-A58B-260AE5A66EA0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3C4F-5A6C-459F-92DC-4EFDC49AB97B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379A-B8AE-43C8-AE49-475B2D157DFD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EE75-E3E3-40EB-B643-17FA52093B28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98C4-214D-4707-B3D7-38E11DF33A17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039E-D53A-4889-9B17-6FB709F7E218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71CE-D1E1-4F11-B8AC-090C69F4C37D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AD21-8C3C-4884-871B-77C74B0DC565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BD15-2CD1-49A4-A9F8-7F5A70D40EA3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4572-F180-4213-B102-E4069D218096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99FF-035F-4601-B25F-FE5EDA6FEACF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0FB6-E5BE-4FC2-8D13-AC8041CF3530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55E2-88DC-4B90-8472-EC6FCD0818CD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986B-1F99-47DE-A519-B98F04EC251B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000B-4D2F-4954-B17E-9C6A85BC7CE0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0AB9-1D5E-4CA2-95E0-8DFF364F26E1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1EA7-4215-428B-A0BA-9F749CFC38C4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0636-5919-43BB-B822-F9ECE7380EFC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605D-A19C-410B-92E3-BBE4CED4ECEC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7209-85BC-4DA1-AC27-C66EB110108A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A74A-001C-4F1A-871E-BD54821DB878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A944-AF70-4E92-B3D5-526D4DDE9384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3C1D-036D-4D9E-A563-0EEA4F027B4A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2DD8-1A66-4985-94A7-1549CA747C5D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9AE1-0628-4853-B504-10465C2154B0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3C47-38DB-48B3-8117-C6A5D168EDD0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F640-7FC2-4415-8211-27ED2CD0D5C9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FB37-94F6-4F01-AEDF-20B83B9893F5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6D8C-2243-4EA5-BFB6-BFD2EF16980D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2E54-07A2-49FB-A6DB-2D45CE72B053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335F-A4F2-45AF-B508-1BE22B571889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82D8-8AF2-4546-A500-187265FCA2ED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AC4B-48DC-485A-A883-3CDB5EB28671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ADA5-44B0-482B-BB8E-1575392EE235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A598-69CC-445F-AF09-2C6413B06341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CB30-803B-4A01-BBA9-85674F913E4D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F50E-AEE9-4B3A-98FA-8631D86A3C40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BF7E9-D5B9-4822-82B8-5755891D45BF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6D95-1346-473D-802C-788DBED24734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F6B5-E363-4B00-88F3-903C588ABC06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77EF-B22E-486B-95DC-7458E97AE5CE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3025-ABE9-475B-98A3-3C04A237C3FC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F8A2-3B43-464A-8D6B-983A2271253E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CF6D-7F85-40A2-B9A4-CF41FE95FBA7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54BF-452C-4091-8695-0D52DCED2155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998D-DC2B-4207-A91B-7263488A7E63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6B86-34BC-4C4C-8BDC-7A8B12FA827F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622A-87CA-43E6-97D7-0CA13D7FE52D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E851-2DCF-4817-832D-50C3432E3FEF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D078-0B33-4DB3-A5AE-2F1370F18F5F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BB57-479C-46E7-88E8-CA249F1A5BF1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6567-4A7E-49B0-B660-B7AC5DF26301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A534-76A9-45EB-8A4B-DBF08DFD8394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A1DB-E3D4-4346-8976-BF8FDF3A0401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99E2-CA8D-499E-9236-FAE04FDC3413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7F4E-B7B6-42F7-B1A0-54D745B332A9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2C2F-884D-4B7E-84DF-D3C237C26D28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EDDB-3529-4F71-A390-3BF36609D460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413F-9D4E-4A02-BC24-14EC0CB67B2A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9D6B-FC98-48C6-914F-BE68159F1F47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1A05-7193-4AFD-AF7A-3FC98AD01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9D2D-93BD-4F39-85AE-D3243110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0228-8912-4631-B794-E1A15758F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12B8-E90A-4EFF-9092-727EBDAB1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CF5F-8C2C-477C-90A1-FFBB7ECD9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ED3C8-A7DE-48C1-9E82-249EA728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CAFE-8D05-47A3-A896-651D49AC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2DAA-D8D5-4DD8-B752-F17F525F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E910-7AB4-41E7-909F-6097DD4F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159F-E5A7-4C61-AC77-009E1343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6A8F-5E65-4A72-80DA-9578A001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6B55-97ED-40C5-8905-0CD04B54F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17FC-F935-4DFF-89C0-536F3941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6B96-9837-4673-8220-CE53AE50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842B-ABA7-4869-8243-0C3EF229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60970-6729-4794-ACBA-5031DE525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4451-F1D2-467D-9D90-6C1A9B386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FBB2-ED5A-4119-A3F4-6C410CAE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AEBC-DD07-453F-AC50-87D2A7BA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F901-404C-4700-9B79-8455BF42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FBA9-2F37-476C-BFDA-EAC07909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ABEA-CCD5-431D-B82C-C416C381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5BC0-D93E-46DC-B0C2-34EA0318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3F12-2998-463D-AF3B-8B2FB436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a1b5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0DBE-52B6-4742-8351-45DC6D96261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50000">
              <a:srgbClr val="e0e8f8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8956-40DA-41A5-B002-BD6E86D3F92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image" Target="../media/image51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62080" y="2349360"/>
            <a:ext cx="8574120" cy="25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191966"/>
                </a:solidFill>
                <a:latin typeface="Comic Sans MS"/>
              </a:rPr>
              <a:t>Chimica Farmaceutica e Tossicologica dei Composti Inorganici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191966"/>
                </a:solidFill>
                <a:latin typeface="Comic Sans MS"/>
              </a:rPr>
              <a:t>Corso di Laurea in CTF (A-L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191966"/>
                </a:solidFill>
                <a:latin typeface="Comic Sans MS"/>
              </a:rPr>
              <a:t>Dr. Sergio Valent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-57240" y="60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539640" y="549360"/>
            <a:ext cx="822348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Farmaci/tossici fortemente idrofili poiché carichi o insolubili non sono attivi per os: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d-tubocurarina e BaSO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7" name="Picture 6" descr="File:Tubocurarine.svg"/>
          <p:cNvPicPr/>
          <p:nvPr/>
        </p:nvPicPr>
        <p:blipFill>
          <a:blip r:embed="rId1"/>
          <a:stretch/>
        </p:blipFill>
        <p:spPr>
          <a:xfrm>
            <a:off x="485640" y="2041560"/>
            <a:ext cx="4000680" cy="2705040"/>
          </a:xfrm>
          <a:prstGeom prst="rect">
            <a:avLst/>
          </a:prstGeom>
          <a:ln w="0">
            <a:noFill/>
          </a:ln>
        </p:spPr>
      </p:pic>
      <p:sp>
        <p:nvSpPr>
          <p:cNvPr id="158" name="ZoneTexte 5"/>
          <p:cNvSpPr/>
          <p:nvPr/>
        </p:nvSpPr>
        <p:spPr>
          <a:xfrm>
            <a:off x="2208240" y="5046840"/>
            <a:ext cx="4675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d-tubocurarina (curaro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Miorilassante attivo solo per ev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9" name="Picture 8" descr="File:Tubocurarine-3D-sticks.png"/>
          <p:cNvPicPr/>
          <p:nvPr/>
        </p:nvPicPr>
        <p:blipFill>
          <a:blip r:embed="rId2"/>
          <a:stretch/>
        </p:blipFill>
        <p:spPr>
          <a:xfrm>
            <a:off x="4875120" y="1820880"/>
            <a:ext cx="382932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533520" y="304920"/>
            <a:ext cx="7848360" cy="35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125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Assorbimento attraverso la via respiratoria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ssorbimento rapido grazie all’ampia superficie ed elevata irrorazione delle membrane alveolo-capillari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Molti metalli vengono inalati sotto forma di aerosol (intossicazioni industriali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Comic Sans MS"/>
              </a:rPr>
              <a:t>HgS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antisifilitico-sifilide, da treponema pallidum-XV secol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 era somministrato attraverso inalazion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gravi intossicazioni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lcuni farmaci vengono somministrati per via inalatoria (anestetici generali volatili, broncodilatatori e cortisonici nell’asma e nitrito di amile nei casi di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angina pectoris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539640" y="3887640"/>
            <a:ext cx="806472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125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Assorbimento attraverso la pelle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la pelle è un tessuto di protezione poco favorevole alla penetrazione dei tossici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È però permeabile ai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gas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e alle sostanze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lipofil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solubili nei lipidi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539640" y="5149800"/>
            <a:ext cx="799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Lesioni di continuità della cute alterano profondamente l’assorbimento attraverso di essa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684360" y="47628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DISTRIBUZION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468360" y="1268280"/>
            <a:ext cx="813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Una volta assorbito il tossico si distribuisce nei vari tessuti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a distribuzione dipende dalla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vascolarizzazione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e dalla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affinità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el tessuto per quel determinato tossic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539640" y="2708280"/>
            <a:ext cx="8353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Gli organi nei quali i tossici si localizzano più frequentemente sono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fegat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 (Pb, Hg, Cu, As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SN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Pb, Hg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rene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Cd, Hg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539640" y="4365720"/>
            <a:ext cx="8209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a localizzazione del tossico dipende anche dal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tipo di intossicazion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acuta o cron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. Esempio del Pb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Intox acut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fegato e ren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Intox cron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unghie, peli, capelli, saliv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: essendo la funzionalità renale alterata, il tossico non viene più eliminato con le urine ma attraverso nuove vi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611280" y="33336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METABOLISM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684360" y="1125360"/>
            <a:ext cx="777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24000" y="968400"/>
            <a:ext cx="8351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l farmaco/tossico può subire una serie di trasformazioni chimiche all’interno dell’organismo che vanno sotto il nome di 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metabolism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04920" y="1752480"/>
            <a:ext cx="83534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Queste reazioni di biotrasformazione sono 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enzimatiche, non enzimatiche (spontanee) o post-enzimatich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ed avvengono prevalentemente a livello del 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fegat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324000" y="2852640"/>
            <a:ext cx="8353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Lo scopo è quello di formare metaboliti più facilmente eliminabili attraverso gli organi emuntori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0" y="37339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Tossico</a:t>
            </a:r>
            <a:r>
              <a:rPr b="1" i="1" lang="it-IT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Line 11"/>
          <p:cNvSpPr/>
          <p:nvPr/>
        </p:nvSpPr>
        <p:spPr>
          <a:xfrm>
            <a:off x="1584360" y="4162320"/>
            <a:ext cx="1800360" cy="122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0" y="4876920"/>
            <a:ext cx="266688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5050"/>
                </a:solidFill>
                <a:latin typeface="Comic Sans MS"/>
              </a:rPr>
              <a:t>Reazioni di fase 1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5050"/>
                </a:solidFill>
                <a:latin typeface="Comic Sans MS"/>
              </a:rPr>
              <a:t>(funzionalizzazione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3317760" y="4632480"/>
            <a:ext cx="2089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Tossic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attivat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immodificato o inattivato ma comunque generalmente leggermente più polar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Line 16"/>
          <p:cNvSpPr/>
          <p:nvPr/>
        </p:nvSpPr>
        <p:spPr>
          <a:xfrm flipV="1">
            <a:off x="5364000" y="4343400"/>
            <a:ext cx="2027520" cy="90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7451640" y="3363840"/>
            <a:ext cx="169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Tossico generalmente inattivo e comunque più polare escreto con le urin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4648320" y="3754440"/>
            <a:ext cx="243828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66"/>
                </a:solidFill>
                <a:latin typeface="Comic Sans MS"/>
              </a:rPr>
              <a:t>Reazioni di fase 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66"/>
                </a:solidFill>
                <a:latin typeface="Comic Sans MS"/>
              </a:rPr>
              <a:t>(coniugazione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324000" y="5300640"/>
            <a:ext cx="71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4"/>
          <p:cNvSpPr/>
          <p:nvPr/>
        </p:nvSpPr>
        <p:spPr>
          <a:xfrm>
            <a:off x="468360" y="496800"/>
            <a:ext cx="813600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Reazioni di fase 1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hanno lo scopo di trasformare molecole lipofile in molecole più polari/idrofile attraverso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l’introduzione o lo smascheramento di gruppi funzionali polar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(-OH, -NH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, -COOH)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382680" y="1847880"/>
            <a:ext cx="8353440" cy="9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Sono reazioni di fase 1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reazioni di ossidazion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82" name="Object 6"/>
          <p:cNvGraphicFramePr/>
          <p:nvPr/>
        </p:nvGraphicFramePr>
        <p:xfrm>
          <a:off x="893880" y="3192480"/>
          <a:ext cx="4789440" cy="15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3880" y="3192480"/>
                    <a:ext cx="4789440" cy="15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7"/>
          <p:cNvGraphicFramePr/>
          <p:nvPr/>
        </p:nvGraphicFramePr>
        <p:xfrm>
          <a:off x="1057320" y="5318280"/>
          <a:ext cx="6408720" cy="113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57320" y="5318280"/>
                    <a:ext cx="6408720" cy="11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4"/>
          <p:cNvSpPr/>
          <p:nvPr/>
        </p:nvSpPr>
        <p:spPr>
          <a:xfrm>
            <a:off x="395280" y="54936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reazioni di riduzion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87" name="Object 0"/>
          <p:cNvGraphicFramePr/>
          <p:nvPr/>
        </p:nvGraphicFramePr>
        <p:xfrm>
          <a:off x="1596960" y="1393920"/>
          <a:ext cx="5543640" cy="132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6960" y="1393920"/>
                    <a:ext cx="554364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Text Box 7"/>
          <p:cNvSpPr/>
          <p:nvPr/>
        </p:nvSpPr>
        <p:spPr>
          <a:xfrm>
            <a:off x="539640" y="3357720"/>
            <a:ext cx="77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reazioni di idrolisi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90" name="Object 1"/>
          <p:cNvGraphicFramePr/>
          <p:nvPr/>
        </p:nvGraphicFramePr>
        <p:xfrm>
          <a:off x="1711440" y="4454640"/>
          <a:ext cx="3998880" cy="159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11440" y="4454640"/>
                    <a:ext cx="3998880" cy="15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257040" y="0"/>
            <a:ext cx="845676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Reazioni di fase 2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sono reazioni di coniugazione. I metaboliti di fase I vengono coniugati con substrati endogeni altamente polari come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acido glucuronico</a:t>
            </a: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,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glutatione, solfato ed</a:t>
            </a: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aminoacidi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I prodotti di coniugazione sono generalmente più idrosolubili e più facilmente escreti nelle urine e/o nella bile rispetto ai loro precursori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93" name="Group 14"/>
          <p:cNvGrpSpPr/>
          <p:nvPr/>
        </p:nvGrpSpPr>
        <p:grpSpPr>
          <a:xfrm>
            <a:off x="539640" y="2155680"/>
            <a:ext cx="8425080" cy="4442040"/>
            <a:chOff x="539640" y="2155680"/>
            <a:chExt cx="8425080" cy="4442040"/>
          </a:xfrm>
        </p:grpSpPr>
        <p:graphicFrame>
          <p:nvGraphicFramePr>
            <p:cNvPr id="194" name="Object 5"/>
            <p:cNvGraphicFramePr/>
            <p:nvPr/>
          </p:nvGraphicFramePr>
          <p:xfrm>
            <a:off x="2013120" y="2155680"/>
            <a:ext cx="3892320" cy="1586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5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13120" y="2155680"/>
                      <a:ext cx="3892320" cy="158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6" name="Line 6"/>
            <p:cNvSpPr/>
            <p:nvPr/>
          </p:nvSpPr>
          <p:spPr>
            <a:xfrm flipH="1">
              <a:off x="2916000" y="3597120"/>
              <a:ext cx="1657080" cy="129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7" name="Line 7"/>
            <p:cNvSpPr/>
            <p:nvPr/>
          </p:nvSpPr>
          <p:spPr>
            <a:xfrm>
              <a:off x="5219640" y="3597120"/>
              <a:ext cx="1368360" cy="129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aphicFrame>
          <p:nvGraphicFramePr>
            <p:cNvPr id="198" name="Object 8"/>
            <p:cNvGraphicFramePr/>
            <p:nvPr/>
          </p:nvGraphicFramePr>
          <p:xfrm>
            <a:off x="2268360" y="4029120"/>
            <a:ext cx="1297080" cy="682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9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68360" y="4029120"/>
                      <a:ext cx="1297080" cy="68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0" name="Object 9"/>
            <p:cNvGraphicFramePr/>
            <p:nvPr/>
          </p:nvGraphicFramePr>
          <p:xfrm>
            <a:off x="1692360" y="5037120"/>
            <a:ext cx="1650960" cy="1558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1" name="Object 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692360" y="5037120"/>
                      <a:ext cx="1650960" cy="155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2" name="Text Box 10"/>
            <p:cNvSpPr/>
            <p:nvPr/>
          </p:nvSpPr>
          <p:spPr>
            <a:xfrm>
              <a:off x="539640" y="4389480"/>
              <a:ext cx="172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ff3300"/>
                  </a:solidFill>
                  <a:latin typeface="Comic Sans MS"/>
                </a:rPr>
                <a:t>Coniugazione con la glicina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aphicFrame>
          <p:nvGraphicFramePr>
            <p:cNvPr id="203" name="Object 11"/>
            <p:cNvGraphicFramePr/>
            <p:nvPr/>
          </p:nvGraphicFramePr>
          <p:xfrm>
            <a:off x="6227640" y="5030640"/>
            <a:ext cx="1657440" cy="15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4" name="Object 11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227640" y="5030640"/>
                      <a:ext cx="1657440" cy="15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5" name="Object 12"/>
            <p:cNvGraphicFramePr/>
            <p:nvPr/>
          </p:nvGraphicFramePr>
          <p:xfrm>
            <a:off x="6300720" y="3381480"/>
            <a:ext cx="830160" cy="1204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06" name="Object 12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300720" y="3381480"/>
                      <a:ext cx="830160" cy="12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7" name="Text Box 13"/>
            <p:cNvSpPr/>
            <p:nvPr/>
          </p:nvSpPr>
          <p:spPr>
            <a:xfrm>
              <a:off x="6948360" y="3933720"/>
              <a:ext cx="2016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ffff66"/>
                  </a:solidFill>
                  <a:latin typeface="Comic Sans MS"/>
                </a:rPr>
                <a:t>Coniugazione con l’acido glucuronico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fase2"/>
          <p:cNvPicPr/>
          <p:nvPr/>
        </p:nvPicPr>
        <p:blipFill>
          <a:blip r:embed="rId1"/>
          <a:stretch/>
        </p:blipFill>
        <p:spPr>
          <a:xfrm>
            <a:off x="1371600" y="838080"/>
            <a:ext cx="6400800" cy="582624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3"/>
          <p:cNvSpPr/>
          <p:nvPr/>
        </p:nvSpPr>
        <p:spPr>
          <a:xfrm>
            <a:off x="1371600" y="838080"/>
            <a:ext cx="6400800" cy="579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838080" y="380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66"/>
                </a:solidFill>
                <a:latin typeface="Comic Sans MS"/>
              </a:rPr>
              <a:t>COFATTORI DI CONIUGAZION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Glu"/>
          <p:cNvPicPr/>
          <p:nvPr/>
        </p:nvPicPr>
        <p:blipFill>
          <a:blip r:embed="rId1"/>
          <a:stretch/>
        </p:blipFill>
        <p:spPr>
          <a:xfrm>
            <a:off x="5257800" y="228600"/>
            <a:ext cx="3286080" cy="64008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"/>
          <p:cNvSpPr/>
          <p:nvPr/>
        </p:nvSpPr>
        <p:spPr>
          <a:xfrm>
            <a:off x="152280" y="1219320"/>
            <a:ext cx="525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200" spc="-1" strike="noStrike">
                <a:solidFill>
                  <a:srgbClr val="ffff66"/>
                </a:solidFill>
                <a:latin typeface="Comic Sans MS"/>
              </a:rPr>
              <a:t>ESEMPIO DI COMPLESSITA’ DEL METABOLISMO DI FASE 2: GLUTATIONOCONIUGAZIONE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5257800" y="228600"/>
            <a:ext cx="3276720" cy="640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611280" y="304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AVVELENAMENTO DA METALLI PESANT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24000" y="1419120"/>
            <a:ext cx="8153280" cy="12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menti stimolatori (non essenziali)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ie di assorbimento: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alatoria e cutanea (intossicazione industriale), gastroenterica (intossicazione non industriale)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380880" y="3581280"/>
            <a:ext cx="8439120" cy="14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Intossicazioni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0000"/>
                </a:solidFill>
                <a:latin typeface="Comic Sans MS"/>
              </a:rPr>
              <a:t>acuta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(singola esposizione di durata relativamente breve a dosi elevate)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disturbi gastrointestinali (nausea, vomito, diarrea, dolori addominali), segni particolari quali orletto gengivale nero (PbS) o pelle grigio-nerastra (Ag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), peraltro riscontrabili anche in quelle croniche. Manifestazioni patologiche specifich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700200" y="83664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Ag, Pb, Hg, As, Sb, Bi, Cd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304920" y="5258520"/>
            <a:ext cx="8296200" cy="11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0000"/>
              </a:lnSpc>
              <a:spcBef>
                <a:spcPts val="10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CADMIO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per ingestione di alimenti contaminati: nausea, vomito, diarrea; per inalazione di vapori di Cd (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fumo di sigarette è una delle principali fonti non occupazional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i fumatori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hanno una concentrazione ematica di Cd   4-5 volte maggior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: irritazione locale, asma, polmonite acuta ed edema polmonar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304920" y="2514600"/>
            <a:ext cx="85150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MECCANISMO GENERALE DELL’AZIONE TOSS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gli ioni dei metalli pesanti interagiscono con  gruppi nucleofili (in particolare </a:t>
            </a:r>
            <a:r>
              <a:rPr b="1" i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H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) delle proteine (soprattutto enzimi) inattivandole e alterando il biochimismo fisiologico cellulare</a:t>
            </a:r>
            <a:r>
              <a:rPr b="0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5"/>
          <p:cNvSpPr/>
          <p:nvPr/>
        </p:nvSpPr>
        <p:spPr>
          <a:xfrm>
            <a:off x="685800" y="533520"/>
            <a:ext cx="800100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66"/>
                </a:solidFill>
                <a:latin typeface="Comic Sans MS"/>
              </a:rPr>
              <a:t>MEDICINAL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(FU): ogni sostanza o composizione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esentata come avente proprietà curative o profilattiche delle malattie umane ed animali;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a somministrare all’uomo o all’animale allo scopo di stabilire una diagnosi o di ripristinare, correggere o modificare funzioni organiche dell’uomo o dell’animale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Text Box 24"/>
          <p:cNvSpPr/>
          <p:nvPr/>
        </p:nvSpPr>
        <p:spPr>
          <a:xfrm>
            <a:off x="685800" y="3200400"/>
            <a:ext cx="7924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66"/>
                </a:solidFill>
                <a:latin typeface="Comic Sans MS"/>
              </a:rPr>
              <a:t>FARMACO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: qualsiasi sostanza in grado di indurre, attraverso le sue azioni chimico-fisiche, modifiche nelle funzioni biologich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Text Box 25"/>
          <p:cNvSpPr/>
          <p:nvPr/>
        </p:nvSpPr>
        <p:spPr>
          <a:xfrm>
            <a:off x="685800" y="4267080"/>
            <a:ext cx="79246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66"/>
                </a:solidFill>
                <a:latin typeface="Comic Sans MS"/>
              </a:rPr>
              <a:t>VELENO/TOSSICO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senso comune)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qualunque agente che, a dosi relativamente piccole e spesso senza effetti subito appariscenti, sia capace  di produrre delle risposte dannose in un sistema biologico alterandone seriamente le funzioni o producendone  talvolta anche la morte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026"/>
          <p:cNvSpPr/>
          <p:nvPr/>
        </p:nvSpPr>
        <p:spPr>
          <a:xfrm>
            <a:off x="457200" y="5257800"/>
            <a:ext cx="8394840" cy="15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MERCURIO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agedia di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inamat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iigat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1950): intossicazione per ingestione pesce contaminato da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Hg(Me)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e MeHg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tamente liposolubile, risale la catena alimentare);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raq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cereali inquinati da composti mercuriali ad attività anticrittogamica): morte, cecità, malformazioni fetali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1" name="Picture 1027" descr="Catena_2"/>
          <p:cNvPicPr/>
          <p:nvPr/>
        </p:nvPicPr>
        <p:blipFill>
          <a:blip r:embed="rId1"/>
          <a:stretch/>
        </p:blipFill>
        <p:spPr>
          <a:xfrm>
            <a:off x="1371600" y="685800"/>
            <a:ext cx="6400800" cy="4406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029"/>
          <p:cNvSpPr/>
          <p:nvPr/>
        </p:nvSpPr>
        <p:spPr>
          <a:xfrm>
            <a:off x="2556000" y="836640"/>
            <a:ext cx="32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Text Box 1030"/>
          <p:cNvSpPr/>
          <p:nvPr/>
        </p:nvSpPr>
        <p:spPr>
          <a:xfrm>
            <a:off x="2484360" y="765000"/>
            <a:ext cx="352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Text Box 1032"/>
          <p:cNvSpPr/>
          <p:nvPr/>
        </p:nvSpPr>
        <p:spPr>
          <a:xfrm>
            <a:off x="324000" y="33336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cronica 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(esposizioni ripetute nel tempo a dosi relativamente basse)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Text Box 1034"/>
          <p:cNvSpPr/>
          <p:nvPr/>
        </p:nvSpPr>
        <p:spPr>
          <a:xfrm>
            <a:off x="380880" y="609480"/>
            <a:ext cx="849816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0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PIOMBO,</a:t>
            </a:r>
            <a:r>
              <a:rPr b="1" i="1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ff0000"/>
                </a:solidFill>
                <a:latin typeface="Comic Sans MS"/>
              </a:rPr>
              <a:t>SATURNISM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esposizione occupazionale per</a:t>
            </a:r>
            <a:r>
              <a:rPr b="0" lang="it-IT" sz="16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minatori, operai di fabbriche di vernici (PbCrO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, di industrie chimiche, di tipografie, addetti alla distribuzione delle benzine super ([Pb(CH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] utilizzato come antidetonante)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intomi più frequenti: astenia, anoressia, cefalea, anemia, pallore della cute, orletto gengivale nero (Pb e PbS).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Rectangle 1035"/>
          <p:cNvSpPr/>
          <p:nvPr/>
        </p:nvSpPr>
        <p:spPr>
          <a:xfrm>
            <a:off x="304920" y="2209680"/>
            <a:ext cx="861048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ncipali bersagli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ff5050"/>
                </a:solidFill>
                <a:latin typeface="Comic Sans MS"/>
                <a:ea typeface="Times New Roman"/>
              </a:rPr>
              <a:t>SNC e SNP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ferenza con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ccanismi sinaptici di rilascio dei NT (competizione con il Ca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,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ervello del feto più sensibile per BEE immatura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europatie periferiche: astenia con conseguente fenomeno di “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duta del polso e del pied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” per degenerazione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7" name="Picture 1036" descr="sinapsi"/>
          <p:cNvPicPr/>
          <p:nvPr/>
        </p:nvPicPr>
        <p:blipFill>
          <a:blip r:embed="rId1"/>
          <a:stretch/>
        </p:blipFill>
        <p:spPr>
          <a:xfrm>
            <a:off x="3048120" y="3886200"/>
            <a:ext cx="3379680" cy="264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380880" y="304920"/>
            <a:ext cx="83822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ANGU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anemia microcitica ipocromica dovuta ad alterata sintesi dell’EME e di emoglobina nel midollo osseo per l’inattivazione di enzimi emopoietici.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29" name="Object 1024"/>
          <p:cNvGraphicFramePr/>
          <p:nvPr/>
        </p:nvGraphicFramePr>
        <p:xfrm>
          <a:off x="2141640" y="1295280"/>
          <a:ext cx="4556160" cy="429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1640" y="1295280"/>
                    <a:ext cx="4556160" cy="42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Text Box 9"/>
          <p:cNvSpPr/>
          <p:nvPr/>
        </p:nvSpPr>
        <p:spPr>
          <a:xfrm>
            <a:off x="457200" y="5867280"/>
            <a:ext cx="7848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OSSA E DENT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compete con il Ca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nel fissarsi a livello di ossa e denti alterandone così struttura e funzion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050"/>
          <p:cNvSpPr/>
          <p:nvPr/>
        </p:nvSpPr>
        <p:spPr>
          <a:xfrm>
            <a:off x="304920" y="304920"/>
            <a:ext cx="84978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ARGENTO</a:t>
            </a:r>
            <a:r>
              <a:rPr b="0" lang="it-IT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,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ARGIRISM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malattia professionale caratterizzata inizialmente da comparsa sulla pelle di colorazione grigio-nera per formazione superficiale di Ag e Ag</a:t>
            </a:r>
            <a:r>
              <a:rPr b="0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 ed in seguito da bronchiti, danni renali, sclerosi arterie,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Text Box 2051"/>
          <p:cNvSpPr/>
          <p:nvPr/>
        </p:nvSpPr>
        <p:spPr>
          <a:xfrm>
            <a:off x="228600" y="1371600"/>
            <a:ext cx="8713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MERCURIO,</a:t>
            </a:r>
            <a:r>
              <a:rPr b="1" lang="it-IT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IDRARGIRISM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insonnia, irritabilità, alterazioni della personalità tremore alle estremità, disturbi della vista e dell’ udito,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efropatia (danni ai tubuli renali) con proteinuria.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4" name="Rectangle 2052"/>
          <p:cNvSpPr/>
          <p:nvPr/>
        </p:nvSpPr>
        <p:spPr>
          <a:xfrm>
            <a:off x="228600" y="2421360"/>
            <a:ext cx="8424720" cy="26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buClr>
                <a:srgbClr val="ffff66"/>
              </a:buClr>
              <a:buFont typeface="Wingdings" charset="2"/>
              <a:buChar char=""/>
              <a:tabLst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ANTIMONIO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l quadro clinico di intossicazione cronica comprende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nausea, vomito, diarrea, nefrite, epatopatie, alterazione funzionalità cardiaca, eritema antimoniale e poliuria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b in modo simile all’As interagisce con i gruppi SH delle proteine inattivandole, ma viene escreto più rapidamente e presenta quindi effetti tossici generali meno grav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buClr>
                <a:srgbClr val="ffff66"/>
              </a:buClr>
              <a:buFont typeface="Wingdings" charset="2"/>
              <a:buChar char=""/>
              <a:tabLst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BISMUTO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sindrome simile al saturnismo con diminuzione appetito, diarrea, febbre, orletto gengivale nero (Bi, Bi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3,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, complicazioni renal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5"/>
          <p:cNvSpPr/>
          <p:nvPr/>
        </p:nvSpPr>
        <p:spPr>
          <a:xfrm>
            <a:off x="304920" y="83520"/>
            <a:ext cx="8569080" cy="26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CADMIO:</a:t>
            </a:r>
            <a:r>
              <a:rPr b="1" i="1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danni renali (amminoaciduria, glicosuria), disturbi cardiovascolari (ipertensione, cardiopatie) ed a carico del sistema scheletrico che va incontro a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demineralizzazione con conseguente osteoporosi e osteomalacia dovuta ad interferenza con il metabolismo del Ca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Sindrome Itai-Itai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ntossicazione endemica che ha colpito negli anni ‘60 donne giapponesi in menopausa dovuta all’ingestione di riso inquinato: malattia renale cronica e gravi deformazioni osse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36" name="Object 0"/>
          <p:cNvGraphicFramePr/>
          <p:nvPr/>
        </p:nvGraphicFramePr>
        <p:xfrm>
          <a:off x="2133720" y="2743200"/>
          <a:ext cx="5111640" cy="368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743200"/>
                    <a:ext cx="5111640" cy="36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395280" y="476280"/>
            <a:ext cx="82296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TERAPIA ANTIDOTAL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tilizzo di agenti chelanti quali EDTA, succimer, BAL, d-penicillamin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39" name="Object 4"/>
          <p:cNvGraphicFramePr/>
          <p:nvPr/>
        </p:nvGraphicFramePr>
        <p:xfrm>
          <a:off x="826920" y="1268280"/>
          <a:ext cx="7554960" cy="510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268280"/>
                    <a:ext cx="7554960" cy="51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36"/>
          <p:cNvSpPr/>
          <p:nvPr/>
        </p:nvSpPr>
        <p:spPr>
          <a:xfrm>
            <a:off x="-2197080" y="49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228600" y="2438280"/>
          <a:ext cx="8755200" cy="3888000"/>
        </p:xfrm>
        <a:graphic>
          <a:graphicData uri="http://schemas.openxmlformats.org/drawingml/2006/table">
            <a:tbl>
              <a:tblPr/>
              <a:tblGrid>
                <a:gridCol w="2455920"/>
                <a:gridCol w="6299280"/>
              </a:tblGrid>
              <a:tr h="398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ERCURI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Hg</a:t>
                      </a:r>
                      <a:r>
                        <a:rPr b="1" lang="it-IT" sz="1600" spc="-1" strike="noStrike" baseline="-25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Cl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2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alomelano): antisifilitico, diuretico, purgativo, antisettico intestinale, oggi in disuso perché troppo tossico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HgO</a:t>
                      </a:r>
                      <a:r>
                        <a:rPr b="0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FU), ossido di mercurio giallo: antisettico in pomate e colliri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HgCl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2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sublimato corrosivo): disinfettante ferri chirurgici, in disuso poiché intacca i metalli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HgI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: antibatterico e disinfettante, oggi in disuso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mposti organici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: </a:t>
                      </a: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mercurio cromo (merbromina)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, disinfettante nelle ustioni; </a:t>
                      </a: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THIMEROSAL(sodio-etil-mercurio-tio-salicilato)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conservante e stabilizzante di preparazioni farmaceutiche; </a:t>
                      </a: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diuretici mercuriali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, agiscono a livello dei tubuli renali inattivando gli enzimi deputati al riassorbimento degli elettroliti, oggi abbandonati per marcata tossicità a livello del rene dove si accumulano selettivament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228600" y="1066680"/>
          <a:ext cx="8755200" cy="998640"/>
        </p:xfrm>
        <a:graphic>
          <a:graphicData uri="http://schemas.openxmlformats.org/drawingml/2006/table">
            <a:tbl>
              <a:tblPr/>
              <a:tblGrid>
                <a:gridCol w="2455920"/>
                <a:gridCol w="6299280"/>
              </a:tblGrid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IOMB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Pb(CH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COO)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(FU): uso esterno, astringente, antinfiammatorio, decongestionante e antidolorifico per contusioni e distorsion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PbO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in mix con acetato di Pb nelle “acque vegeto-minerali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228600" y="380880"/>
          <a:ext cx="8755200" cy="365400"/>
        </p:xfrm>
        <a:graphic>
          <a:graphicData uri="http://schemas.openxmlformats.org/drawingml/2006/table">
            <a:tbl>
              <a:tblPr/>
              <a:tblGrid>
                <a:gridCol w="2455920"/>
                <a:gridCol w="62992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METAL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COMPOSTI DI INTERESSE FARMACEUT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" name=""/>
          <p:cNvGraphicFramePr/>
          <p:nvPr/>
        </p:nvGraphicFramePr>
        <p:xfrm>
          <a:off x="152280" y="838080"/>
          <a:ext cx="8755200" cy="1754280"/>
        </p:xfrm>
        <a:graphic>
          <a:graphicData uri="http://schemas.openxmlformats.org/drawingml/2006/table">
            <a:tbl>
              <a:tblPr/>
              <a:tblGrid>
                <a:gridCol w="2455920"/>
                <a:gridCol w="6299280"/>
              </a:tblGrid>
              <a:tr h="179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RGEN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Ag colloidale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: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ntisettico per uso esterno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AgNO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1" lang="it-IT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U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: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atteriostatico, caustico (0.5-1%)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Ag proteinato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protargolo)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: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eparazione argento-proteica colloidale in acqua (0.5-2% in Ag) utilizzata come gocce nasali, auricolari e colliri quale antisettico su mucose e tessuti delicati, specie nei neonati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152280" y="2743200"/>
          <a:ext cx="8755200" cy="969840"/>
        </p:xfrm>
        <a:graphic>
          <a:graphicData uri="http://schemas.openxmlformats.org/drawingml/2006/table">
            <a:tbl>
              <a:tblPr/>
              <a:tblGrid>
                <a:gridCol w="2455920"/>
                <a:gridCol w="6299280"/>
              </a:tblGrid>
              <a:tr h="969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NTIMONI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Antimonio-potassio-tartrato o tartaro emetico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FU):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zione emetica e depressiva per </a:t>
                      </a: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s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, usato per ev nei casi di parassitosi tropicali (schistosomiasi e leishmaniosi)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152280" y="3809880"/>
          <a:ext cx="8755200" cy="2895840"/>
        </p:xfrm>
        <a:graphic>
          <a:graphicData uri="http://schemas.openxmlformats.org/drawingml/2006/table">
            <a:tbl>
              <a:tblPr/>
              <a:tblGrid>
                <a:gridCol w="2455920"/>
                <a:gridCol w="6299280"/>
              </a:tblGrid>
              <a:tr h="2998080">
                <a:tc>
                  <a:txBody>
                    <a:bodyPr lIns="90000" rIns="90000" tIns="46080" bIns="4608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ISMU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(BiO)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CO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arbonato basico di bismuto): antiacido, antigastritico  e protettivo mucos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Bi(OH)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NO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1" lang="it-IT" sz="1600" spc="-1" strike="noStrike" baseline="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.</a:t>
                      </a: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BiOOH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ismuto nitrato basico): anticolitico e disinfettante intestinale, anch’esso ha proprietà antiacide e protettive delle mucose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ntrambi i composti sono utili nell’ulcera peptica causata dall’</a:t>
                      </a: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elycobacter pylori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per l’azione antibatterica del Bi riconducibile sia all’inattivazione di enzimi sulfidrilici batterici, sia alla stimolazione indiretta della produzione di anticorpi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152280" y="304920"/>
          <a:ext cx="8755200" cy="365040"/>
        </p:xfrm>
        <a:graphic>
          <a:graphicData uri="http://schemas.openxmlformats.org/drawingml/2006/table">
            <a:tbl>
              <a:tblPr/>
              <a:tblGrid>
                <a:gridCol w="2455920"/>
                <a:gridCol w="62992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METAL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COMPOSTI DI INTERESSE FARMACEUT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Object 2048"/>
          <p:cNvGraphicFramePr/>
          <p:nvPr/>
        </p:nvGraphicFramePr>
        <p:xfrm>
          <a:off x="457200" y="2590920"/>
          <a:ext cx="8229600" cy="28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90920"/>
                    <a:ext cx="8229600" cy="28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Text Box 2051"/>
          <p:cNvSpPr/>
          <p:nvPr/>
        </p:nvSpPr>
        <p:spPr>
          <a:xfrm>
            <a:off x="762120" y="3808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66"/>
                </a:solidFill>
                <a:latin typeface="Comic Sans MS"/>
              </a:rPr>
              <a:t>MECCANISMO DELL’AZIONE ANTIACIDA E MUCOSO-PROTETTIVA DEI COMPOSTI DEL B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696960" y="4572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ARSENIC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304920" y="981000"/>
            <a:ext cx="851508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Intossicazioni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cuta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ausea, vomito, diarrea, danno ai capillari con aumento della permeabilità, disidratazione e shock mortal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ron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alterazioni cutanee (ipercheratosi), disturbi gastrointestinali, disturbi neurologici, depressione midollare, danni epatici, oliguria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Black foot diseas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sturbi circolatori periferici (gangrena) (endemica a Taiwan e in Cile, dovuta ad acqua inquinata).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380880" y="3809880"/>
            <a:ext cx="853776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MECCANISMI DELLE AZIONI TOSSICH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game ai gruppi SH di proteine ed importanti ligandi biologici (acido lipoico);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368280" y="5122800"/>
            <a:ext cx="8610480" cy="8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O</a:t>
            </a:r>
            <a:r>
              <a:rPr b="0" lang="it-IT" sz="1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-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resenta isochimismo con PO</a:t>
            </a:r>
            <a:r>
              <a:rPr b="0" lang="it-IT" sz="1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-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interferenza nella sintesi dell’ATP e sostituzione nelle catene del DNA)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027"/>
          <p:cNvSpPr/>
          <p:nvPr/>
        </p:nvSpPr>
        <p:spPr>
          <a:xfrm>
            <a:off x="3886200" y="4648320"/>
            <a:ext cx="4952880" cy="19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Comic Sans MS"/>
              </a:rPr>
              <a:t>Tutte le sostanze sono veleni: non ve n’è alcuna che non lo sia.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Comic Sans MS"/>
              </a:rPr>
              <a:t>E’ la giusta dose che differenzia un veleno da un farmaco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i="1" lang="it-IT" sz="2000" spc="-1" strike="noStrike">
                <a:solidFill>
                  <a:srgbClr val="ff0000"/>
                </a:solidFill>
                <a:latin typeface="Comic Sans MS"/>
              </a:rPr>
              <a:t>Sola dosis facit venenum”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Paracelso </a:t>
            </a:r>
            <a:r>
              <a:rPr b="1" i="1" lang="it-IT" sz="1400" spc="-1" strike="noStrike">
                <a:solidFill>
                  <a:srgbClr val="000000"/>
                </a:solidFill>
                <a:latin typeface="Comic Sans MS"/>
              </a:rPr>
              <a:t>(1493-1541)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4" name="Picture 1029" descr="Dosi"/>
          <p:cNvPicPr/>
          <p:nvPr/>
        </p:nvPicPr>
        <p:blipFill>
          <a:blip r:embed="rId1"/>
          <a:stretch/>
        </p:blipFill>
        <p:spPr>
          <a:xfrm>
            <a:off x="380880" y="228600"/>
            <a:ext cx="3353040" cy="305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5" name="Picture 1030" descr="Curva"/>
          <p:cNvPicPr/>
          <p:nvPr/>
        </p:nvPicPr>
        <p:blipFill>
          <a:blip r:embed="rId2"/>
          <a:stretch/>
        </p:blipFill>
        <p:spPr>
          <a:xfrm>
            <a:off x="4419720" y="304920"/>
            <a:ext cx="3841560" cy="419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6" name="Picture 7" descr="File:Paracelsus.jpg"/>
          <p:cNvPicPr/>
          <p:nvPr/>
        </p:nvPicPr>
        <p:blipFill>
          <a:blip r:embed="rId3"/>
          <a:stretch/>
        </p:blipFill>
        <p:spPr>
          <a:xfrm>
            <a:off x="898560" y="3562200"/>
            <a:ext cx="234792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figura%204%20II"/>
          <p:cNvPicPr/>
          <p:nvPr/>
        </p:nvPicPr>
        <p:blipFill>
          <a:blip r:embed="rId1"/>
          <a:stretch/>
        </p:blipFill>
        <p:spPr>
          <a:xfrm>
            <a:off x="228600" y="228600"/>
            <a:ext cx="3733920" cy="3429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57" name="Rectangle 4"/>
          <p:cNvSpPr/>
          <p:nvPr/>
        </p:nvSpPr>
        <p:spPr>
          <a:xfrm>
            <a:off x="4038480" y="152280"/>
            <a:ext cx="4724640" cy="38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As</a:t>
            </a:r>
            <a:r>
              <a:rPr b="0" i="1" lang="it-IT" sz="1800" spc="-1" strike="noStrike" baseline="30000">
                <a:solidFill>
                  <a:srgbClr val="ffff66"/>
                </a:solidFill>
                <a:latin typeface="Comic Sans MS"/>
                <a:ea typeface="Times New Roman"/>
              </a:rPr>
              <a:t>5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può sostituire il P pentavalente nel PO</a:t>
            </a:r>
            <a:r>
              <a:rPr b="0" lang="it-IT" sz="1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-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otto forma di AsO</a:t>
            </a:r>
            <a:r>
              <a:rPr b="0" lang="it-IT" sz="1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-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As</a:t>
            </a:r>
            <a:r>
              <a:rPr b="0" lang="it-IT" sz="1800" spc="-1" strike="noStrike" baseline="30000">
                <a:solidFill>
                  <a:srgbClr val="ffff66"/>
                </a:solidFill>
                <a:latin typeface="Comic Sans MS"/>
                <a:ea typeface="Times New Roman"/>
              </a:rPr>
              <a:t>3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accumulo (forma trivalente è anche la più tossica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MMA III, DMA II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: più citotossici, più potenti innattivatori enzimatici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metilazione in questo caso è un meccanismo metabolico di attivazione, non di detossificazione.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468360" y="4005360"/>
            <a:ext cx="838188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mutagenicità e cancerogenicità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P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vironmental Protection Agency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e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ARC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national Agency for Research on Cancer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: sufficienti evidenze di una associazione tra tumori della pelle ed esposizione all’arsenico; esposizione per via inalatoria collegata al carcinoma polmonare. L’effetto mutagenico sembra dovuto ad alterazione dei sistemi di riparazione del DNA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 sali di As sono più propriamente definiti 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genti di progressione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1371600" y="6094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66"/>
                </a:solidFill>
                <a:latin typeface="Comic Sans MS"/>
              </a:rPr>
              <a:t>CARATTERISTICHE DI UNA CELLULA NEOPLASTICA MALIGN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152280" y="2133720"/>
            <a:ext cx="8991720" cy="29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 u="sng">
                <a:solidFill>
                  <a:srgbClr val="000000"/>
                </a:solidFill>
                <a:uFillTx/>
                <a:latin typeface="Comic Sans MS"/>
              </a:rPr>
              <a:t>Proliferazione incontrollata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: incapacità di soggiacere ai fisiologici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processi di  regolazione della crescita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Perdita di funzioni cellulari specifiche: </a:t>
            </a:r>
            <a:r>
              <a:rPr b="0" lang="it-IT" sz="2200" spc="-1" strike="noStrike" u="sng">
                <a:solidFill>
                  <a:srgbClr val="000000"/>
                </a:solidFill>
                <a:uFillTx/>
                <a:latin typeface="Comic Sans MS"/>
              </a:rPr>
              <a:t>sdifferenziazione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 u="sng">
                <a:solidFill>
                  <a:srgbClr val="000000"/>
                </a:solidFill>
                <a:uFillTx/>
                <a:latin typeface="Comic Sans MS"/>
              </a:rPr>
              <a:t>Invasività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nei confronti dei tessuti adiacenti: perdita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dell’inibizione da contatto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Capacità </a:t>
            </a:r>
            <a:r>
              <a:rPr b="0" lang="it-IT" sz="2200" spc="-1" strike="noStrike" u="sng">
                <a:solidFill>
                  <a:srgbClr val="000000"/>
                </a:solidFill>
                <a:uFillTx/>
                <a:latin typeface="Comic Sans MS"/>
              </a:rPr>
              <a:t>metastatica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Object 0"/>
          <p:cNvGraphicFramePr/>
          <p:nvPr/>
        </p:nvGraphicFramePr>
        <p:xfrm>
          <a:off x="1843200" y="573120"/>
          <a:ext cx="6041880" cy="52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3200" y="573120"/>
                    <a:ext cx="604188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5"/>
          <p:cNvSpPr/>
          <p:nvPr/>
        </p:nvSpPr>
        <p:spPr>
          <a:xfrm>
            <a:off x="2012040" y="548280"/>
            <a:ext cx="508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66"/>
                </a:solidFill>
                <a:latin typeface="Comic Sans MS"/>
              </a:rPr>
              <a:t>LEUCEMIA PROMIELOCITICA ACUTA (APL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4" name="Picture 6" descr="terapia2"/>
          <p:cNvPicPr/>
          <p:nvPr/>
        </p:nvPicPr>
        <p:blipFill>
          <a:blip r:embed="rId1"/>
          <a:stretch/>
        </p:blipFill>
        <p:spPr>
          <a:xfrm>
            <a:off x="2104920" y="1268280"/>
            <a:ext cx="4915080" cy="244800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7"/>
          <p:cNvSpPr/>
          <p:nvPr/>
        </p:nvSpPr>
        <p:spPr>
          <a:xfrm>
            <a:off x="684360" y="3860640"/>
            <a:ext cx="784836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TRASLOCAZIONE CROMOSOMICA 15-17</a:t>
            </a:r>
            <a:r>
              <a:rPr b="1" lang="it-IT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 FUSIONE DEL GENE PER IL RECETTORE  DELL’ACIDO RETINOICO (</a:t>
            </a:r>
            <a:r>
              <a:rPr b="1" i="1" lang="it-IT" sz="1400" spc="-1" strike="noStrike">
                <a:solidFill>
                  <a:srgbClr val="ff0000"/>
                </a:solidFill>
                <a:latin typeface="Comic Sans MS"/>
              </a:rPr>
              <a:t>RAR</a:t>
            </a:r>
            <a:r>
              <a:rPr b="1" i="1" lang="it-IT" sz="1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) E IL GENE </a:t>
            </a:r>
            <a:r>
              <a:rPr b="1" lang="it-IT" sz="1400" spc="-1" strike="noStrike">
                <a:solidFill>
                  <a:srgbClr val="ff0000"/>
                </a:solidFill>
                <a:latin typeface="Comic Sans MS"/>
              </a:rPr>
              <a:t>PML</a:t>
            </a:r>
            <a:r>
              <a:rPr b="1" lang="it-IT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 SINTESI DI UNA NUOVA PROTEINA CHIMERICA </a:t>
            </a:r>
            <a:r>
              <a:rPr b="1" lang="it-IT" sz="1400" spc="-1" strike="noStrike">
                <a:solidFill>
                  <a:srgbClr val="ff0000"/>
                </a:solidFill>
                <a:latin typeface="Comic Sans MS"/>
              </a:rPr>
              <a:t>PML/RAR</a:t>
            </a:r>
            <a:r>
              <a:rPr b="1" lang="it-IT" sz="1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 INIBENTE LA DIFFERENZIAZIONE CELLULARE E L’APOPTOSI.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685800" y="4875840"/>
            <a:ext cx="77756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2. TERAPIA: TRATTAMENTO CON ACIDO RETINOICO (</a:t>
            </a:r>
            <a:r>
              <a:rPr b="1" lang="it-IT" sz="1400" spc="-1" strike="noStrike">
                <a:solidFill>
                  <a:srgbClr val="ffff66"/>
                </a:solidFill>
                <a:latin typeface="Comic Sans MS"/>
              </a:rPr>
              <a:t>RA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it-IT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 PROBLEMI: TOSSICITA’ E RICADUTE PER INSORGENZA RESISTENZA.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684360" y="5274000"/>
            <a:ext cx="78310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3. FDA NEL 2000 APPROVA L’USO </a:t>
            </a:r>
            <a:r>
              <a:rPr b="1" lang="it-IT" sz="1400" spc="-1" strike="noStrike">
                <a:solidFill>
                  <a:srgbClr val="ffff66"/>
                </a:solidFill>
                <a:latin typeface="Comic Sans MS"/>
              </a:rPr>
              <a:t>As</a:t>
            </a:r>
            <a:r>
              <a:rPr b="1" lang="it-IT" sz="14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1" lang="it-IT" sz="1400" spc="-1" strike="noStrike">
                <a:solidFill>
                  <a:srgbClr val="ffff66"/>
                </a:solidFill>
                <a:latin typeface="Comic Sans MS"/>
              </a:rPr>
              <a:t>O</a:t>
            </a:r>
            <a:r>
              <a:rPr b="1" lang="it-IT" sz="1400" spc="-1" strike="noStrike" baseline="-25000">
                <a:solidFill>
                  <a:srgbClr val="ffff66"/>
                </a:solidFill>
                <a:latin typeface="Comic Sans MS"/>
              </a:rPr>
              <a:t>3</a:t>
            </a:r>
            <a:r>
              <a:rPr b="1" lang="it-IT" sz="1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 NELLA </a:t>
            </a:r>
            <a:r>
              <a:rPr b="1" i="1" lang="it-IT" sz="1400" spc="-1" strike="noStrike">
                <a:solidFill>
                  <a:srgbClr val="000000"/>
                </a:solidFill>
                <a:latin typeface="Comic Sans MS"/>
              </a:rPr>
              <a:t>APL-RA RESISTANT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" name="Rectangle 11"/>
          <p:cNvSpPr/>
          <p:nvPr/>
        </p:nvSpPr>
        <p:spPr>
          <a:xfrm>
            <a:off x="684360" y="5826600"/>
            <a:ext cx="81356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4. TRISENOX INJECTION</a:t>
            </a:r>
            <a:r>
              <a:rPr b="1" lang="it-IT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 EFFETTI COLLATERALI: LEUCOCITOSI, NAUSEA, VOMITO, EDEMA, FLUTTERS ATRIALI, BLOCCHI ATRIOVENTRICOLARI.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6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570200" cy="1666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70" name="Picture 7" descr=""/>
          <p:cNvPicPr/>
          <p:nvPr/>
        </p:nvPicPr>
        <p:blipFill>
          <a:blip r:embed="rId2"/>
          <a:stretch/>
        </p:blipFill>
        <p:spPr>
          <a:xfrm>
            <a:off x="4140360" y="1916280"/>
            <a:ext cx="4752720" cy="4668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71" name="Text Box 8"/>
          <p:cNvSpPr/>
          <p:nvPr/>
        </p:nvSpPr>
        <p:spPr>
          <a:xfrm>
            <a:off x="447840" y="20098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-36360" y="2013120"/>
            <a:ext cx="43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Nature Reviews Cancer 2002, 2, 1-9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3" name="Oval 18"/>
          <p:cNvSpPr/>
          <p:nvPr/>
        </p:nvSpPr>
        <p:spPr>
          <a:xfrm>
            <a:off x="324000" y="549360"/>
            <a:ext cx="4392360" cy="107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4" name="Oval 19"/>
          <p:cNvSpPr/>
          <p:nvPr/>
        </p:nvSpPr>
        <p:spPr>
          <a:xfrm>
            <a:off x="179280" y="620640"/>
            <a:ext cx="4608720" cy="1079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5" name="Oval 20"/>
          <p:cNvSpPr/>
          <p:nvPr/>
        </p:nvSpPr>
        <p:spPr>
          <a:xfrm>
            <a:off x="611280" y="549360"/>
            <a:ext cx="4537080" cy="1295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6" name="AutoShape 23"/>
          <p:cNvSpPr/>
          <p:nvPr/>
        </p:nvSpPr>
        <p:spPr>
          <a:xfrm>
            <a:off x="5292720" y="1773360"/>
            <a:ext cx="71280" cy="1439640"/>
          </a:xfrm>
          <a:prstGeom prst="downArrow">
            <a:avLst>
              <a:gd name="adj1" fmla="val 50000"/>
              <a:gd name="adj2" fmla="val 50492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7" name="Line 26"/>
          <p:cNvSpPr/>
          <p:nvPr/>
        </p:nvSpPr>
        <p:spPr>
          <a:xfrm>
            <a:off x="5796000" y="2708280"/>
            <a:ext cx="576360" cy="790560"/>
          </a:xfrm>
          <a:prstGeom prst="line">
            <a:avLst/>
          </a:prstGeom>
          <a:ln w="316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8" name="Oval 27"/>
          <p:cNvSpPr/>
          <p:nvPr/>
        </p:nvSpPr>
        <p:spPr>
          <a:xfrm>
            <a:off x="1547640" y="4653000"/>
            <a:ext cx="50328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9" name="Oval 28"/>
          <p:cNvSpPr/>
          <p:nvPr/>
        </p:nvSpPr>
        <p:spPr>
          <a:xfrm>
            <a:off x="1476360" y="5084640"/>
            <a:ext cx="43164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0" name="Oval 29"/>
          <p:cNvSpPr/>
          <p:nvPr/>
        </p:nvSpPr>
        <p:spPr>
          <a:xfrm>
            <a:off x="6300720" y="3500280"/>
            <a:ext cx="503280" cy="289080"/>
          </a:xfrm>
          <a:prstGeom prst="ellipse">
            <a:avLst/>
          </a:prstGeom>
          <a:noFill/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4545000" y="2216160"/>
            <a:ext cx="4419720" cy="1986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2" name="Picture 3" descr=""/>
          <p:cNvPicPr/>
          <p:nvPr/>
        </p:nvPicPr>
        <p:blipFill>
          <a:blip r:embed="rId2"/>
          <a:stretch/>
        </p:blipFill>
        <p:spPr>
          <a:xfrm>
            <a:off x="195120" y="355680"/>
            <a:ext cx="5321520" cy="215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3" name="Text Box 4"/>
          <p:cNvSpPr/>
          <p:nvPr/>
        </p:nvSpPr>
        <p:spPr>
          <a:xfrm>
            <a:off x="0" y="4191120"/>
            <a:ext cx="8991720" cy="15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omic Sans MS"/>
              </a:rPr>
              <a:t>HAT: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enzima che, acetilando il gruppo amminico protonato a pH fisiologico (NH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 dei residui di lisina delle proteine istoniche, ne neutralizza la carica positiva e ne impedisce l’interazione elettrostatica con lo scheletro dei fosfati del DNA, mediando in tal modo il rilassamento della cromatina (la “collana di perle si svolge”: 1 “perla” = 1 nucleosoma = 8 istoni + 146 paia di nucleotidi ) e la conseguente trascrizione dei geni in essa localizzati, divenuti meccanicamente/fisicamente accessibili alla RNA polimerasi ed ai fattori di trascrizion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0" y="5545080"/>
            <a:ext cx="883908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omic Sans MS"/>
              </a:rPr>
              <a:t>HDAC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enzima Zn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dipendente che, deacetilando gli istoni, ripristina le cariche positive sui residui di lisina e consente le interazioni elettrostatiche tra gli istoni ed il DNA (che è un polianione per la presenza dei fosfati), determinando compattazione della cromatina (la “collana di perle si aggroviglia” su sé stessa) e la conseguente repressione trascrizionale dei geni in essa localizzati, divenuti fisicamente/meccanicamente inaccessibili agli enzimi polimerasici ed alle altre proteine di trascrizione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5"/>
          <p:cNvSpPr/>
          <p:nvPr/>
        </p:nvSpPr>
        <p:spPr>
          <a:xfrm>
            <a:off x="755640" y="4046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STAGN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1488600" y="835920"/>
            <a:ext cx="652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Elemento microessenziale (fabbisogno medio giornaliero 2mg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423720" y="1246680"/>
            <a:ext cx="558828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RUOLO BIOLOGICO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coppia redox Sn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Sn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4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sembra interagire con la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riboflavin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vitamina B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e quindi con flavoenzimi ossidoriduttivi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8" name="Rectangle 9"/>
          <p:cNvSpPr/>
          <p:nvPr/>
        </p:nvSpPr>
        <p:spPr>
          <a:xfrm>
            <a:off x="380880" y="2357640"/>
            <a:ext cx="626292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Intossicazion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acut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encefalopatia ed edema cerebrale (Francia: ingestione di un preparato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Stalinon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contenente dietilstagno diioduro per trattamento di infezioni cutanee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cron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mal di testa, disturbi visivi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9" name="Rectangle 14"/>
          <p:cNvSpPr/>
          <p:nvPr/>
        </p:nvSpPr>
        <p:spPr>
          <a:xfrm>
            <a:off x="380880" y="426780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CCANISMO DELL’AZIONE TOSSICA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ttività disaccoppiante la fosforilazione ossidativa nei mitocondri e inibizione della respirazione cellular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0" name="Rectangle 16"/>
          <p:cNvSpPr/>
          <p:nvPr/>
        </p:nvSpPr>
        <p:spPr>
          <a:xfrm>
            <a:off x="380880" y="5382360"/>
            <a:ext cx="853308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COMPOSTI DI INTERESSE FARMACEUTICO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Sn metallic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antiacne e antiforuncolitico in dermatologi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SnO</a:t>
            </a:r>
            <a:r>
              <a:rPr b="0" lang="it-IT" sz="1800" spc="-1" strike="noStrike" baseline="-30000">
                <a:solidFill>
                  <a:srgbClr val="ff3300"/>
                </a:solidFill>
                <a:latin typeface="Comic Sans MS"/>
                <a:ea typeface="Times New Roman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antiacne per uso esterno e per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s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ntro infezioni intestinali da stafilococco (non è assorbito quindi azione antisettica locale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91" name="Object 0"/>
          <p:cNvGraphicFramePr/>
          <p:nvPr/>
        </p:nvGraphicFramePr>
        <p:xfrm>
          <a:off x="6372360" y="1390680"/>
          <a:ext cx="2076480" cy="25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1390680"/>
                    <a:ext cx="207648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3"/>
          <p:cNvSpPr/>
          <p:nvPr/>
        </p:nvSpPr>
        <p:spPr>
          <a:xfrm>
            <a:off x="4047120" y="475200"/>
            <a:ext cx="10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RAM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395280" y="1651680"/>
            <a:ext cx="83534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ATTIVITA’ BIOLOG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è cofattore in molti sistemi enzimatici redox quali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itocromi C reduttasi ed ossidas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enzimi della catena respiratoria cellular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1044720" y="980280"/>
            <a:ext cx="75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ligoelemento essenziale e stimolatorio (dose media giornaliera 2-6-mg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96" name="Picture 8" descr="citocromoC"/>
          <p:cNvPicPr/>
          <p:nvPr/>
        </p:nvPicPr>
        <p:blipFill>
          <a:blip r:embed="rId1"/>
          <a:stretch/>
        </p:blipFill>
        <p:spPr>
          <a:xfrm>
            <a:off x="755640" y="2708280"/>
            <a:ext cx="2933640" cy="336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7" name="Picture 9" descr="rame"/>
          <p:cNvPicPr/>
          <p:nvPr/>
        </p:nvPicPr>
        <p:blipFill>
          <a:blip r:embed="rId2"/>
          <a:stretch/>
        </p:blipFill>
        <p:spPr>
          <a:xfrm>
            <a:off x="4419720" y="2989440"/>
            <a:ext cx="3752640" cy="195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8" name="Text Box 10"/>
          <p:cNvSpPr/>
          <p:nvPr/>
        </p:nvSpPr>
        <p:spPr>
          <a:xfrm>
            <a:off x="755640" y="6165720"/>
            <a:ext cx="287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ff0000"/>
                </a:solidFill>
                <a:latin typeface="Comic Sans MS"/>
              </a:rPr>
              <a:t>Struttura tridimensionale del citocromo 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9" name="Text Box 11"/>
          <p:cNvSpPr/>
          <p:nvPr/>
        </p:nvSpPr>
        <p:spPr>
          <a:xfrm>
            <a:off x="4643280" y="5084640"/>
            <a:ext cx="338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ff0000"/>
                </a:solidFill>
                <a:latin typeface="Comic Sans MS"/>
              </a:rPr>
              <a:t>Ciclo di reazioni catalizzate dalla citocromo ossidasi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5"/>
          <p:cNvSpPr/>
          <p:nvPr/>
        </p:nvSpPr>
        <p:spPr>
          <a:xfrm>
            <a:off x="395280" y="258840"/>
            <a:ext cx="8496360" cy="25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6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lisino-ossidas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enzima che controlla l’elasticità delle pareti aortich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6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tirosinas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enzima necessario per la pigmentazione della pell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6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rame-ossidas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enzima che interviene nella sintesi del collagen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6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superossido-dismutasi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SOD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enzima  contenente 2 atomi di Cu e 2 di Zn (ossidoriduttivamente inattivi), che decompone radicali idroperossido  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-O</a:t>
            </a:r>
            <a:r>
              <a:rPr b="1" lang="it-IT" sz="16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ggendo le cellule da stress ossidativo.</a:t>
            </a:r>
            <a:r>
              <a:rPr b="0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301" name="Object 0"/>
          <p:cNvGraphicFramePr/>
          <p:nvPr/>
        </p:nvGraphicFramePr>
        <p:xfrm>
          <a:off x="2209680" y="2971800"/>
          <a:ext cx="4802400" cy="351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971800"/>
                    <a:ext cx="48024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5"/>
          <p:cNvSpPr/>
          <p:nvPr/>
        </p:nvSpPr>
        <p:spPr>
          <a:xfrm>
            <a:off x="819000" y="969840"/>
            <a:ext cx="779004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è una malattia ereditaria caratterizzata da un accumulo di rame in vari tessuti ed in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particolare nel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fegato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dove determina </a:t>
            </a:r>
            <a:r>
              <a:rPr b="0" i="1" lang="it-IT" sz="1600" spc="-1" strike="noStrike">
                <a:solidFill>
                  <a:srgbClr val="cc0000"/>
                </a:solidFill>
                <a:latin typeface="Comic Sans MS"/>
              </a:rPr>
              <a:t>cirrosi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, nel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sistema nervoso centrale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 dove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provoca </a:t>
            </a:r>
            <a:r>
              <a:rPr b="0" i="1" lang="it-IT" sz="1600" spc="-1" strike="noStrike">
                <a:solidFill>
                  <a:srgbClr val="cc0000"/>
                </a:solidFill>
                <a:latin typeface="Comic Sans MS"/>
              </a:rPr>
              <a:t>alterazioni neurologiche e psichiche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, a livello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oculare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 dove può provocare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cc0000"/>
                </a:solidFill>
                <a:latin typeface="Comic Sans MS"/>
              </a:rPr>
              <a:t>lesioni del cristallino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, nel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rene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dove determina </a:t>
            </a:r>
            <a:r>
              <a:rPr b="0" i="1" lang="it-IT" sz="1600" spc="-1" strike="noStrike">
                <a:solidFill>
                  <a:srgbClr val="cc0000"/>
                </a:solidFill>
                <a:latin typeface="Comic Sans MS"/>
              </a:rPr>
              <a:t>lesioni tubulari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4" name="AutoShape 6"/>
          <p:cNvSpPr/>
          <p:nvPr/>
        </p:nvSpPr>
        <p:spPr>
          <a:xfrm>
            <a:off x="1104840" y="479916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5" name="AutoShape 8"/>
          <p:cNvSpPr/>
          <p:nvPr/>
        </p:nvSpPr>
        <p:spPr>
          <a:xfrm>
            <a:off x="938160" y="4964040"/>
            <a:ext cx="1293840" cy="1139760"/>
          </a:xfrm>
          <a:custGeom>
            <a:avLst/>
            <a:gdLst/>
            <a:ahLst/>
            <a:rect l="l" t="t" r="r" b="b"/>
            <a:pathLst>
              <a:path w="1293812" h="1139825">
                <a:moveTo>
                  <a:pt x="1" y="435373"/>
                </a:moveTo>
                <a:lnTo>
                  <a:pt x="494195" y="435376"/>
                </a:lnTo>
                <a:lnTo>
                  <a:pt x="646906" y="0"/>
                </a:lnTo>
                <a:lnTo>
                  <a:pt x="799617" y="435376"/>
                </a:lnTo>
                <a:lnTo>
                  <a:pt x="1293811" y="435373"/>
                </a:lnTo>
                <a:lnTo>
                  <a:pt x="893998" y="704448"/>
                </a:lnTo>
                <a:lnTo>
                  <a:pt x="1046715" y="1139822"/>
                </a:lnTo>
                <a:lnTo>
                  <a:pt x="646906" y="870743"/>
                </a:lnTo>
                <a:lnTo>
                  <a:pt x="247097" y="1139822"/>
                </a:lnTo>
                <a:lnTo>
                  <a:pt x="399814" y="704448"/>
                </a:lnTo>
                <a:lnTo>
                  <a:pt x="1" y="43537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414360" y="1432080"/>
            <a:ext cx="214200" cy="284040"/>
          </a:xfrm>
          <a:custGeom>
            <a:avLst/>
            <a:gdLst>
              <a:gd name="textAreaLeft" fmla="*/ 33480 w 214200"/>
              <a:gd name="textAreaRight" fmla="*/ 187560 w 214200"/>
              <a:gd name="textAreaTop" fmla="*/ 70920 h 284040"/>
              <a:gd name="textAreaBottom" fmla="*/ 213120 h 2840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7" name="AutoShape 10"/>
          <p:cNvSpPr/>
          <p:nvPr/>
        </p:nvSpPr>
        <p:spPr>
          <a:xfrm>
            <a:off x="419040" y="3303720"/>
            <a:ext cx="214200" cy="284040"/>
          </a:xfrm>
          <a:custGeom>
            <a:avLst/>
            <a:gdLst>
              <a:gd name="textAreaLeft" fmla="*/ 33480 w 214200"/>
              <a:gd name="textAreaRight" fmla="*/ 187560 w 214200"/>
              <a:gd name="textAreaTop" fmla="*/ 70920 h 284040"/>
              <a:gd name="textAreaBottom" fmla="*/ 213120 h 2840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764640" y="3281400"/>
            <a:ext cx="5903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La malattia è trasmessa con meccanismo autosomico recessiv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AutoShape 13"/>
          <p:cNvSpPr/>
          <p:nvPr/>
        </p:nvSpPr>
        <p:spPr>
          <a:xfrm>
            <a:off x="423720" y="4230720"/>
            <a:ext cx="214560" cy="284040"/>
          </a:xfrm>
          <a:custGeom>
            <a:avLst/>
            <a:gdLst>
              <a:gd name="textAreaLeft" fmla="*/ 33480 w 214560"/>
              <a:gd name="textAreaRight" fmla="*/ 187920 w 214560"/>
              <a:gd name="textAreaTop" fmla="*/ 70920 h 284040"/>
              <a:gd name="textAreaBottom" fmla="*/ 213120 h 2840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860400" y="4230720"/>
            <a:ext cx="7755120" cy="16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Il fattore più importante che regola l’ omeostasi del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rame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 è l’  escrezione biliare: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l’  alterazione strutturale della proteina responsabile del morbo di Wilson comporta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la mancata escrezione e quindi il progressivo accumulo del metallo all’ interno degli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epatociti che va incontro a necrosi. Alla morte dell’ epatocita consegue l’ immissione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in circolo del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rame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e quindi l’ estensione del danno ad altri organi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1" name="Text Box 15"/>
          <p:cNvSpPr/>
          <p:nvPr/>
        </p:nvSpPr>
        <p:spPr>
          <a:xfrm>
            <a:off x="988920" y="33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Text Box 17"/>
          <p:cNvSpPr/>
          <p:nvPr/>
        </p:nvSpPr>
        <p:spPr>
          <a:xfrm>
            <a:off x="707400" y="668160"/>
            <a:ext cx="24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3300"/>
                </a:solidFill>
                <a:latin typeface="Comic Sans MS"/>
              </a:rPr>
              <a:t>Morbo di Wilson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380880" y="2057400"/>
            <a:ext cx="815364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66"/>
                </a:solidFill>
                <a:latin typeface="Comic Sans MS"/>
              </a:rPr>
              <a:t>Indice terapeutico (IT)</a:t>
            </a:r>
            <a:r>
              <a:rPr b="1" i="1" lang="it-IT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rapporto tra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dose tossica mediana,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in grado di provocare nel 50% degli individui l’effetto tossico, e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dose efficac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mediana,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in grado di indurre nel 50% degli individui uno specifico effetto (</a:t>
            </a:r>
            <a:r>
              <a:rPr b="1" i="1" lang="it-IT" sz="2000" spc="-1" strike="noStrike">
                <a:solidFill>
                  <a:srgbClr val="ffff66"/>
                </a:solidFill>
                <a:latin typeface="Comic Sans MS"/>
              </a:rPr>
              <a:t>DT</a:t>
            </a:r>
            <a:r>
              <a:rPr b="1" i="1" lang="it-IT" sz="2000" spc="-1" strike="noStrike" baseline="-25000">
                <a:solidFill>
                  <a:srgbClr val="ffff66"/>
                </a:solidFill>
                <a:latin typeface="Comic Sans MS"/>
              </a:rPr>
              <a:t>50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i="1" lang="it-IT" sz="2000" spc="-1" strike="noStrike">
                <a:solidFill>
                  <a:srgbClr val="ffff66"/>
                </a:solidFill>
                <a:latin typeface="Comic Sans MS"/>
              </a:rPr>
              <a:t>/DE</a:t>
            </a:r>
            <a:r>
              <a:rPr b="1" i="1" lang="it-IT" sz="2000" spc="-1" strike="noStrike" baseline="-25000">
                <a:solidFill>
                  <a:srgbClr val="ffff66"/>
                </a:solidFill>
                <a:latin typeface="Comic Sans MS"/>
              </a:rPr>
              <a:t>50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98" name="Object 9"/>
          <p:cNvGraphicFramePr/>
          <p:nvPr/>
        </p:nvGraphicFramePr>
        <p:xfrm>
          <a:off x="2514600" y="3962520"/>
          <a:ext cx="3990960" cy="26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962520"/>
                    <a:ext cx="399096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Text Box 10"/>
          <p:cNvSpPr/>
          <p:nvPr/>
        </p:nvSpPr>
        <p:spPr>
          <a:xfrm>
            <a:off x="457200" y="228600"/>
            <a:ext cx="7970760" cy="143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Non esiste una precisa definizione di veleno/tossico ed in definitiva si può sostenere che non esistono veleni in senso assoluto, ma soltanto avvelenamenti o intossicazioni e </a:t>
            </a:r>
            <a:r>
              <a:rPr b="0" lang="it-IT" sz="2200" spc="-1" strike="noStrike" u="sng">
                <a:solidFill>
                  <a:srgbClr val="ff0000"/>
                </a:solidFill>
                <a:uFillTx/>
                <a:latin typeface="Comic Sans MS"/>
              </a:rPr>
              <a:t>sostanze più o meno pericolose per l’uomo</a:t>
            </a: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-14400" y="2286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FERRO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4" name="Rectangle 11"/>
          <p:cNvSpPr/>
          <p:nvPr/>
        </p:nvSpPr>
        <p:spPr>
          <a:xfrm>
            <a:off x="566640" y="134136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ATTIVITA’ BIOLOG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il Fe è il componente inorganico di molte proteine:</a:t>
            </a:r>
            <a:r>
              <a:rPr b="0" lang="it-IT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5" name="Rectangle 12"/>
          <p:cNvSpPr/>
          <p:nvPr/>
        </p:nvSpPr>
        <p:spPr>
          <a:xfrm>
            <a:off x="395280" y="1989000"/>
            <a:ext cx="8604360" cy="14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moglobin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Hb), l’Hb è la metalloproteina trasportatrice dell’O</a:t>
            </a:r>
            <a:r>
              <a:rPr b="0" lang="it-IT" sz="1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ai polmoni ai vari tessuti; è costituita da una porzione proteica (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globin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e da una parte non proteica o prostetica l’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EM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formato da una struttura organica tetraazotata, la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oporfirina IX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e dallo ione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e</a:t>
            </a:r>
            <a:r>
              <a:rPr b="0" i="1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16" name="Picture 15" descr="emoglobina"/>
          <p:cNvPicPr/>
          <p:nvPr/>
        </p:nvPicPr>
        <p:blipFill>
          <a:blip r:embed="rId1"/>
          <a:stretch/>
        </p:blipFill>
        <p:spPr>
          <a:xfrm>
            <a:off x="5076720" y="3213000"/>
            <a:ext cx="3894120" cy="2967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7" name="Object 16"/>
          <p:cNvGraphicFramePr/>
          <p:nvPr/>
        </p:nvGraphicFramePr>
        <p:xfrm>
          <a:off x="612720" y="3564000"/>
          <a:ext cx="4030560" cy="260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8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2720" y="3564000"/>
                    <a:ext cx="4030560" cy="26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Rectangle 17"/>
          <p:cNvSpPr/>
          <p:nvPr/>
        </p:nvSpPr>
        <p:spPr>
          <a:xfrm>
            <a:off x="250920" y="7650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ligoelemento essenziale (dose giornaliera media: 5-15 mg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051"/>
          <p:cNvSpPr/>
          <p:nvPr/>
        </p:nvSpPr>
        <p:spPr>
          <a:xfrm>
            <a:off x="1143000" y="1219320"/>
            <a:ext cx="533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21" name="Group 2053"/>
          <p:cNvGrpSpPr/>
          <p:nvPr/>
        </p:nvGrpSpPr>
        <p:grpSpPr>
          <a:xfrm>
            <a:off x="838080" y="1143000"/>
            <a:ext cx="7467480" cy="5181120"/>
            <a:chOff x="838080" y="1143000"/>
            <a:chExt cx="7467480" cy="5181120"/>
          </a:xfrm>
        </p:grpSpPr>
        <p:pic>
          <p:nvPicPr>
            <p:cNvPr id="322" name="Picture 2050" descr="eme"/>
            <p:cNvPicPr/>
            <p:nvPr/>
          </p:nvPicPr>
          <p:blipFill>
            <a:blip r:embed="rId1"/>
            <a:stretch/>
          </p:blipFill>
          <p:spPr>
            <a:xfrm>
              <a:off x="841320" y="1143000"/>
              <a:ext cx="7460640" cy="51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Rectangle 2052"/>
            <p:cNvSpPr/>
            <p:nvPr/>
          </p:nvSpPr>
          <p:spPr>
            <a:xfrm>
              <a:off x="838080" y="1157760"/>
              <a:ext cx="7467480" cy="5153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24" name="Text Box 2054"/>
          <p:cNvSpPr/>
          <p:nvPr/>
        </p:nvSpPr>
        <p:spPr>
          <a:xfrm>
            <a:off x="2057400" y="4572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66"/>
                </a:solidFill>
                <a:latin typeface="Comic Sans MS"/>
              </a:rPr>
              <a:t>STRUTTURA DELL’EM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380880" y="836640"/>
            <a:ext cx="830592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l Fe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è impegnato in 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egami di coordinazione: 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ono planari con i 4 atomi di N dell’anello tetrapirrolico della porfirina, il 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°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egame è con l’atomo di N dell’istidina della globina mentre il 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°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egame è con la molecola di O</a:t>
            </a:r>
            <a:r>
              <a:rPr b="0" lang="it-IT" sz="1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26" name="Picture 3" descr="emoglobina-fe"/>
          <p:cNvPicPr/>
          <p:nvPr/>
        </p:nvPicPr>
        <p:blipFill>
          <a:blip r:embed="rId1"/>
          <a:stretch/>
        </p:blipFill>
        <p:spPr>
          <a:xfrm>
            <a:off x="4930920" y="1752480"/>
            <a:ext cx="4213080" cy="410364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5"/>
          <p:cNvSpPr/>
          <p:nvPr/>
        </p:nvSpPr>
        <p:spPr>
          <a:xfrm>
            <a:off x="380880" y="2276640"/>
            <a:ext cx="4724640" cy="41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 + Fe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 O</a:t>
            </a:r>
            <a:r>
              <a:rPr b="0" lang="it-IT" sz="1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ossiemoglobin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impartisce colore rosso vivo ai globuli rossi che la contengono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 + Fe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+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impartisce colore rosso scuro ai globuli rossi che la contengono)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ossiemoglobin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 + Fe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 CO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arbossiemoglobina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olore rosso ciliegia, O</a:t>
            </a:r>
            <a:r>
              <a:rPr b="0" lang="it-IT" sz="1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n viene trasportato: morte  per  anossia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 + Fe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 CN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ianoemoglobin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colore grigiastro e inattiva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 + Fe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+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metaemoglobina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di colore rosso-marrone perde la capacità di trasportare l’O</a:t>
            </a:r>
            <a:r>
              <a:rPr b="0" lang="it-IT" sz="1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i tessuti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5"/>
          <p:cNvSpPr/>
          <p:nvPr/>
        </p:nvSpPr>
        <p:spPr>
          <a:xfrm>
            <a:off x="380880" y="533520"/>
            <a:ext cx="8229600" cy="9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i="1" lang="it-IT" sz="1600" spc="-1" strike="noStrike">
                <a:solidFill>
                  <a:srgbClr val="ff0000"/>
                </a:solidFill>
                <a:latin typeface="Comic Sans MS"/>
              </a:rPr>
              <a:t>mioglobin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Mb), proteina che lega l’O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nei tessuti muscolar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it-IT" sz="1600" spc="-1" strike="noStrike">
                <a:solidFill>
                  <a:srgbClr val="ff0000"/>
                </a:solidFill>
                <a:latin typeface="Comic Sans MS"/>
              </a:rPr>
              <a:t>citocromi e flavoprotein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, enzimi della catena respiratoria che contengono gruppi EM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9" name="Rectangle 12"/>
          <p:cNvSpPr/>
          <p:nvPr/>
        </p:nvSpPr>
        <p:spPr>
          <a:xfrm>
            <a:off x="380880" y="1600200"/>
            <a:ext cx="8458200" cy="9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INTOSSICAZIONE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acut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dovuta all’ingestione accidentale di farmaci contenenti Fe, si manifesta con vomito, acidosi metabolica, danno epatico ed alterazioni della coagulazion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0" name="Rectangle 13"/>
          <p:cNvSpPr/>
          <p:nvPr/>
        </p:nvSpPr>
        <p:spPr>
          <a:xfrm>
            <a:off x="380880" y="2514600"/>
            <a:ext cx="842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ron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effetti del sovraccarico di Fe a livello di fegato, milza, cuore e pancreas con alterazione della funzionalità di questi organi.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1" name="Rectangle 14"/>
          <p:cNvSpPr/>
          <p:nvPr/>
        </p:nvSpPr>
        <p:spPr>
          <a:xfrm>
            <a:off x="380880" y="3124080"/>
            <a:ext cx="822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ERAPI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induzione del vomito, lavanda gastrica con soluzioni di fosfato o carbonato, somministrazione di un chelante come la desferossamina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2" name="Rectangle 15"/>
          <p:cNvSpPr/>
          <p:nvPr/>
        </p:nvSpPr>
        <p:spPr>
          <a:xfrm>
            <a:off x="380880" y="3886200"/>
            <a:ext cx="8610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CARENZA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anemia microcitica ipocromica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omune nei neonati prematuri, donne in gravidanza, in caso di perdite ematiche); la terapia consiste nella somministrazione orale  o intramuscolare di composti a base di Fe quali reintegratori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3" name="Rectangle 16"/>
          <p:cNvSpPr/>
          <p:nvPr/>
        </p:nvSpPr>
        <p:spPr>
          <a:xfrm>
            <a:off x="380880" y="4724280"/>
            <a:ext cx="845820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POSTI DI INTERESSE FARMACEUTICO 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FeSO</a:t>
            </a:r>
            <a:r>
              <a:rPr b="1" lang="it-IT" sz="1600" spc="-1" strike="noStrike" baseline="-30000">
                <a:solidFill>
                  <a:srgbClr val="ff0000"/>
                </a:solidFill>
                <a:latin typeface="Comic Sans MS"/>
                <a:ea typeface="Times New Roman"/>
              </a:rPr>
              <a:t>4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1" lang="it-IT" sz="16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.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7 H</a:t>
            </a:r>
            <a:r>
              <a:rPr b="1" lang="it-IT" sz="1600" spc="-1" strike="noStrike" baseline="-30000">
                <a:solidFill>
                  <a:srgbClr val="ff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O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FeCO</a:t>
            </a:r>
            <a:r>
              <a:rPr b="1" lang="it-IT" sz="1600" spc="-1" strike="noStrike" baseline="-30000">
                <a:solidFill>
                  <a:srgbClr val="ff0000"/>
                </a:solidFill>
                <a:latin typeface="Comic Sans MS"/>
                <a:ea typeface="Times New Roman"/>
              </a:rPr>
              <a:t>3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tianemici, tonici, ricostituenti ed emetici ad alte concentrazioni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Fumarat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gluconat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itrato ferros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come i sali inorganici ma meno irritant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FeCl</a:t>
            </a:r>
            <a:r>
              <a:rPr b="1" lang="it-IT" sz="1600" spc="-1" strike="noStrike" baseline="-30000">
                <a:solidFill>
                  <a:srgbClr val="ff0000"/>
                </a:solidFill>
                <a:latin typeface="Comic Sans MS"/>
                <a:ea typeface="Times New Roman"/>
              </a:rPr>
              <a:t>3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emostatico (provoca la precipitazione delle proteine, usato nel cotone emostatico); irritante, drasticamente emetico e tossico se somministrato per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s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a</a:t>
            </a:r>
            <a:r>
              <a:rPr b="1" lang="it-IT" sz="16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[Fe(CN)</a:t>
            </a:r>
            <a:r>
              <a:rPr b="1" lang="it-IT" sz="16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5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]</a:t>
            </a:r>
            <a:r>
              <a:rPr b="0" lang="it-IT" sz="1600" spc="-1" strike="noStrike">
                <a:solidFill>
                  <a:srgbClr val="010000"/>
                </a:solidFill>
                <a:latin typeface="Comic Sans MS"/>
                <a:ea typeface="Times New Roman"/>
              </a:rPr>
              <a:t>,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itroprussiato sodico: potente agente ipotensivo per azione vasodilatatrice diretta utilizzato nelle emergenze ipertensiv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5"/>
          <p:cNvSpPr/>
          <p:nvPr/>
        </p:nvSpPr>
        <p:spPr>
          <a:xfrm>
            <a:off x="-1766880" y="27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1547640" y="33336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ALLUMINI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380880" y="3580560"/>
            <a:ext cx="835200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Intossicazione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Acuta</a:t>
            </a:r>
            <a:r>
              <a:rPr b="0" lang="it-IT" sz="1600" spc="-1" strike="noStrike">
                <a:solidFill>
                  <a:srgbClr val="ff0000"/>
                </a:solidFill>
                <a:latin typeface="Comic Sans MS"/>
              </a:rPr>
              <a:t>,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studiata su modelli animali è caratterizzata da sintomi di neurotossicità quali deficit di apprendimento, tremori, debolezza e atassia, morte entro 3-4 settimane per convulsion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7" name="Rectangle 9"/>
          <p:cNvSpPr/>
          <p:nvPr/>
        </p:nvSpPr>
        <p:spPr>
          <a:xfrm>
            <a:off x="380880" y="4648320"/>
            <a:ext cx="813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Cron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, si sta studiando essenzialmente la neurotossicità in seguito ad  esposizione cronica come nel caso di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8" name="Rectangle 10"/>
          <p:cNvSpPr/>
          <p:nvPr/>
        </p:nvSpPr>
        <p:spPr>
          <a:xfrm>
            <a:off x="380880" y="663480"/>
            <a:ext cx="8353440" cy="29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COMPOSTI DI INTERESSE FARMACEUTICO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Al(SO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H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 (allume di rocca):</a:t>
            </a:r>
            <a:r>
              <a:rPr b="1" lang="it-IT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tringente, emostatico e antisettico per uso estern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(CH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COO)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AlOH, CH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COOAl(OH)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astringenti e decongestionanti su contusioni e distorsion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PO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(OH)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Na[Al(OH)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: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tiacidi, antiulcera e protettivi mucose GI per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s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con effetti costipanti (uso in associazione)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allumina)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abrasivo paste dentifrice, per prolungata esposizione alle sue polveri, data l’alta insolubilità, provoca disturbi polmonar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1" lang="it-IT" sz="16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SiO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H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aolino)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adsorbente gastroenterico nelle intossicazioni, antidiarroic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380880" y="5182200"/>
            <a:ext cx="806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ffff66"/>
              </a:buClr>
              <a:buFont typeface="Wingdings" charset="2"/>
              <a:buChar char=""/>
              <a:tabLst>
                <a:tab algn="l" pos="5396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demenza da dialisi</a:t>
            </a:r>
            <a:r>
              <a:rPr b="0" lang="it-IT" sz="1600" spc="-1" strike="noStrike">
                <a:solidFill>
                  <a:srgbClr val="ffff66"/>
                </a:solidFill>
                <a:latin typeface="Comic Sans MS"/>
              </a:rPr>
              <a:t>,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sindrome neurologica progressiva e fatale che insorge nei pazienti sottoposti a dialisi da 3-7 anni (Al presente nell’acqua della soluzione da dialisi)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486720" y="5943240"/>
            <a:ext cx="818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ffff66"/>
              </a:buClr>
              <a:buFont typeface="Wingdings" charset="2"/>
              <a:buChar char=""/>
              <a:tabLst>
                <a:tab algn="l" pos="5396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morbo di Alzheimer,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esistono strette correlazioni  fra accumulo di Al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ed il morb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6"/>
          <p:cNvSpPr/>
          <p:nvPr/>
        </p:nvSpPr>
        <p:spPr>
          <a:xfrm>
            <a:off x="228600" y="297720"/>
            <a:ext cx="843912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MECCANISMI D’AZIONE</a:t>
            </a:r>
            <a:r>
              <a:rPr b="0" lang="it-IT" sz="1600" spc="-1" strike="noStrike">
                <a:solidFill>
                  <a:srgbClr val="ffff66"/>
                </a:solidFill>
                <a:latin typeface="Comic Sans MS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azione farmacolog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astringent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, azione disidratante sui tessuti per il gran numero di molecole di acqua necessarie per la coordinazione e  la solvatazione;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emostatica e  antisett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, collegate alla capacità di precipitare le proteine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adsorbent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, legata alle caratteristiche chimico-fisiche dei composti utilizzat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228600" y="2525400"/>
            <a:ext cx="3743280" cy="34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azione tossicolog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degenerazione neuronale con formazione di plessi neurofibrillari, forse dovuta ad interazione con DNA ed alla sostituzione del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Ca</a:t>
            </a:r>
            <a:r>
              <a:rPr b="0" i="1" lang="it-IT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nel legame con proteine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Ca</a:t>
            </a:r>
            <a:r>
              <a:rPr b="0" i="1" lang="it-IT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-dipendenti come la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calmodulin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La calmodulina è in grado di stimolare un gran numero di enzimi, pompe e altre proteine bersagli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43" name="Picture 8" descr="calmodulinaCa+"/>
          <p:cNvPicPr/>
          <p:nvPr/>
        </p:nvPicPr>
        <p:blipFill>
          <a:blip r:embed="rId1"/>
          <a:stretch/>
        </p:blipFill>
        <p:spPr>
          <a:xfrm>
            <a:off x="4419720" y="2590920"/>
            <a:ext cx="4198680" cy="3660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4" descr="image001"/>
          <p:cNvPicPr/>
          <p:nvPr/>
        </p:nvPicPr>
        <p:blipFill>
          <a:blip r:embed="rId1"/>
          <a:stretch/>
        </p:blipFill>
        <p:spPr>
          <a:xfrm>
            <a:off x="611280" y="2637000"/>
            <a:ext cx="2923920" cy="286704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5"/>
          <p:cNvSpPr/>
          <p:nvPr/>
        </p:nvSpPr>
        <p:spPr>
          <a:xfrm>
            <a:off x="2989800" y="403560"/>
            <a:ext cx="31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Morbo di Alzheim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6" name="Rectangle 6"/>
          <p:cNvSpPr/>
          <p:nvPr/>
        </p:nvSpPr>
        <p:spPr>
          <a:xfrm>
            <a:off x="3780000" y="2716200"/>
            <a:ext cx="4668840" cy="19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A. Corteccia cerebrale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dove si formano il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pensier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ed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il linguaggi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B. Gangli della base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coinvolti nella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memori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e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l’apprendimento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C. Ippocampo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essenziale per la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conservazione della memoria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395280" y="1006560"/>
            <a:ext cx="835344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irca il 70% dei casi di demenza senile sono dovuti al morbo di Alzheimer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Per demenza si intende una riduzione progressiva delle funzioni mentali, della memoria e delle capacità intellettive acquisite che può condurre ad uno stato completamente vegetativ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4"/>
          <p:cNvSpPr/>
          <p:nvPr/>
        </p:nvSpPr>
        <p:spPr>
          <a:xfrm>
            <a:off x="250920" y="907200"/>
            <a:ext cx="3960720" cy="23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aratteristiche dell’Alzheimer sono le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placche neuritiche o amiloidi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(fuori dei neuroni) e i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grovigli neurofibrillar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dentro i neuroni), che si ritiene siano responsabili della degenerazione dei neuroni e quindi delle manifestazioni clinich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49" name="Picture 5" descr="image002"/>
          <p:cNvPicPr/>
          <p:nvPr/>
        </p:nvPicPr>
        <p:blipFill>
          <a:blip r:embed="rId1"/>
          <a:stretch/>
        </p:blipFill>
        <p:spPr>
          <a:xfrm>
            <a:off x="4392720" y="404640"/>
            <a:ext cx="4572000" cy="3429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50" name="Rectangle 7"/>
          <p:cNvSpPr/>
          <p:nvPr/>
        </p:nvSpPr>
        <p:spPr>
          <a:xfrm>
            <a:off x="395280" y="4119480"/>
            <a:ext cx="8209080" cy="22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Per 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AMILOID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si intende un gruppo di proteine diverse che hanno in comune la conformazion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delle catene (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amiloide)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l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amiloide che si accumula nelle placche è un frammento di una proteina più grande detta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amyloid </a:t>
            </a:r>
            <a:r>
              <a:rPr b="1" i="1" lang="it-IT" sz="1600" spc="-1" strike="noStrike">
                <a:solidFill>
                  <a:srgbClr val="ffff66"/>
                </a:solidFill>
                <a:latin typeface="Symbol"/>
                <a:ea typeface="Symbol"/>
              </a:rPr>
              <a:t>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-protein precursor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APP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, una proteina integrale di membrana che viene sintetizzata da vari organi compresi neuroni e glia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Sembra probabile che nell’Alzheimer la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APP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 venga idrolizzata in siti anomali dando origine a peptidi che si accumulano in fibrille resistenti alla degradazione proteica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1028" descr="image004"/>
          <p:cNvPicPr/>
          <p:nvPr/>
        </p:nvPicPr>
        <p:blipFill>
          <a:blip r:embed="rId1"/>
          <a:stretch/>
        </p:blipFill>
        <p:spPr>
          <a:xfrm>
            <a:off x="324000" y="1052640"/>
            <a:ext cx="4244760" cy="3192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52" name="Rectangle 1030"/>
          <p:cNvSpPr/>
          <p:nvPr/>
        </p:nvSpPr>
        <p:spPr>
          <a:xfrm>
            <a:off x="4788000" y="1497240"/>
            <a:ext cx="4105080" cy="19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ell’Alzheimer vi è un raggrinzimento globale del tessuto cerebrale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asi iniziali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lterazione della memoria recent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asi finali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lterazioni del linguaggio, del controllo emotivo, del ragionament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3" name="Rectangle 1032"/>
          <p:cNvSpPr/>
          <p:nvPr/>
        </p:nvSpPr>
        <p:spPr>
          <a:xfrm>
            <a:off x="108000" y="4581360"/>
            <a:ext cx="88567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Il tempo medio dalla diagnosi alla morte è di 4-8 anni, sebbene la malattia talora possa durare 20 anni o più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4"/>
          <p:cNvSpPr/>
          <p:nvPr/>
        </p:nvSpPr>
        <p:spPr>
          <a:xfrm>
            <a:off x="971640" y="37944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CROM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395280" y="980640"/>
            <a:ext cx="77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Microelemento essenziale (assorbimento medio giornaliero = 0.06-0.4 mg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380880" y="1451160"/>
            <a:ext cx="8353440" cy="19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Ruoli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biologici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l Cr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è il componente del </a:t>
            </a:r>
            <a:r>
              <a:rPr b="1" lang="it-IT" sz="1600" spc="-1" strike="noStrike">
                <a:solidFill>
                  <a:srgbClr val="ff5050"/>
                </a:solidFill>
                <a:latin typeface="Comic Sans MS"/>
              </a:rPr>
              <a:t>Glucose tolerance factor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ofattore necessario per l’attività dell’insulina, in grado di formare un complesso ternario con l’ormone ed il recettore facilitandone il legame. La sua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Comic Sans MS"/>
              </a:rPr>
              <a:t>carenz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provoca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Comic Sans MS"/>
              </a:rPr>
              <a:t>iperglicemia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e crescita stentata. Il Cr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6+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è invece altamente tossico: sotto forma di cromato penetra nelle cellule dove precipita le proteine e, per l’elevato potere ossidante, distrugge cellule e tessuti. L’anione cromato è anche cancerogen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7" name="Rectangle 12"/>
          <p:cNvSpPr/>
          <p:nvPr/>
        </p:nvSpPr>
        <p:spPr>
          <a:xfrm>
            <a:off x="395280" y="3519720"/>
            <a:ext cx="8352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5050"/>
                </a:solidFill>
                <a:latin typeface="Comic Sans MS"/>
                <a:ea typeface="Times New Roman"/>
              </a:rPr>
              <a:t>INSULINA</a:t>
            </a:r>
            <a:r>
              <a:rPr b="0" lang="it-IT" sz="1600" spc="-1" strike="noStrike">
                <a:solidFill>
                  <a:srgbClr val="ff5050"/>
                </a:solidFill>
                <a:latin typeface="Comic Sans MS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i="1" lang="it-IT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ormon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i natura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rodotto dal pancreas endocrino (isole di Langerhans); è formato da 2 catene polipeptidiche A e B unite da ponti disolfur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58" name="Picture 13" descr="sequenzainsulina"/>
          <p:cNvPicPr/>
          <p:nvPr/>
        </p:nvPicPr>
        <p:blipFill>
          <a:blip r:embed="rId1"/>
          <a:stretch/>
        </p:blipFill>
        <p:spPr>
          <a:xfrm>
            <a:off x="1447920" y="4419720"/>
            <a:ext cx="6095880" cy="199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609480" y="457200"/>
            <a:ext cx="7925040" cy="34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 produrre una manifestazione tossica, come peraltro un beneficio terapeutico, un agente chimico o un suo metabolita deve poter interagire con specifici siti bersaglio (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target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) dell’ organismo e rimanere in contatto con essi ad una appropriata concentrazione per un tempo sufficientemente lungo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’eventuale presenza di un effetto tossico dipende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dalle proprietà chimico-fisiche dell’agente;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dalla situazione di esposizione (via, durata, frequenza);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dalla sensibilità del sistema biologico oggetto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609480" y="4495680"/>
            <a:ext cx="7925040" cy="154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a tossicità di una data sostanza dipende in sintesi dal proprio profilo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 u="sng">
                <a:solidFill>
                  <a:srgbClr val="ff0000"/>
                </a:solidFill>
                <a:uFillTx/>
                <a:latin typeface="Comic Sans MS"/>
              </a:rPr>
              <a:t>tossicodinamico</a:t>
            </a: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 (ciò che l’agente fa all’organismo) 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e  </a:t>
            </a:r>
            <a:r>
              <a:rPr b="0" lang="it-IT" sz="2200" spc="-1" strike="noStrike" u="sng">
                <a:solidFill>
                  <a:srgbClr val="ff0000"/>
                </a:solidFill>
                <a:uFillTx/>
                <a:latin typeface="Comic Sans MS"/>
              </a:rPr>
              <a:t>tossicocinetico </a:t>
            </a: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(ciò che l’organismo fa all’agente)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4"/>
          <p:cNvSpPr/>
          <p:nvPr/>
        </p:nvSpPr>
        <p:spPr>
          <a:xfrm>
            <a:off x="671760" y="54828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Azioni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dell’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insulin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1042920" y="930960"/>
            <a:ext cx="777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permette la </a:t>
            </a:r>
            <a:r>
              <a:rPr b="1" i="1" lang="it-IT" sz="1600" spc="-1" strike="noStrike">
                <a:solidFill>
                  <a:srgbClr val="ff5050"/>
                </a:solidFill>
                <a:latin typeface="Comic Sans MS"/>
              </a:rPr>
              <a:t>captazione del glucosi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da parte delle cellule attraverso la mobilizzazione di uno specifico recettore GLUT4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974520" y="1796760"/>
            <a:ext cx="716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aumenta </a:t>
            </a:r>
            <a:r>
              <a:rPr b="1" lang="it-IT" sz="1600" spc="-1" strike="noStrike">
                <a:solidFill>
                  <a:srgbClr val="ff5050"/>
                </a:solidFill>
                <a:latin typeface="Comic Sans MS"/>
              </a:rPr>
              <a:t>l’</a:t>
            </a:r>
            <a:r>
              <a:rPr b="1" i="1" lang="it-IT" sz="1600" spc="-1" strike="noStrike">
                <a:solidFill>
                  <a:srgbClr val="ff5050"/>
                </a:solidFill>
                <a:latin typeface="Comic Sans MS"/>
              </a:rPr>
              <a:t>accumulo di glucosio nel fegat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formazione del glicogeno)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1044720" y="2214360"/>
            <a:ext cx="7704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promuove la </a:t>
            </a:r>
            <a:r>
              <a:rPr b="1" i="1" lang="it-IT" sz="1600" spc="-1" strike="noStrike">
                <a:solidFill>
                  <a:srgbClr val="ff5050"/>
                </a:solidFill>
                <a:latin typeface="Comic Sans MS"/>
              </a:rPr>
              <a:t>sintesi proteica nei muscol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e </a:t>
            </a:r>
            <a:r>
              <a:rPr b="1" i="1" lang="it-IT" sz="1600" spc="-1" strike="noStrike">
                <a:solidFill>
                  <a:srgbClr val="ff5050"/>
                </a:solidFill>
                <a:latin typeface="Comic Sans MS"/>
              </a:rPr>
              <a:t>la formazione di trigliceridi nel tessuto adipos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riserva energetica).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3" name="Rectangle 8"/>
          <p:cNvSpPr/>
          <p:nvPr/>
        </p:nvSpPr>
        <p:spPr>
          <a:xfrm>
            <a:off x="684360" y="3068640"/>
            <a:ext cx="8064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La riduzione o la mancata produzione di insulina da parte del pancreas endocrino è la causa del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diabete mellito</a:t>
            </a:r>
            <a:r>
              <a:rPr b="0" lang="it-IT" sz="16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insulino-dipendent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una malattia metabolica che si manifesta in giovane età con un aumento della concentrazione ematica di glucosio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4" name="Rectangle 9"/>
          <p:cNvSpPr/>
          <p:nvPr/>
        </p:nvSpPr>
        <p:spPr>
          <a:xfrm>
            <a:off x="685800" y="4366440"/>
            <a:ext cx="808344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Danni in vari organi nel lungo periodo in assenza di adeguato controllo della glicemia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degenerazione retinica (retinopatia)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danni renali (nefropatia)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danni al SNC (neuropatia)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ateroscleros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4" descr="insulina2"/>
          <p:cNvPicPr/>
          <p:nvPr/>
        </p:nvPicPr>
        <p:blipFill>
          <a:blip r:embed="rId1"/>
          <a:stretch/>
        </p:blipFill>
        <p:spPr>
          <a:xfrm>
            <a:off x="1835280" y="549360"/>
            <a:ext cx="5675040" cy="5783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4"/>
          <p:cNvSpPr/>
          <p:nvPr/>
        </p:nvSpPr>
        <p:spPr>
          <a:xfrm>
            <a:off x="900000" y="40464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MANGANES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7" name="Text Box 5"/>
          <p:cNvSpPr/>
          <p:nvPr/>
        </p:nvSpPr>
        <p:spPr>
          <a:xfrm>
            <a:off x="539640" y="1052640"/>
            <a:ext cx="748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Microelemento essenziale (dose media giornaliera 3-10 mg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324000" y="1628640"/>
            <a:ext cx="820728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ATTIVITA’ BIOLOG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cofattore di vari metalloenzimi quali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isocitrico deidrogenas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enzima del ciclo di Krebs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Mn-superossido dismutas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SOD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 mitocondriale, enzima “scavenger” dei radicali liberi dell’ossigeno, come l’anione radicale superossido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9" name="Text Box 7"/>
          <p:cNvSpPr/>
          <p:nvPr/>
        </p:nvSpPr>
        <p:spPr>
          <a:xfrm>
            <a:off x="324000" y="321300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CARENZ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disturbi della crescita e dello sviluppo corporeo, ma molto rara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0" name="Text Box 8"/>
          <p:cNvSpPr/>
          <p:nvPr/>
        </p:nvSpPr>
        <p:spPr>
          <a:xfrm>
            <a:off x="539640" y="3789360"/>
            <a:ext cx="79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324000" y="3573360"/>
            <a:ext cx="806436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AZIONE TOSS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intossicazione cronica da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nO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industrie per produzione leghe d’acciaio, vetri, tinture) per periodo &gt; 2 anni provoca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MANGANISMO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(disturbi psichici e sindrome simil parkinsoniana: tremori, difficoltà di deambulazione, disturbi del linguaggio)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2" name="Text Box 10"/>
          <p:cNvSpPr/>
          <p:nvPr/>
        </p:nvSpPr>
        <p:spPr>
          <a:xfrm>
            <a:off x="324000" y="5084640"/>
            <a:ext cx="8424720" cy="14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COMPOSTI DI INTERESSE FARMACEUTICO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KMn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4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antibatterico e antisettico per uso esterno (azione antibatterica dovuta alla capacità ossidante dell’anione permanganato) in soluzioni diluit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MnS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4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reintegratore di Mn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4"/>
          <p:cNvSpPr/>
          <p:nvPr/>
        </p:nvSpPr>
        <p:spPr>
          <a:xfrm>
            <a:off x="611280" y="260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ZINC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826920" y="907920"/>
            <a:ext cx="74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Elemento oligoessenziale (fabbisogno giornaliero medio 10-15 mg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193680" y="1450800"/>
            <a:ext cx="895032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ATTIVITA’ BIOLOG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lo Zn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è indispensabile per l’attività di numerose proteine e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ofattore di più di 200 metalloenzimi fra cui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0000"/>
                </a:solidFill>
                <a:latin typeface="Comic Sans MS"/>
              </a:rPr>
              <a:t>insulina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;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ormone ipoglicemizzante;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istone deacetilasi (HDAC)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modulazione epigenetica dell’espressione genica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0000"/>
                </a:solidFill>
                <a:latin typeface="Comic Sans MS"/>
              </a:rPr>
              <a:t>anidrasi carbon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enzima che catalizza la reazione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                               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H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C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3 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↔ C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  <a:ea typeface="Times New Roman"/>
              </a:rPr>
              <a:t>2 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+ H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0000"/>
                </a:solidFill>
                <a:latin typeface="Comic Sans MS"/>
              </a:rPr>
              <a:t>alcol deidrogenas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:fermentazione alcolica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376" name="Object 0"/>
          <p:cNvGraphicFramePr/>
          <p:nvPr/>
        </p:nvGraphicFramePr>
        <p:xfrm>
          <a:off x="2879640" y="5092560"/>
          <a:ext cx="3390840" cy="11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9640" y="5092560"/>
                    <a:ext cx="339084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8" name="Picture 10" descr="alcol deidro"/>
          <p:cNvPicPr/>
          <p:nvPr/>
        </p:nvPicPr>
        <p:blipFill>
          <a:blip r:embed="rId3"/>
          <a:stretch/>
        </p:blipFill>
        <p:spPr>
          <a:xfrm>
            <a:off x="444600" y="4626000"/>
            <a:ext cx="2239920" cy="198288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graphicFrame>
        <p:nvGraphicFramePr>
          <p:cNvPr id="379" name="Object 1"/>
          <p:cNvGraphicFramePr/>
          <p:nvPr/>
        </p:nvGraphicFramePr>
        <p:xfrm>
          <a:off x="6148440" y="3152880"/>
          <a:ext cx="2670120" cy="2160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0" name="Object 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48440" y="3152880"/>
                    <a:ext cx="2670120" cy="21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4"/>
          <p:cNvSpPr/>
          <p:nvPr/>
        </p:nvSpPr>
        <p:spPr>
          <a:xfrm>
            <a:off x="517680" y="3195720"/>
            <a:ext cx="8064360" cy="37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COMPOSTI DI INTERESSE FARMACEUTIC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ZnO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e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Zn(CH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COO)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antibatterici, antisettici e adsorbenti (azione antimicrobica dovuta all’interazione con i gruppi SH ed altri gruppi polari di proteine enzimatiche) per uso esterno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Zn(CH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O)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·2H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zinco acetato diidrato)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è il principio attivo della specialità medicinale Wilzin®  approvata nel 2004 per il trattamento del morbo di Wilson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ZnCl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integrante dell’insulina nella terapia antidiabetica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ZnSO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n soluzioni diluite antisettico per uso oftalmico, ad alte dosi per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os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veloce ed efficace emetic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719280" y="216000"/>
            <a:ext cx="763272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0000"/>
                </a:solidFill>
                <a:latin typeface="Comic Sans MS"/>
              </a:rPr>
              <a:t>fosfatasi alcalin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:marker biochimico per epatopatie e malattie ossee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0000"/>
                </a:solidFill>
                <a:latin typeface="Comic Sans MS"/>
              </a:rPr>
              <a:t>ACE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 (angiotensin converting enzyme):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enzima che catalizza la formazione dell’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angiotensina I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, un octapeptide ad attività vasocostrittrice ed ipertensiva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383" name="Object 7"/>
          <p:cNvGraphicFramePr/>
          <p:nvPr/>
        </p:nvGraphicFramePr>
        <p:xfrm>
          <a:off x="1459080" y="1468440"/>
          <a:ext cx="6119640" cy="14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9080" y="1468440"/>
                    <a:ext cx="61196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4"/>
          <p:cNvSpPr/>
          <p:nvPr/>
        </p:nvSpPr>
        <p:spPr>
          <a:xfrm>
            <a:off x="1187280" y="40464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COBALT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468360" y="907920"/>
            <a:ext cx="80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Elemento microessenziale (dose media giornaliera  0.01 mg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380880" y="1295280"/>
            <a:ext cx="8352000" cy="15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ATTIVITA’ BIOLOG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componente inorganico (Co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 della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vitamina B</a:t>
            </a:r>
            <a:r>
              <a:rPr b="1" lang="it-IT" sz="1600" spc="-1" strike="noStrike" baseline="-25000">
                <a:solidFill>
                  <a:srgbClr val="ff0000"/>
                </a:solidFill>
                <a:latin typeface="Comic Sans MS"/>
              </a:rPr>
              <a:t>1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i="1" lang="it-IT" sz="1600" spc="-1" strike="noStrike">
                <a:solidFill>
                  <a:srgbClr val="ff0000"/>
                </a:solidFill>
                <a:latin typeface="Comic Sans MS"/>
              </a:rPr>
              <a:t>cobalamin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, necessaria per la produzione dei globuli rossi (carenza provoca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anemia pernicios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. Si somministrano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cianocobalamina o idrossicobalamin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per via parenterale. La carenza provoca anche degenerazione del sistema nervoso centrale per accumulo di acidi grassi anomal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388" name="Object 7"/>
          <p:cNvGraphicFramePr/>
          <p:nvPr/>
        </p:nvGraphicFramePr>
        <p:xfrm>
          <a:off x="369720" y="2930400"/>
          <a:ext cx="3813480" cy="326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2930400"/>
                    <a:ext cx="3813480" cy="32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0" name="Picture 8" descr="vit B12"/>
          <p:cNvPicPr/>
          <p:nvPr/>
        </p:nvPicPr>
        <p:blipFill>
          <a:blip r:embed="rId3"/>
          <a:stretch/>
        </p:blipFill>
        <p:spPr>
          <a:xfrm>
            <a:off x="5257800" y="3200400"/>
            <a:ext cx="3063960" cy="326376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5"/>
          <p:cNvSpPr/>
          <p:nvPr/>
        </p:nvSpPr>
        <p:spPr>
          <a:xfrm>
            <a:off x="395280" y="176544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2" name="Text Box 8"/>
          <p:cNvSpPr/>
          <p:nvPr/>
        </p:nvSpPr>
        <p:spPr>
          <a:xfrm>
            <a:off x="179280" y="901800"/>
            <a:ext cx="881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 baseline="30000">
                <a:solidFill>
                  <a:srgbClr val="000000"/>
                </a:solidFill>
                <a:latin typeface="Comic Sans MS"/>
              </a:rPr>
              <a:t>57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Co e </a:t>
            </a:r>
            <a:r>
              <a:rPr b="0" i="1" lang="it-IT" sz="1600" spc="-1" strike="noStrike" baseline="30000">
                <a:solidFill>
                  <a:srgbClr val="000000"/>
                </a:solidFill>
                <a:latin typeface="Comic Sans MS"/>
              </a:rPr>
              <a:t>58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Co (gamma emittenti) vengono usati nella radioterapia contro varie forme di tumor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3" name="Text Box 9"/>
          <p:cNvSpPr/>
          <p:nvPr/>
        </p:nvSpPr>
        <p:spPr>
          <a:xfrm>
            <a:off x="179280" y="3271680"/>
            <a:ext cx="871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EFFETTI TOSSIC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per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provoca irritazioni GI, vomito e diarrea. Per via parenterale tossico a livello cardiaco e circolatorio (diminuzione pressione arteriosa)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4" name="Text Box 10"/>
          <p:cNvSpPr/>
          <p:nvPr/>
        </p:nvSpPr>
        <p:spPr>
          <a:xfrm>
            <a:off x="179280" y="1476360"/>
            <a:ext cx="849636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COMPOSTI DI INTERESSE FARMACEUTIC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Co(N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3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)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antidoto nell’avvelenamento da CN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-  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1" i="1" lang="it-IT" sz="1600" spc="-1" strike="noStrike" baseline="30000">
                <a:solidFill>
                  <a:srgbClr val="000000"/>
                </a:solidFill>
                <a:latin typeface="Comic Sans MS"/>
              </a:rPr>
              <a:t>2+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+ 6CN</a:t>
            </a:r>
            <a:r>
              <a:rPr b="1" i="1" lang="it-IT" sz="1600" spc="-1" strike="noStrike" baseline="30000">
                <a:solidFill>
                  <a:srgbClr val="000000"/>
                </a:solidFill>
                <a:latin typeface="Comic Sans MS"/>
              </a:rPr>
              <a:t>- 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↔ [Co(CN)</a:t>
            </a:r>
            <a:r>
              <a:rPr b="1" i="1" lang="it-IT" sz="1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6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</a:t>
            </a:r>
            <a:r>
              <a:rPr b="1" i="1" lang="it-IT" sz="16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4-           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 inst= 10</a:t>
            </a:r>
            <a:r>
              <a:rPr b="1" i="1" lang="it-IT" sz="16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19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CoC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  <a:ea typeface="Times New Roman"/>
              </a:rPr>
              <a:t>3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, CoS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  <a:ea typeface="Times New Roman"/>
              </a:rPr>
              <a:t>4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tianemici insieme ai sali ferrosi in taluni tipi di anemi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5" name="Text Box 12"/>
          <p:cNvSpPr/>
          <p:nvPr/>
        </p:nvSpPr>
        <p:spPr>
          <a:xfrm>
            <a:off x="216000" y="4141800"/>
            <a:ext cx="8893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ANTIDOT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Na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CaEDTA</a:t>
            </a:r>
            <a:r>
              <a:rPr b="0" lang="it-IT" sz="1600" spc="-1" strike="noStrike">
                <a:solidFill>
                  <a:srgbClr val="ff33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4"/>
          <p:cNvSpPr/>
          <p:nvPr/>
        </p:nvSpPr>
        <p:spPr>
          <a:xfrm>
            <a:off x="1116000" y="5493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NICH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324000" y="1125360"/>
            <a:ext cx="864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Anche se viene definito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elemento stimolatorio e microessenziale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 sono note soprattutto le proprietà tossicologiche del N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179280" y="1844640"/>
            <a:ext cx="37861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AZIONI TOSSICH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agente cancerogen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aumento dei casi di cancro del tratto respiratorio negli addetti alle industrie di raffinazione del Ni (solfuri di Ni e Ni(CO)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dermatiti allergiche da contatt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monete e gioielli)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inibizione del rilascio di insulina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237960" y="5581800"/>
            <a:ext cx="2916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ANTIDOT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i="1" lang="it-IT" sz="1600" spc="-1" strike="noStrike">
                <a:solidFill>
                  <a:srgbClr val="ff3300"/>
                </a:solidFill>
                <a:latin typeface="Comic Sans MS"/>
              </a:rPr>
              <a:t>Na</a:t>
            </a:r>
            <a:r>
              <a:rPr b="0" i="1" lang="it-IT" sz="16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i="1" lang="it-IT" sz="1600" spc="-1" strike="noStrike">
                <a:solidFill>
                  <a:srgbClr val="ff3300"/>
                </a:solidFill>
                <a:latin typeface="Comic Sans MS"/>
              </a:rPr>
              <a:t>CaEDTA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00" name="Picture 10" descr=""/>
          <p:cNvPicPr/>
          <p:nvPr/>
        </p:nvPicPr>
        <p:blipFill>
          <a:blip r:embed="rId1"/>
          <a:stretch/>
        </p:blipFill>
        <p:spPr>
          <a:xfrm>
            <a:off x="4094280" y="1874880"/>
            <a:ext cx="2573280" cy="831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01" name="Text Box 11"/>
          <p:cNvSpPr/>
          <p:nvPr/>
        </p:nvSpPr>
        <p:spPr>
          <a:xfrm>
            <a:off x="5364000" y="5661000"/>
            <a:ext cx="37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ff00"/>
                </a:solidFill>
                <a:latin typeface="Comic Sans MS"/>
              </a:rPr>
              <a:t>Nestle et al. </a:t>
            </a:r>
            <a:r>
              <a:rPr b="1" i="1" lang="it-IT" sz="1600" spc="-1" strike="noStrike">
                <a:solidFill>
                  <a:srgbClr val="ffff00"/>
                </a:solidFill>
                <a:latin typeface="Comic Sans MS"/>
              </a:rPr>
              <a:t>Nature</a:t>
            </a:r>
            <a:r>
              <a:rPr b="0" i="1" lang="it-IT" sz="1600" spc="-1" strike="noStrike">
                <a:solidFill>
                  <a:srgbClr val="ffff00"/>
                </a:solidFill>
                <a:latin typeface="Comic Sans MS"/>
              </a:rPr>
              <a:t> 2002, 419, 132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02" name="Picture 9" descr=""/>
          <p:cNvPicPr/>
          <p:nvPr/>
        </p:nvPicPr>
        <p:blipFill>
          <a:blip r:embed="rId2"/>
          <a:stretch/>
        </p:blipFill>
        <p:spPr>
          <a:xfrm>
            <a:off x="6084720" y="2421000"/>
            <a:ext cx="2568600" cy="3254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4"/>
          <p:cNvSpPr/>
          <p:nvPr/>
        </p:nvSpPr>
        <p:spPr>
          <a:xfrm>
            <a:off x="611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CALCI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395280" y="836640"/>
            <a:ext cx="799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elemento essenziale (fabbisogno medio giornaliero 500 mg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395280" y="1413000"/>
            <a:ext cx="842472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ATTIVITA’ BIOLOG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messaggero citosolico ubiquitario (vedi calmodulina); svolge funzioni di vitale importanza per: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eccitabilità delle membrane nervose e muscolari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meccanica della contrazione muscolar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attività cardiaca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coagulazione del sangu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06" name="Picture 7" descr="contrazione muscolare"/>
          <p:cNvPicPr/>
          <p:nvPr/>
        </p:nvPicPr>
        <p:blipFill>
          <a:blip r:embed="rId1"/>
          <a:stretch/>
        </p:blipFill>
        <p:spPr>
          <a:xfrm>
            <a:off x="5388120" y="2343240"/>
            <a:ext cx="3576600" cy="31734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graphicFrame>
        <p:nvGraphicFramePr>
          <p:cNvPr id="407" name="Object 8"/>
          <p:cNvGraphicFramePr/>
          <p:nvPr/>
        </p:nvGraphicFramePr>
        <p:xfrm>
          <a:off x="324000" y="4008600"/>
          <a:ext cx="5949720" cy="215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8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4008600"/>
                    <a:ext cx="5949720" cy="21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4"/>
          <p:cNvSpPr/>
          <p:nvPr/>
        </p:nvSpPr>
        <p:spPr>
          <a:xfrm>
            <a:off x="755640" y="476280"/>
            <a:ext cx="79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l suo metabolismo è regolato da: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paratormone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calcitonina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vitamina D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351000" y="295200"/>
          <a:ext cx="8207280" cy="5273640"/>
        </p:xfrm>
        <a:graphic>
          <a:graphicData uri="http://schemas.openxmlformats.org/drawingml/2006/table">
            <a:tbl>
              <a:tblPr/>
              <a:tblGrid>
                <a:gridCol w="1834920"/>
                <a:gridCol w="2184480"/>
                <a:gridCol w="2068560"/>
                <a:gridCol w="2119320"/>
              </a:tblGrid>
              <a:tr h="2529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ZION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PARATORMONE (PTH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rmone polipeptidico sintetizzato dalle paratiroid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VITAMINA 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odotto dal deidrocolesterolo per azione dei raggi UV o assunta con la die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CALCITON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rmone polipeptidico prodotto dalle cellule parafollicolari della tiroid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NTESTI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↑ 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bs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↑ 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bs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↓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screzione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↓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screzione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↑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screzione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3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S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↑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iassorbimento osteoclast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↑ 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ormazione os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↓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iassorbimento osteoclast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1" name="Rectangle 45"/>
          <p:cNvSpPr/>
          <p:nvPr/>
        </p:nvSpPr>
        <p:spPr>
          <a:xfrm>
            <a:off x="-31680" y="5203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2" name="Text Box 54"/>
          <p:cNvSpPr/>
          <p:nvPr/>
        </p:nvSpPr>
        <p:spPr>
          <a:xfrm>
            <a:off x="409680" y="5632560"/>
            <a:ext cx="8342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IPOCALCEMI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rachitismo, malattie ossee, predisposizione a carie ed emorragie, ipereccitabilità nervosa e muscolar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IPERCALCEMI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ipofunzionalità nervosa e muscolare e calcolosi renal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Oval 4"/>
          <p:cNvSpPr/>
          <p:nvPr/>
        </p:nvSpPr>
        <p:spPr>
          <a:xfrm>
            <a:off x="3276720" y="304920"/>
            <a:ext cx="609480" cy="29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Oval 6"/>
          <p:cNvSpPr/>
          <p:nvPr/>
        </p:nvSpPr>
        <p:spPr>
          <a:xfrm>
            <a:off x="6324480" y="1981080"/>
            <a:ext cx="7632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Oval 7"/>
          <p:cNvSpPr/>
          <p:nvPr/>
        </p:nvSpPr>
        <p:spPr>
          <a:xfrm>
            <a:off x="5562720" y="0"/>
            <a:ext cx="114300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Oval 8"/>
          <p:cNvSpPr/>
          <p:nvPr/>
        </p:nvSpPr>
        <p:spPr>
          <a:xfrm>
            <a:off x="5867280" y="685800"/>
            <a:ext cx="22860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477120" y="380880"/>
            <a:ext cx="75960" cy="152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6629400" y="457200"/>
            <a:ext cx="22860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6324480" y="685800"/>
            <a:ext cx="7632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Oval 12"/>
          <p:cNvSpPr/>
          <p:nvPr/>
        </p:nvSpPr>
        <p:spPr>
          <a:xfrm>
            <a:off x="6629400" y="685800"/>
            <a:ext cx="15228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Oval 13"/>
          <p:cNvSpPr/>
          <p:nvPr/>
        </p:nvSpPr>
        <p:spPr>
          <a:xfrm>
            <a:off x="6858000" y="685800"/>
            <a:ext cx="7632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12" name="Group 25"/>
          <p:cNvGrpSpPr/>
          <p:nvPr/>
        </p:nvGrpSpPr>
        <p:grpSpPr>
          <a:xfrm>
            <a:off x="1295280" y="1752480"/>
            <a:ext cx="6400440" cy="4343040"/>
            <a:chOff x="1295280" y="1752480"/>
            <a:chExt cx="6400440" cy="4343040"/>
          </a:xfrm>
        </p:grpSpPr>
        <p:pic>
          <p:nvPicPr>
            <p:cNvPr id="113" name="Picture 2" descr="Cd"/>
            <p:cNvPicPr/>
            <p:nvPr/>
          </p:nvPicPr>
          <p:blipFill>
            <a:blip r:embed="rId1"/>
            <a:stretch/>
          </p:blipFill>
          <p:spPr>
            <a:xfrm>
              <a:off x="1373760" y="1752480"/>
              <a:ext cx="6321960" cy="4343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14" name="Oval 5"/>
            <p:cNvSpPr/>
            <p:nvPr/>
          </p:nvSpPr>
          <p:spPr>
            <a:xfrm>
              <a:off x="1295280" y="1752480"/>
              <a:ext cx="4072680" cy="3528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5" name="Oval 14"/>
            <p:cNvSpPr/>
            <p:nvPr/>
          </p:nvSpPr>
          <p:spPr>
            <a:xfrm>
              <a:off x="4996800" y="2120760"/>
              <a:ext cx="2159280" cy="2054880"/>
            </a:xfrm>
            <a:prstGeom prst="ellipse">
              <a:avLst/>
            </a:prstGeom>
            <a:noFill/>
            <a:ln w="28440">
              <a:solidFill>
                <a:srgbClr val="0f34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16" name="Text Box 15"/>
          <p:cNvSpPr/>
          <p:nvPr/>
        </p:nvSpPr>
        <p:spPr>
          <a:xfrm>
            <a:off x="228600" y="6172200"/>
            <a:ext cx="3276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Comic Sans MS"/>
              </a:rPr>
              <a:t>TOSSICOCINETIC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AutoShape 17"/>
          <p:cNvSpPr/>
          <p:nvPr/>
        </p:nvSpPr>
        <p:spPr>
          <a:xfrm>
            <a:off x="914400" y="2743200"/>
            <a:ext cx="533520" cy="2590920"/>
          </a:xfrm>
          <a:custGeom>
            <a:avLst/>
            <a:gdLst>
              <a:gd name="textAreaLeft" fmla="*/ 71280 w 533520"/>
              <a:gd name="textAreaRight" fmla="*/ 462240 w 53352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AutoShape 18"/>
          <p:cNvSpPr/>
          <p:nvPr/>
        </p:nvSpPr>
        <p:spPr>
          <a:xfrm>
            <a:off x="685800" y="2590920"/>
            <a:ext cx="609480" cy="3352680"/>
          </a:xfrm>
          <a:custGeom>
            <a:avLst/>
            <a:gdLst>
              <a:gd name="textAreaLeft" fmla="*/ 350640 w 609480"/>
              <a:gd name="textAreaRight" fmla="*/ 514440 w 609480"/>
              <a:gd name="textAreaTop" fmla="*/ 451800 h 3352680"/>
              <a:gd name="textAreaBottom" fmla="*/ 1434960 h 33526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5850720" y="380880"/>
            <a:ext cx="2922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a2270"/>
                </a:solidFill>
                <a:latin typeface="Comic Sans MS"/>
              </a:rPr>
              <a:t>TOSSICODINAMIC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AutoShape 21"/>
          <p:cNvSpPr/>
          <p:nvPr/>
        </p:nvSpPr>
        <p:spPr>
          <a:xfrm rot="10878000">
            <a:off x="6933960" y="990360"/>
            <a:ext cx="685800" cy="2057400"/>
          </a:xfrm>
          <a:custGeom>
            <a:avLst/>
            <a:gdLst>
              <a:gd name="textAreaLeft" fmla="*/ 394560 w 685800"/>
              <a:gd name="textAreaRight" fmla="*/ 578880 w 685800"/>
              <a:gd name="textAreaTop" fmla="*/ 277200 h 2057400"/>
              <a:gd name="textAreaBottom" fmla="*/ 8805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b2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236520" y="4005360"/>
            <a:ext cx="842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COMPOSTI DI INTERESSE FARMACEUTICO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4" name="Text Box 3"/>
          <p:cNvSpPr/>
          <p:nvPr/>
        </p:nvSpPr>
        <p:spPr>
          <a:xfrm>
            <a:off x="193680" y="4335480"/>
            <a:ext cx="8470800" cy="25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CaCl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reintegratore in casi di ipocalcemia, emostatico poiché astringente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CaBr</a:t>
            </a:r>
            <a:r>
              <a:rPr b="1" lang="it-IT" sz="16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sedativo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Ca(CH</a:t>
            </a:r>
            <a:r>
              <a:rPr b="1" lang="it-IT" sz="16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COO)</a:t>
            </a:r>
            <a:r>
              <a:rPr b="1" lang="it-IT" sz="16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reintegratore (anche in soluzioni per emodialisi)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Ca(OH)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, CaC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3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, Ca(HC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3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)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antiacidi per via orale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CaHPO</a:t>
            </a:r>
            <a:r>
              <a:rPr b="1" lang="it-IT" sz="16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antirachitico, anticarie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CaS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4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usato nelle ingessature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Na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CaEDT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antidoto avvelenamenti da metalli pesanti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Ca-lattato, Ca-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gluconato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, Ca-pantotenato, Ca-glicerofosfat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reintegrator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15" name="Object 5"/>
          <p:cNvGraphicFramePr/>
          <p:nvPr/>
        </p:nvGraphicFramePr>
        <p:xfrm>
          <a:off x="1258920" y="115920"/>
          <a:ext cx="6738840" cy="36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15920"/>
                    <a:ext cx="673884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2"/>
          <p:cNvSpPr/>
          <p:nvPr/>
        </p:nvSpPr>
        <p:spPr>
          <a:xfrm>
            <a:off x="539640" y="52380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BARI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8" name="Text Box 3"/>
          <p:cNvSpPr/>
          <p:nvPr/>
        </p:nvSpPr>
        <p:spPr>
          <a:xfrm>
            <a:off x="250920" y="1052640"/>
            <a:ext cx="87138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Catione noto per le azioni tossiche (sali idrosolubili)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Chimicamente simile al Ca</a:t>
            </a:r>
            <a:r>
              <a:rPr b="0" i="1" lang="it-IT" sz="1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, può provocare stati di acuta ipocalcemi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Intossicazione acut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vomito, diarrea, crampi muscolari, aritmie e morte per arresto cardiac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Antidot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solfati alcalini (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↓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BaSO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4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 livello gastrico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250920" y="3527280"/>
            <a:ext cx="856908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COMPOSTO DI INTERESSE FARMACEUTIC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Comic Sans MS"/>
              </a:rPr>
              <a:t>BaSO</a:t>
            </a:r>
            <a:r>
              <a:rPr b="0" lang="it-IT" sz="1800" spc="-1" strike="noStrike" baseline="-25000">
                <a:solidFill>
                  <a:srgbClr val="ff3300"/>
                </a:solidFill>
                <a:latin typeface="Comic Sans MS"/>
              </a:rPr>
              <a:t>4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radiopaco utilizzato nelle radiografie a raggi X (assorbe le radiazioni elettromagnetiche X)dell’apparato gastro-enteric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4"/>
          <p:cNvSpPr/>
          <p:nvPr/>
        </p:nvSpPr>
        <p:spPr>
          <a:xfrm>
            <a:off x="468360" y="45072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MAGNESI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1" name="Text Box 5"/>
          <p:cNvSpPr/>
          <p:nvPr/>
        </p:nvSpPr>
        <p:spPr>
          <a:xfrm>
            <a:off x="466560" y="901800"/>
            <a:ext cx="849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elemento essenziale (quantità media nell’uomo: 10 mg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2" name="Text Box 6"/>
          <p:cNvSpPr/>
          <p:nvPr/>
        </p:nvSpPr>
        <p:spPr>
          <a:xfrm>
            <a:off x="179280" y="1484280"/>
            <a:ext cx="4473720" cy="36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66"/>
                </a:solidFill>
                <a:latin typeface="Comic Sans MS"/>
              </a:rPr>
              <a:t>ATTIVITA’ BIOLOG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entra nella costituzione di ossa e denti come fosfat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i="1" lang="it-IT" sz="1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importante per attività di molti enzimi cellulari e reazioni in cui è implicato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</a:rPr>
              <a:t>ATP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costituente inorganico della </a:t>
            </a:r>
            <a:r>
              <a:rPr b="0" i="1" lang="it-IT" sz="1800" spc="-1" strike="noStrike">
                <a:solidFill>
                  <a:srgbClr val="66ff33"/>
                </a:solidFill>
                <a:latin typeface="Comic Sans MS"/>
              </a:rPr>
              <a:t>clorofill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azione lassativa e/o purgativa dovuta a facilità di solvatazione dello ione ed all’azione irritante local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chimismo competitivo con lo ione Ca</a:t>
            </a:r>
            <a:r>
              <a:rPr b="0" i="1" lang="it-IT" sz="1800" spc="-1" strike="noStrike" baseline="30000">
                <a:solidFill>
                  <a:srgbClr val="000000"/>
                </a:solidFill>
                <a:latin typeface="Comic Sans MS"/>
              </a:rPr>
              <a:t>2+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(depressione a livello SNC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3" name="Text Box 8"/>
          <p:cNvSpPr/>
          <p:nvPr/>
        </p:nvSpPr>
        <p:spPr>
          <a:xfrm>
            <a:off x="228600" y="5181480"/>
            <a:ext cx="41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EFFETTI TOSSIC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azione ipnotica, analgesica e anestetica fino all’ arresto cardiaco ad alte dosi; potenti effetti ipotensivi; amianto (silicato) provoca tumori polmonari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24" name="Object 9"/>
          <p:cNvGraphicFramePr/>
          <p:nvPr/>
        </p:nvGraphicFramePr>
        <p:xfrm>
          <a:off x="4932360" y="1595520"/>
          <a:ext cx="3456000" cy="16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1595520"/>
                    <a:ext cx="345600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Object 10"/>
          <p:cNvGraphicFramePr/>
          <p:nvPr/>
        </p:nvGraphicFramePr>
        <p:xfrm>
          <a:off x="4859280" y="3429000"/>
          <a:ext cx="3924360" cy="274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3429000"/>
                    <a:ext cx="3924360" cy="27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4"/>
          <p:cNvSpPr/>
          <p:nvPr/>
        </p:nvSpPr>
        <p:spPr>
          <a:xfrm>
            <a:off x="539640" y="333360"/>
            <a:ext cx="8425080" cy="24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COMPOSTI DI INTERESSE FARMACEUTIC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MgO, Mg(OH)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, Mg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3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(PO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4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)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2 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,MgCO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antiacidi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MgSO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4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lassativo/purgante osmotico (sale inglese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MgCl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, Mg-aspartat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reintegratori per ev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2MgO 3SiO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 nH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antiacido, antiulcera, adsorbente intestinal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2Mg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SiO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4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 6SiO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 Mg(OH)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attapulgite): adsorbente intestinal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1173240" y="314172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LITI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379440" y="3668760"/>
            <a:ext cx="83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Li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CO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3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, LiBr, gluconato, citrato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: utilizzati nelle psicosi maniaco-depressiv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1" name="Text Box 7"/>
          <p:cNvSpPr/>
          <p:nvPr/>
        </p:nvSpPr>
        <p:spPr>
          <a:xfrm>
            <a:off x="171360" y="4124160"/>
            <a:ext cx="8972640" cy="24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AZIONE FARMACOLOG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azione riequilibrante nelle sindromi bipolari per il controllo esercitato sulla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pompa sodio-potassi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delle cellule nervose e per gli effetti sui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II messaggeri cellulari (inositoli)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AZIONI TOSSICH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intossicazione cron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disturbi tiroidei, gastroenteriti, obesità, lesioni cutane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intossicazione acut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tremori, atassia muscolare, nausea, vomito, epilessia, coma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4"/>
          <p:cNvSpPr/>
          <p:nvPr/>
        </p:nvSpPr>
        <p:spPr>
          <a:xfrm>
            <a:off x="755640" y="33336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SODI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3" name="Text Box 5"/>
          <p:cNvSpPr/>
          <p:nvPr/>
        </p:nvSpPr>
        <p:spPr>
          <a:xfrm>
            <a:off x="324000" y="1341360"/>
            <a:ext cx="6048360" cy="31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ATTIVITA’ BIOLOG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ione a concentrazione prevalentemente extra-cellulare (come Ca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 e a differenza di K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e Mg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intra-cellulare)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a sua concentrazione intracellulare è mantenuta dalla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pompa sodio-potassio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.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l gradiente di concentrazione viene sfruttato per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controllo della pressione osmotic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trasmissione nervos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4" name="Text Box 6"/>
          <p:cNvSpPr/>
          <p:nvPr/>
        </p:nvSpPr>
        <p:spPr>
          <a:xfrm>
            <a:off x="539640" y="76500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elemento essenziale (300 mg/l nel plasma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35" name="Object 7"/>
          <p:cNvGraphicFramePr/>
          <p:nvPr/>
        </p:nvGraphicFramePr>
        <p:xfrm>
          <a:off x="2916360" y="4076640"/>
          <a:ext cx="3078000" cy="24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076640"/>
                    <a:ext cx="3078000" cy="24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7" name="Picture 9" descr="can na 2"/>
          <p:cNvPicPr/>
          <p:nvPr/>
        </p:nvPicPr>
        <p:blipFill>
          <a:blip r:embed="rId3"/>
          <a:stretch/>
        </p:blipFill>
        <p:spPr>
          <a:xfrm>
            <a:off x="6516720" y="2349360"/>
            <a:ext cx="2314440" cy="2824200"/>
          </a:xfrm>
          <a:prstGeom prst="rect">
            <a:avLst/>
          </a:prstGeom>
          <a:ln w="0">
            <a:noFill/>
          </a:ln>
        </p:spPr>
      </p:pic>
      <p:sp>
        <p:nvSpPr>
          <p:cNvPr id="438" name="Line 10"/>
          <p:cNvSpPr/>
          <p:nvPr/>
        </p:nvSpPr>
        <p:spPr>
          <a:xfrm>
            <a:off x="7524720" y="1916280"/>
            <a:ext cx="0" cy="57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9" name="Text Box 11"/>
          <p:cNvSpPr/>
          <p:nvPr/>
        </p:nvSpPr>
        <p:spPr>
          <a:xfrm>
            <a:off x="6948360" y="1557360"/>
            <a:ext cx="13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3300"/>
                </a:solidFill>
                <a:latin typeface="Comic Sans MS"/>
              </a:rPr>
              <a:t>Na</a:t>
            </a:r>
            <a:r>
              <a:rPr b="1" i="1" lang="it-IT" sz="2000" spc="-1" strike="noStrike" baseline="30000">
                <a:solidFill>
                  <a:srgbClr val="ff3300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0" name="Text Box 12"/>
          <p:cNvSpPr/>
          <p:nvPr/>
        </p:nvSpPr>
        <p:spPr>
          <a:xfrm>
            <a:off x="6372360" y="544500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omic Sans MS"/>
              </a:rPr>
              <a:t>Trasmissione impulso nervos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1" name="Line 13"/>
          <p:cNvSpPr/>
          <p:nvPr/>
        </p:nvSpPr>
        <p:spPr>
          <a:xfrm>
            <a:off x="7596360" y="494172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4"/>
          <p:cNvSpPr/>
          <p:nvPr/>
        </p:nvSpPr>
        <p:spPr>
          <a:xfrm>
            <a:off x="324000" y="404640"/>
            <a:ext cx="83516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Utilizzato come NaCl nelle soluzioni fisiologiche (0.9% p/v) iniettabili che devono essere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neutr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pH= 7.4);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isotonich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uguali rapporti ionici ponderali del siero ematico);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isoosmotich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uguale pressione osmotica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3" name="Text Box 6"/>
          <p:cNvSpPr/>
          <p:nvPr/>
        </p:nvSpPr>
        <p:spPr>
          <a:xfrm>
            <a:off x="324000" y="2492280"/>
            <a:ext cx="83534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EFFETTI TOSSIC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↑ conc plasmatica di Na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ipernatriemia) porta ad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ipertension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; ha effetti anche sulla diuresi e sulla eccitabilità di nervi e muscoli. Avvelenamento acuto per ev può provocare arresto del cuore in sistol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4" name="Text Box 7"/>
          <p:cNvSpPr/>
          <p:nvPr/>
        </p:nvSpPr>
        <p:spPr>
          <a:xfrm>
            <a:off x="219240" y="3986280"/>
            <a:ext cx="845172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COMPOSTI DI INTERESSE FARMACEUTICO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NaCl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eintegratore sodic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Na</a:t>
            </a:r>
            <a:r>
              <a:rPr b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SO</a:t>
            </a:r>
            <a:r>
              <a:rPr b="1" lang="it-IT" sz="1800" spc="-1" strike="noStrike" baseline="-25000">
                <a:solidFill>
                  <a:srgbClr val="ff3300"/>
                </a:solidFill>
                <a:latin typeface="Comic Sans MS"/>
              </a:rPr>
              <a:t>4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purgante drastico per azione irritante sulla mucosa intestinale e           idratante la massa fecale (sale di Glauber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Na</a:t>
            </a:r>
            <a:r>
              <a:rPr b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CO</a:t>
            </a:r>
            <a:r>
              <a:rPr b="1" lang="it-IT" sz="1800" spc="-1" strike="noStrike" baseline="-25000">
                <a:solidFill>
                  <a:srgbClr val="ff3300"/>
                </a:solidFill>
                <a:latin typeface="Comic Sans MS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alcalinizzante in preparazioni farmaceutich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NaHCO</a:t>
            </a:r>
            <a:r>
              <a:rPr b="1" lang="it-IT" sz="1800" spc="-1" strike="noStrike" baseline="-25000">
                <a:solidFill>
                  <a:srgbClr val="ff3300"/>
                </a:solidFill>
                <a:latin typeface="Comic Sans MS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antiacido per via oral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Na</a:t>
            </a:r>
            <a:r>
              <a:rPr b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Hcitrat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anticoagulante ( il citrato chela il calcio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4"/>
          <p:cNvSpPr/>
          <p:nvPr/>
        </p:nvSpPr>
        <p:spPr>
          <a:xfrm>
            <a:off x="1258920" y="59544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POTASSI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6" name="Text Box 5"/>
          <p:cNvSpPr/>
          <p:nvPr/>
        </p:nvSpPr>
        <p:spPr>
          <a:xfrm>
            <a:off x="1042920" y="98100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elemento essenziale (dose media giornaliera 3 g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7" name="Text Box 6"/>
          <p:cNvSpPr/>
          <p:nvPr/>
        </p:nvSpPr>
        <p:spPr>
          <a:xfrm>
            <a:off x="324000" y="1700280"/>
            <a:ext cx="842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ATTIVITA’ BIOLOG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one a concentrazione prevalentemente intracellulare, fondamentale per il biochimismo cellulare (vedi pompa Na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/K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mportante per il normale funzionamento del cuor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324000" y="3284640"/>
            <a:ext cx="830880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COMPOSTI DI INTERESSE FARMACEUTICO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KCl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eintegratore potassic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KAl(SO</a:t>
            </a:r>
            <a:r>
              <a:rPr b="1" lang="it-IT" sz="1800" spc="-1" strike="noStrike" baseline="-25000">
                <a:solidFill>
                  <a:srgbClr val="ff3300"/>
                </a:solidFill>
                <a:latin typeface="Comic Sans MS"/>
              </a:rPr>
              <a:t>4</a:t>
            </a: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)</a:t>
            </a:r>
            <a:r>
              <a:rPr b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allume di rocca): astringente, emostatico ed antisettico per uso estern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324000" y="4869000"/>
            <a:ext cx="836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66"/>
                </a:solidFill>
                <a:latin typeface="Comic Sans MS"/>
              </a:rPr>
              <a:t>EFFETTI TOSSICI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per via ev provoca aritmie, fibrillazione cardiaca ed a dosi elevate arresto del cuore in diastol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0" name=""/>
          <p:cNvGraphicFramePr/>
          <p:nvPr/>
        </p:nvGraphicFramePr>
        <p:xfrm>
          <a:off x="-396720" y="549360"/>
          <a:ext cx="9388440" cy="5989680"/>
        </p:xfrm>
        <a:graphic>
          <a:graphicData uri="http://schemas.openxmlformats.org/drawingml/2006/table">
            <a:tbl>
              <a:tblPr/>
              <a:tblGrid>
                <a:gridCol w="2454120"/>
                <a:gridCol w="6934320"/>
              </a:tblGrid>
              <a:tr h="56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ANION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ATTIVITA’ FARMACOLOGICA E COMPOSTI DI INTERESSE FARMACEUTIC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SOLFAT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Na</a:t>
                      </a:r>
                      <a:r>
                        <a:rPr b="1" lang="it-IT" sz="1600" spc="-1" strike="noStrike" baseline="-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SO</a:t>
                      </a:r>
                      <a:r>
                        <a:rPr b="1" lang="it-IT" sz="1600" spc="-1" strike="noStrike" baseline="-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, MgSO</a:t>
                      </a:r>
                      <a:r>
                        <a:rPr b="1" lang="it-IT" sz="1600" spc="-1" strike="noStrike" baseline="-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: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lassativi e/o purganti osmotici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5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CLORUR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NaCl, CaCl</a:t>
                      </a:r>
                      <a:r>
                        <a:rPr b="1" lang="it-IT" sz="1600" spc="-1" strike="noStrike" baseline="-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, KCl: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integratori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NH</a:t>
                      </a:r>
                      <a:r>
                        <a:rPr b="1" lang="it-IT" sz="1600" spc="-1" strike="noStrike" baseline="-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Cl: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spettorante, mucolitico per irritazione di mucosa respiratoria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artecipa insieme al Na</a:t>
                      </a:r>
                      <a:r>
                        <a:rPr b="0" i="1" lang="it-IT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+</a:t>
                      </a: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alla regolazione della p osmotica e alla trasmissione dell’impulso nervoso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BROMUR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NaBr, KBr, CaBr</a:t>
                      </a:r>
                      <a:r>
                        <a:rPr b="1" lang="it-IT" sz="1600" spc="-1" strike="noStrike" baseline="-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, LiBr: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edativi, antiepilettici ma causano </a:t>
                      </a: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romismo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oggi in disuso)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1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OSSALAT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oni sequestranti il Ca</a:t>
                      </a:r>
                      <a:r>
                        <a:rPr b="0" i="1" lang="it-IT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+</a:t>
                      </a: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(↓CaC</a:t>
                      </a:r>
                      <a:r>
                        <a:rPr b="0" i="1" lang="it-IT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r>
                        <a:rPr b="0" i="1" lang="it-IT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) con conseguente ipocalcemia, calcolosi renale e trombosi vascolar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ACETAT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CH</a:t>
                      </a:r>
                      <a:r>
                        <a:rPr b="1" lang="it-IT" sz="1600" spc="-1" strike="noStrike" baseline="-25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COOH</a:t>
                      </a: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:</a:t>
                      </a: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usato in soluzioni diluite all’1% come antibatterico per uso topico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Acetil-SCoA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mportantissimo intermedio metabolico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4"/>
          <p:cNvSpPr/>
          <p:nvPr/>
        </p:nvSpPr>
        <p:spPr>
          <a:xfrm>
            <a:off x="324000" y="695160"/>
            <a:ext cx="8351640" cy="15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NITRATI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NaNO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e KNO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usati come conservanti negli insaccati per azione ossidante su microrganismi (causano metaemoglobinemia a dosi superiori a quelle fisiologiche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52" name="Object 5"/>
          <p:cNvGraphicFramePr/>
          <p:nvPr/>
        </p:nvGraphicFramePr>
        <p:xfrm>
          <a:off x="5651640" y="2079720"/>
          <a:ext cx="2892240" cy="12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2079720"/>
                    <a:ext cx="2892240" cy="12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Rectangle 7"/>
          <p:cNvSpPr/>
          <p:nvPr/>
        </p:nvSpPr>
        <p:spPr>
          <a:xfrm>
            <a:off x="396720" y="2152800"/>
            <a:ext cx="47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Nitroglicerina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estere nitrico della glicerina) usato come coronaro-dilatatore nei casi di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angina pectoris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395280" y="3916440"/>
            <a:ext cx="8434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NITRITI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usati come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onservanti negli insaccati (cui conferiscono colore rosso vivo), nell’ambiente acido dello stomaco formano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nitrosoammin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sostanze ad elevato potere cancerogeno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R-NH</a:t>
            </a:r>
            <a:r>
              <a:rPr b="0" lang="it-IT" sz="20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 + HNO</a:t>
            </a:r>
            <a:r>
              <a:rPr b="0" lang="it-IT" sz="20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→R-NH-N=O + H</a:t>
            </a:r>
            <a:r>
              <a:rPr b="0" lang="it-IT" sz="20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5"/>
          <p:cNvSpPr/>
          <p:nvPr/>
        </p:nvSpPr>
        <p:spPr>
          <a:xfrm>
            <a:off x="324000" y="404640"/>
            <a:ext cx="8591400" cy="34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 NITRITI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vengono usati nel caso di avvelenamento da CIANURI.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o ione 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N presenta una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fort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ffinità per il Fe con conseguente inattivazione  degli enzimi della catena respiratoria (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citocromo ossidas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 nitrit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anche i nitrati) causano la formazione di metaemoglobina che lega il cianuro. La successiva somministrazione di </a:t>
            </a: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Na</a:t>
            </a:r>
            <a:r>
              <a:rPr b="0" lang="it-IT" sz="18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S</a:t>
            </a:r>
            <a:r>
              <a:rPr b="0" lang="it-IT" sz="18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O</a:t>
            </a:r>
            <a:r>
              <a:rPr b="0" lang="it-IT" sz="1800" spc="-1" strike="noStrike" baseline="-25000">
                <a:solidFill>
                  <a:srgbClr val="ffff66"/>
                </a:solidFill>
                <a:latin typeface="Comic Sans MS"/>
              </a:rPr>
              <a:t>3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orta a formazione del 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CN (molto meno tossico ed eliminabile attraverso le urine) grazie all’enzima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rodanas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0" y="378936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Hb-Fe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8" name="Line 7"/>
          <p:cNvSpPr/>
          <p:nvPr/>
        </p:nvSpPr>
        <p:spPr>
          <a:xfrm>
            <a:off x="1332000" y="4003560"/>
            <a:ext cx="10792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9" name="Line 8"/>
          <p:cNvSpPr/>
          <p:nvPr/>
        </p:nvSpPr>
        <p:spPr>
          <a:xfrm flipV="1">
            <a:off x="2413080" y="3547800"/>
            <a:ext cx="595080" cy="4554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0" name="Line 9"/>
          <p:cNvSpPr/>
          <p:nvPr/>
        </p:nvSpPr>
        <p:spPr>
          <a:xfrm>
            <a:off x="2413080" y="3979800"/>
            <a:ext cx="496800" cy="455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1" name="Text Box 10"/>
          <p:cNvSpPr/>
          <p:nvPr/>
        </p:nvSpPr>
        <p:spPr>
          <a:xfrm>
            <a:off x="2700360" y="328464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Hb-Fe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2" name="Line 11"/>
          <p:cNvSpPr/>
          <p:nvPr/>
        </p:nvSpPr>
        <p:spPr>
          <a:xfrm>
            <a:off x="3995640" y="3571920"/>
            <a:ext cx="1190880" cy="1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4284720" y="3355920"/>
            <a:ext cx="356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rasporto O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4" name="Text Box 13"/>
          <p:cNvSpPr/>
          <p:nvPr/>
        </p:nvSpPr>
        <p:spPr>
          <a:xfrm>
            <a:off x="2556000" y="429264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Hb-Fe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5" name="Line 14"/>
          <p:cNvSpPr/>
          <p:nvPr/>
        </p:nvSpPr>
        <p:spPr>
          <a:xfrm>
            <a:off x="3851280" y="4508640"/>
            <a:ext cx="10796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6" name="Text Box 15"/>
          <p:cNvSpPr/>
          <p:nvPr/>
        </p:nvSpPr>
        <p:spPr>
          <a:xfrm>
            <a:off x="4427640" y="4292640"/>
            <a:ext cx="26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Hb-Fe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-C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7" name="Line 16"/>
          <p:cNvSpPr/>
          <p:nvPr/>
        </p:nvSpPr>
        <p:spPr>
          <a:xfrm>
            <a:off x="6516720" y="450864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7539120" y="4826160"/>
            <a:ext cx="95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9" name="Text Box 18"/>
          <p:cNvSpPr/>
          <p:nvPr/>
        </p:nvSpPr>
        <p:spPr>
          <a:xfrm>
            <a:off x="7020000" y="4292640"/>
            <a:ext cx="2471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CN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+SO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0" name="Text Box 19"/>
          <p:cNvSpPr/>
          <p:nvPr/>
        </p:nvSpPr>
        <p:spPr>
          <a:xfrm>
            <a:off x="2759040" y="51213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CN</a:t>
            </a:r>
            <a:r>
              <a:rPr b="1" lang="it-IT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1" name="Line 20"/>
          <p:cNvSpPr/>
          <p:nvPr/>
        </p:nvSpPr>
        <p:spPr>
          <a:xfrm flipV="1">
            <a:off x="3780000" y="4652640"/>
            <a:ext cx="504720" cy="539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2" name="Line 21"/>
          <p:cNvSpPr/>
          <p:nvPr/>
        </p:nvSpPr>
        <p:spPr>
          <a:xfrm>
            <a:off x="3780000" y="5516640"/>
            <a:ext cx="718920" cy="433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3" name="Text Box 22"/>
          <p:cNvSpPr/>
          <p:nvPr/>
        </p:nvSpPr>
        <p:spPr>
          <a:xfrm>
            <a:off x="324000" y="5877000"/>
            <a:ext cx="35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citocromo</a:t>
            </a:r>
            <a:r>
              <a:rPr b="0" i="1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ossidas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Fe 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4" name="Line 23"/>
          <p:cNvSpPr/>
          <p:nvPr/>
        </p:nvSpPr>
        <p:spPr>
          <a:xfrm flipV="1">
            <a:off x="3348000" y="6093000"/>
            <a:ext cx="1976400" cy="1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5" name="Text Box 24"/>
          <p:cNvSpPr/>
          <p:nvPr/>
        </p:nvSpPr>
        <p:spPr>
          <a:xfrm>
            <a:off x="4622760" y="5877000"/>
            <a:ext cx="48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citocromo ossidas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Fe 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-C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6" name="Oval 25"/>
          <p:cNvSpPr/>
          <p:nvPr/>
        </p:nvSpPr>
        <p:spPr>
          <a:xfrm>
            <a:off x="2771640" y="5084640"/>
            <a:ext cx="1008360" cy="50508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7" name="Text Box 26"/>
          <p:cNvSpPr/>
          <p:nvPr/>
        </p:nvSpPr>
        <p:spPr>
          <a:xfrm>
            <a:off x="1332000" y="4003560"/>
            <a:ext cx="143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con NO</a:t>
            </a:r>
            <a:r>
              <a:rPr b="1" i="1" lang="it-IT" sz="18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1" i="1" lang="it-IT" sz="1800" spc="-1" strike="noStrike" baseline="30000">
                <a:solidFill>
                  <a:srgbClr val="ffff66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8" name="Text Box 27"/>
          <p:cNvSpPr/>
          <p:nvPr/>
        </p:nvSpPr>
        <p:spPr>
          <a:xfrm>
            <a:off x="5940360" y="4581360"/>
            <a:ext cx="201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Na</a:t>
            </a:r>
            <a:r>
              <a:rPr b="1" i="1" lang="it-IT" sz="18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S</a:t>
            </a:r>
            <a:r>
              <a:rPr b="1" i="1" lang="it-IT" sz="18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O</a:t>
            </a:r>
            <a:r>
              <a:rPr b="1" i="1" lang="it-IT" sz="1800" spc="-1" strike="noStrike" baseline="-25000">
                <a:solidFill>
                  <a:srgbClr val="ffff66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9" name="Text Box 28"/>
          <p:cNvSpPr/>
          <p:nvPr/>
        </p:nvSpPr>
        <p:spPr>
          <a:xfrm>
            <a:off x="6227640" y="417204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3333cc"/>
                </a:solidFill>
                <a:latin typeface="Comic Sans MS"/>
              </a:rPr>
              <a:t>rodanasi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990720" y="609480"/>
            <a:ext cx="691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22" name="Group 24"/>
          <p:cNvGrpSpPr/>
          <p:nvPr/>
        </p:nvGrpSpPr>
        <p:grpSpPr>
          <a:xfrm>
            <a:off x="609480" y="1371600"/>
            <a:ext cx="8280360" cy="4249800"/>
            <a:chOff x="609480" y="1371600"/>
            <a:chExt cx="8280360" cy="4249800"/>
          </a:xfrm>
        </p:grpSpPr>
        <p:sp>
          <p:nvSpPr>
            <p:cNvPr id="123" name="Text Box 14"/>
            <p:cNvSpPr/>
            <p:nvPr/>
          </p:nvSpPr>
          <p:spPr>
            <a:xfrm>
              <a:off x="7010280" y="3276720"/>
              <a:ext cx="165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000" spc="-1" strike="noStrike">
                  <a:solidFill>
                    <a:srgbClr val="000000"/>
                  </a:solidFill>
                  <a:latin typeface="Comic Sans MS"/>
                </a:rPr>
                <a:t>tessuti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24" name="Group 21"/>
            <p:cNvGrpSpPr/>
            <p:nvPr/>
          </p:nvGrpSpPr>
          <p:grpSpPr>
            <a:xfrm>
              <a:off x="609480" y="1371600"/>
              <a:ext cx="8280360" cy="4249800"/>
              <a:chOff x="609480" y="1371600"/>
              <a:chExt cx="8280360" cy="4249800"/>
            </a:xfrm>
          </p:grpSpPr>
          <p:sp>
            <p:nvSpPr>
              <p:cNvPr id="125" name="Rectangle 5"/>
              <p:cNvSpPr/>
              <p:nvPr/>
            </p:nvSpPr>
            <p:spPr>
              <a:xfrm>
                <a:off x="2409480" y="1371600"/>
                <a:ext cx="3167280" cy="72072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6" name="Text Box 6"/>
              <p:cNvSpPr/>
              <p:nvPr/>
            </p:nvSpPr>
            <p:spPr>
              <a:xfrm>
                <a:off x="2625480" y="1371600"/>
                <a:ext cx="2808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2000" spc="-1" strike="noStrike">
                    <a:solidFill>
                      <a:srgbClr val="000000"/>
                    </a:solidFill>
                    <a:latin typeface="Comic Sans MS"/>
                  </a:rPr>
                  <a:t>Sito di somministrazione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7" name="Line 7"/>
              <p:cNvSpPr/>
              <p:nvPr/>
            </p:nvSpPr>
            <p:spPr>
              <a:xfrm>
                <a:off x="3920760" y="2235240"/>
                <a:ext cx="0" cy="792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8" name="Rectangle 8"/>
              <p:cNvSpPr/>
              <p:nvPr/>
            </p:nvSpPr>
            <p:spPr>
              <a:xfrm>
                <a:off x="2914560" y="3171960"/>
                <a:ext cx="2087280" cy="504720"/>
              </a:xfrm>
              <a:prstGeom prst="rect">
                <a:avLst/>
              </a:prstGeom>
              <a:noFill/>
              <a:ln w="255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9" name="Text Box 9"/>
              <p:cNvSpPr/>
              <p:nvPr/>
            </p:nvSpPr>
            <p:spPr>
              <a:xfrm>
                <a:off x="3128760" y="3243240"/>
                <a:ext cx="165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2000" spc="-1" strike="noStrike">
                    <a:solidFill>
                      <a:srgbClr val="000000"/>
                    </a:solidFill>
                    <a:latin typeface="Comic Sans MS"/>
                  </a:rPr>
                  <a:t>plasma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0" name="Line 10"/>
              <p:cNvSpPr/>
              <p:nvPr/>
            </p:nvSpPr>
            <p:spPr>
              <a:xfrm>
                <a:off x="5144760" y="3532320"/>
                <a:ext cx="1513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1" name="Line 11"/>
              <p:cNvSpPr/>
              <p:nvPr/>
            </p:nvSpPr>
            <p:spPr>
              <a:xfrm flipH="1">
                <a:off x="5144400" y="3387600"/>
                <a:ext cx="1368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2" name="Rectangle 12"/>
              <p:cNvSpPr/>
              <p:nvPr/>
            </p:nvSpPr>
            <p:spPr>
              <a:xfrm>
                <a:off x="6802200" y="3243240"/>
                <a:ext cx="2087640" cy="504720"/>
              </a:xfrm>
              <a:prstGeom prst="rect">
                <a:avLst/>
              </a:prstGeom>
              <a:noFill/>
              <a:ln w="255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3" name="Text Box 13"/>
              <p:cNvSpPr/>
              <p:nvPr/>
            </p:nvSpPr>
            <p:spPr>
              <a:xfrm>
                <a:off x="6945120" y="3316320"/>
                <a:ext cx="16556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4" name="Text Box 15"/>
              <p:cNvSpPr/>
              <p:nvPr/>
            </p:nvSpPr>
            <p:spPr>
              <a:xfrm>
                <a:off x="1112400" y="2451240"/>
                <a:ext cx="28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2000" spc="-1" strike="noStrike">
                    <a:solidFill>
                      <a:srgbClr val="ff5050"/>
                    </a:solidFill>
                    <a:latin typeface="Comic Sans MS"/>
                  </a:rPr>
                  <a:t>1. ASSORBIMENTO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5" name="Text Box 16"/>
              <p:cNvSpPr/>
              <p:nvPr/>
            </p:nvSpPr>
            <p:spPr>
              <a:xfrm>
                <a:off x="4568400" y="2846520"/>
                <a:ext cx="288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2000" spc="-1" strike="noStrike">
                    <a:solidFill>
                      <a:srgbClr val="66ff33"/>
                    </a:solidFill>
                    <a:latin typeface="Comic Sans MS"/>
                  </a:rPr>
                  <a:t>2. DISTRIBUZIONE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6" name="Line 17"/>
              <p:cNvSpPr/>
              <p:nvPr/>
            </p:nvSpPr>
            <p:spPr>
              <a:xfrm>
                <a:off x="3920760" y="3892680"/>
                <a:ext cx="0" cy="93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7" name="Rectangle 18"/>
              <p:cNvSpPr/>
              <p:nvPr/>
            </p:nvSpPr>
            <p:spPr>
              <a:xfrm>
                <a:off x="2698560" y="5116320"/>
                <a:ext cx="2519280" cy="505080"/>
              </a:xfrm>
              <a:prstGeom prst="rect">
                <a:avLst/>
              </a:prstGeom>
              <a:noFill/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8" name="Text Box 19"/>
              <p:cNvSpPr/>
              <p:nvPr/>
            </p:nvSpPr>
            <p:spPr>
              <a:xfrm>
                <a:off x="2984400" y="5187960"/>
                <a:ext cx="201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2000" spc="-1" strike="noStrike">
                    <a:solidFill>
                      <a:srgbClr val="000000"/>
                    </a:solidFill>
                    <a:latin typeface="Comic Sans MS"/>
                  </a:rPr>
                  <a:t>feci, urine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9" name="Text Box 20"/>
              <p:cNvSpPr/>
              <p:nvPr/>
            </p:nvSpPr>
            <p:spPr>
              <a:xfrm>
                <a:off x="609480" y="3963960"/>
                <a:ext cx="3095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2000" spc="-1" strike="noStrike">
                    <a:solidFill>
                      <a:srgbClr val="ffff66"/>
                    </a:solidFill>
                    <a:latin typeface="Comic Sans MS"/>
                  </a:rPr>
                  <a:t>3. METABOLISMO ED ESCREZIONE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40" name="Text Box 23"/>
          <p:cNvSpPr/>
          <p:nvPr/>
        </p:nvSpPr>
        <p:spPr>
          <a:xfrm>
            <a:off x="1295280" y="304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66"/>
                </a:solidFill>
                <a:latin typeface="Comic Sans MS"/>
              </a:rPr>
              <a:t>TOSSICOCINETICA 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4"/>
          <p:cNvSpPr/>
          <p:nvPr/>
        </p:nvSpPr>
        <p:spPr>
          <a:xfrm>
            <a:off x="423720" y="436680"/>
            <a:ext cx="84139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CARBONAT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HCO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/H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, più importante sistema tampone fisiologic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      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ermette controllo respiratorio del pH ematic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1" name="Text Box 5"/>
          <p:cNvSpPr/>
          <p:nvPr/>
        </p:nvSpPr>
        <p:spPr>
          <a:xfrm>
            <a:off x="457200" y="1371600"/>
            <a:ext cx="849636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IODUR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NaI, KI usati nelle disfunzioni tiroidee e quali espettoranti e mucolitici; I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utilizzato per la sintesi di ormoni tiroidei T4 (tiroxina) e T3 (triiodotironina) fondamentali per metabolism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82" name="Object 0"/>
          <p:cNvGraphicFramePr/>
          <p:nvPr/>
        </p:nvGraphicFramePr>
        <p:xfrm>
          <a:off x="755640" y="2565360"/>
          <a:ext cx="7488360" cy="163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565360"/>
                    <a:ext cx="7488360" cy="16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Text Box 8"/>
          <p:cNvSpPr/>
          <p:nvPr/>
        </p:nvSpPr>
        <p:spPr>
          <a:xfrm>
            <a:off x="539640" y="4678200"/>
            <a:ext cx="8496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CIANUR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elevata tossicità (dose letale media HCN 50-100 mg; KCN: 130-200 mg) dovuta a forte affinità per F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→ inattivazione enzimi catena respiratoria (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itocromo ossidas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tidoti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o(NO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, nitriti e tiosolfati alcalini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838080" y="762120"/>
            <a:ext cx="72392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42" name="Group 8"/>
          <p:cNvGrpSpPr/>
          <p:nvPr/>
        </p:nvGrpSpPr>
        <p:grpSpPr>
          <a:xfrm>
            <a:off x="990720" y="838080"/>
            <a:ext cx="7162560" cy="5410080"/>
            <a:chOff x="990720" y="838080"/>
            <a:chExt cx="7162560" cy="5410080"/>
          </a:xfrm>
        </p:grpSpPr>
        <p:pic>
          <p:nvPicPr>
            <p:cNvPr id="143" name="Picture 4" descr="Cinetica"/>
            <p:cNvPicPr/>
            <p:nvPr/>
          </p:nvPicPr>
          <p:blipFill>
            <a:blip r:embed="rId1"/>
            <a:stretch/>
          </p:blipFill>
          <p:spPr>
            <a:xfrm>
              <a:off x="990720" y="838080"/>
              <a:ext cx="7162560" cy="538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Rectangle 6"/>
            <p:cNvSpPr/>
            <p:nvPr/>
          </p:nvSpPr>
          <p:spPr>
            <a:xfrm>
              <a:off x="990720" y="838080"/>
              <a:ext cx="7162560" cy="5410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45" name="Text Box 7"/>
          <p:cNvSpPr/>
          <p:nvPr/>
        </p:nvSpPr>
        <p:spPr>
          <a:xfrm>
            <a:off x="1905120" y="304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66"/>
                </a:solidFill>
                <a:latin typeface="Comic Sans MS"/>
              </a:rPr>
              <a:t>TOSSICOCINETICA I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1116000" y="307800"/>
            <a:ext cx="71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66"/>
                </a:solidFill>
                <a:latin typeface="Comic Sans MS"/>
              </a:rPr>
              <a:t>ASSORBIMENT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324000" y="1197000"/>
            <a:ext cx="83516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Assorbimento dopo somministrazione per os: stomaco ed intestin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Dipende da vari fattori quali: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il flusso ematico nel sito di assorbimento,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superficie totale disponibile per l’assorbimento,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tempo di contatto con la superficie assorbente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24000" y="3789360"/>
            <a:ext cx="8569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assorbimento può avvenire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per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</a:rPr>
              <a:t>diffusione passiva semplice,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per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</a:rPr>
              <a:t>diffusione facilitata (carriers proteici),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per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</a:rPr>
              <a:t>trasporto attivo (carriers proteici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9" name="Picture 7" descr="membrana"/>
          <p:cNvPicPr/>
          <p:nvPr/>
        </p:nvPicPr>
        <p:blipFill>
          <a:blip r:embed="rId1"/>
          <a:stretch/>
        </p:blipFill>
        <p:spPr>
          <a:xfrm>
            <a:off x="5508720" y="3213000"/>
            <a:ext cx="3238560" cy="3003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0" name="Line 8"/>
          <p:cNvSpPr/>
          <p:nvPr/>
        </p:nvSpPr>
        <p:spPr>
          <a:xfrm>
            <a:off x="6443640" y="2852640"/>
            <a:ext cx="216000" cy="2016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Line 9"/>
          <p:cNvSpPr/>
          <p:nvPr/>
        </p:nvSpPr>
        <p:spPr>
          <a:xfrm>
            <a:off x="7093080" y="2781360"/>
            <a:ext cx="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2" name="Picture 19" descr="farmaco"/>
          <p:cNvPicPr/>
          <p:nvPr/>
        </p:nvPicPr>
        <p:blipFill>
          <a:blip r:embed="rId2"/>
          <a:stretch/>
        </p:blipFill>
        <p:spPr>
          <a:xfrm>
            <a:off x="6823080" y="2205000"/>
            <a:ext cx="485640" cy="485640"/>
          </a:xfrm>
          <a:prstGeom prst="rect">
            <a:avLst/>
          </a:prstGeom>
          <a:ln w="0">
            <a:noFill/>
          </a:ln>
        </p:spPr>
      </p:pic>
      <p:sp>
        <p:nvSpPr>
          <p:cNvPr id="153" name="Line 20"/>
          <p:cNvSpPr/>
          <p:nvPr/>
        </p:nvSpPr>
        <p:spPr>
          <a:xfrm>
            <a:off x="7885080" y="2421000"/>
            <a:ext cx="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4" name="Picture 21" descr="farmaco"/>
          <p:cNvPicPr/>
          <p:nvPr/>
        </p:nvPicPr>
        <p:blipFill>
          <a:blip r:embed="rId3"/>
          <a:stretch/>
        </p:blipFill>
        <p:spPr>
          <a:xfrm>
            <a:off x="7667640" y="1844640"/>
            <a:ext cx="48564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9T08:16:16Z</dcterms:created>
  <dc:creator>Ilaria &amp; Vera</dc:creator>
  <dc:description/>
  <dc:language>en-US</dc:language>
  <cp:lastModifiedBy>Sergio  Valente</cp:lastModifiedBy>
  <dcterms:modified xsi:type="dcterms:W3CDTF">2018-12-19T07:44:42Z</dcterms:modified>
  <cp:revision>234</cp:revision>
  <dc:subject/>
  <dc:title>Presentazione di PowerPoint</dc:title>
</cp:coreProperties>
</file>