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5.jpeg" ContentType="image/jpeg"/>
  <Override PartName="/ppt/media/image43.png" ContentType="image/png"/>
  <Override PartName="/ppt/media/image54.wmf" ContentType="image/x-wmf"/>
  <Override PartName="/ppt/media/image53.wmf" ContentType="image/x-wmf"/>
  <Override PartName="/ppt/media/image51.jpeg" ContentType="image/jpeg"/>
  <Override PartName="/ppt/media/image49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3.jpeg" ContentType="image/jpeg"/>
  <Override PartName="/ppt/media/image28.wmf" ContentType="image/x-wmf"/>
  <Override PartName="/ppt/media/image62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26.wmf" ContentType="image/x-wmf"/>
  <Override PartName="/ppt/media/image9.png" ContentType="image/png"/>
  <Override PartName="/ppt/media/image22.jpeg" ContentType="image/jpeg"/>
  <Override PartName="/ppt/media/image24.jpeg" ContentType="image/jpeg"/>
  <Override PartName="/ppt/media/image52.wmf" ContentType="image/x-wmf"/>
  <Override PartName="/ppt/media/image23.jpeg" ContentType="image/jpeg"/>
  <Override PartName="/ppt/media/image46.jpeg" ContentType="image/jpeg"/>
  <Override PartName="/ppt/media/image15.wmf" ContentType="image/x-wmf"/>
  <Override PartName="/ppt/media/image66.wmf" ContentType="image/x-wmf"/>
  <Override PartName="/ppt/media/image19.wmf" ContentType="image/x-wmf"/>
  <Override PartName="/ppt/media/image61.wmf" ContentType="image/x-wmf"/>
  <Override PartName="/ppt/media/image65.wmf" ContentType="image/x-wmf"/>
  <Override PartName="/ppt/media/image42.jpeg" ContentType="image/jpeg"/>
  <Override PartName="/ppt/media/image64.png" ContentType="image/png"/>
  <Override PartName="/ppt/media/image16.wmf" ContentType="image/x-wmf"/>
  <Override PartName="/ppt/media/image27.wmf" ContentType="image/x-wmf"/>
  <Override PartName="/ppt/media/image14.wmf" ContentType="image/x-wmf"/>
  <Override PartName="/ppt/media/image57.png" ContentType="image/png"/>
  <Override PartName="/ppt/media/image18.wmf" ContentType="image/x-wmf"/>
  <Override PartName="/ppt/media/image21.jpeg" ContentType="image/jpeg"/>
  <Override PartName="/ppt/media/image63.wmf" ContentType="image/x-wmf"/>
  <Override PartName="/ppt/media/image20.wmf" ContentType="image/x-wmf"/>
  <Override PartName="/ppt/media/image7.jpeg" ContentType="image/jpeg"/>
  <Override PartName="/ppt/media/image38.jpeg" ContentType="image/jpeg"/>
  <Override PartName="/ppt/media/image11.png" ContentType="image/png"/>
  <Override PartName="/ppt/media/image6.jpeg" ContentType="image/jpeg"/>
  <Override PartName="/ppt/media/image12.wmf" ContentType="image/x-wmf"/>
  <Override PartName="/ppt/media/image5.wmf" ContentType="image/x-wmf"/>
  <Override PartName="/ppt/media/image17.wmf" ContentType="image/x-wmf"/>
  <Override PartName="/ppt/media/image29.jpeg" ContentType="image/jpeg"/>
  <Override PartName="/ppt/media/image8.jpeg" ContentType="image/jpeg"/>
  <Override PartName="/ppt/media/image41.wmf" ContentType="image/x-wmf"/>
  <Override PartName="/ppt/media/image56.png" ContentType="image/png"/>
  <Override PartName="/ppt/media/image13.wmf" ContentType="image/x-wmf"/>
  <Override PartName="/ppt/media/image58.jpeg" ContentType="image/jpeg"/>
  <Override PartName="/ppt/media/image30.wmf" ContentType="image/x-wmf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4.wmf" ContentType="image/x-wmf"/>
  <Override PartName="/ppt/media/image35.png" ContentType="image/png"/>
  <Override PartName="/ppt/media/image36.wmf" ContentType="image/x-wmf"/>
  <Override PartName="/ppt/media/image25.wmf" ContentType="image/x-wmf"/>
  <Override PartName="/ppt/media/image47.jpeg" ContentType="image/jpeg"/>
  <Override PartName="/ppt/media/image39.wmf" ContentType="image/x-wmf"/>
  <Override PartName="/ppt/media/image60.wmf" ContentType="image/x-wmf"/>
  <Override PartName="/ppt/media/image44.jpeg" ContentType="image/jpeg"/>
  <Override PartName="/ppt/media/image45.png" ContentType="image/png"/>
  <Override PartName="/ppt/media/image4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77F1-9DCE-4111-A9A5-5B6D9F30D36F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C236-9138-49D0-9798-1C6730A335C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CCCE-1230-45BF-A2EF-AB50FF7972E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E629-4DED-4F74-89DB-8DE850F2C85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BDBC-CB3D-4499-AB20-E8347D2E385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B7CD-5FF8-4C30-8E00-B3716CFD0B0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403E-DBAA-4844-9E0F-94996692A3F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C1FB-57B5-4A84-88C4-56D7A3C77C0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76D0-85D7-44AF-91E5-EB57B176FBE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CC26-F660-4AB6-B32B-C0DEC3A1F9E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BA0E-A0FA-44B5-B429-2E56C92E23A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9C00-F44A-4F7E-B1EA-59743F3C577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F2C8-4673-4283-B463-31B54888029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0578-8098-4BE1-88B5-61739F58595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ECE4-B59B-49D0-A974-EB4EADACCBF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B48C-267E-4582-A45B-F9FF977FD4A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D96B-0F1F-4C1B-AA88-15088308AF3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47EE-A27B-4066-8068-0AC9B0DBCA6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BBA8-D0BC-43CE-800C-089641D546A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B801-E28A-41F7-9741-2D5B17E3100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E23A-761F-45A9-B4C7-0E60BE10423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3BEB-3174-47E1-87EE-9FB4FFA55C9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1609-6370-4303-8C60-4F617E43F50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CC3D-CB26-4982-BED2-4A36D9ED4B5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4D81-ACEF-435A-B9EF-6B8F2408700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5BBA-1724-43AE-AB5A-FD55F2EB69E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D421-8AB4-4E6F-A6B0-8AD2DCD8FB6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D6B6-2356-424D-9528-05E25B9B685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8E10-1DD6-4861-8E0B-FDE5D629685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281B-C8A3-4B06-ADE8-BE3F6200BC5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2C5-D073-4565-AD85-827A0C52DEA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A822-12E0-4843-AFE5-59568CAB1DA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E526-CF3F-4A8D-A326-3E0079871AD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74E9-7E11-47D9-BFE6-DE625820E34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9D45-9C3E-4431-86EA-AB2CF3AFE7C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251D-CB0D-4900-88E0-A57EEC4EE2A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7594-805D-491E-98A7-97B6E18D5CF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27F2-3AE8-4A62-8B17-27F47FAEA2C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E1F2-F886-41E7-9B5C-7FE618BD5FD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FF4A-D2BE-4B6E-AC9C-0E816040DAE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DC64-0555-4697-932B-4EBA65E27AE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FAFE-5D60-4F9C-9293-8E3516ADFC1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79F6-C74C-43EC-94DD-E4D9D58C10B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0E2B-3FAA-40F0-95C9-84E4BE4C036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62BC-D449-4F5B-87E3-06ADBAB6EE2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1BAC-C5E0-4B78-9528-C2149DB46F4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A217-8C65-41C9-B227-8B62E368417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0CAB-16AA-4C65-B68E-C0612D07366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B528-755E-41A6-AE36-6AD1B5FA1F1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DADD-C3F0-42CB-A740-43B643E00EA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1D55-E004-4B6A-9631-5738F8B0454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1BA-E5E2-4965-AD40-F8541FCA160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5736-557C-4A60-B2F1-24B46E2ABD6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9E77-9576-4AEE-879C-81E6E5E7AE1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982E-CA64-4BB2-8AEA-037661B4821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08D6-0C24-4B2B-902B-9FC2287ED1E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FE8E-837E-42F9-8471-D919D009D3A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463F-AFD0-4E4F-9B96-4954D55F3DF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3AAD-35E6-46F9-A956-EF91CD5F6DD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14BB-339C-4B07-A426-71D59BA6642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CA79-FF94-49D4-8F3D-F5AE5CC0512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C6A2-B0F8-4618-9078-DE2E740CA28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C6AA-601D-41C9-9D6C-3CBB6508AE1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DF17-2017-4763-B129-356C304C216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D040-8EA4-4704-BE80-78416BF0C0A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11B6-4ABE-4CA0-8976-D7C011EAB93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77DA-48B6-457A-B794-BCC88C0E62F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37A3-9532-4683-B059-E6DFB337D39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FC78-FE4E-4E05-9E6B-80504DDED4B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D4F9-5BB0-4552-BE8F-F2CDA4CEF69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96F0-56F1-402C-85F7-47515155722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0EE-2123-4EDE-8D49-1952F66A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C91-E07A-4022-AD36-E365830C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7B6-1FE8-4508-B9DF-435BEB05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A37-89C1-43BD-9CF8-CBD0F99F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E9E1-B81A-489A-B9C0-F47C7CF7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207C-EE39-403C-ADDF-EF3218E9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BDB4-29EC-4950-A25D-DD1E5EE7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D575-0B2F-4065-B9FC-D70BAA87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F438-D051-4333-BAFD-82EA4F7C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69B7-49AC-4E5D-9E0A-70BAA444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DE77-A64F-46B7-9607-55BD955F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E2C-AF34-45FB-BC4D-2C7F825F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F307-EB04-4FB5-8398-639ECEEB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BFD2-419F-4651-BC72-D007334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1BF6-2F43-45DD-840E-ECD489E7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8D13-AE53-461D-9162-50AFBEE7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67B3-1252-4699-9161-5B056DD3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FE7-4532-417F-91FD-DF440B81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512-F740-45F3-AB8D-79A12E76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FB4-9517-4B4F-B6E3-2A8198B2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4F9-0084-4206-B64A-031C8584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546-F19F-44E8-942C-DDA59DC1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3F6-A7BE-4502-B873-499E273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BE1-F6D9-42C9-B1EA-5A5CC035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a1b5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ECED-3D3E-4861-83BA-4D7F0EBE23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50000">
              <a:srgbClr val="e0e8f8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BA3D-424B-4D86-832B-D46F9A3381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62080" y="2349360"/>
            <a:ext cx="8574120" cy="25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himica Farmaceutica e Tossicologica dei Composti Inorganici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orso di Laurea in CTF (A-L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Dr. Sergio Valen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-5724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9640" y="549360"/>
            <a:ext cx="8223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Farmaci/tossici fortemente idrofili poiché carichi o insolubili non sono attivi per os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-tubocurarina e BaSO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6" descr="File:Tubocurarine.svg"/>
          <p:cNvPicPr/>
          <p:nvPr/>
        </p:nvPicPr>
        <p:blipFill>
          <a:blip r:embed="rId1"/>
          <a:stretch/>
        </p:blipFill>
        <p:spPr>
          <a:xfrm>
            <a:off x="485640" y="2041560"/>
            <a:ext cx="4000680" cy="27050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5"/>
          <p:cNvSpPr/>
          <p:nvPr/>
        </p:nvSpPr>
        <p:spPr>
          <a:xfrm>
            <a:off x="2208240" y="5046840"/>
            <a:ext cx="4675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-tubocurarina (curaro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Miorilassante attivo solo per e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8" descr="File:Tubocurarine-3D-sticks.png"/>
          <p:cNvPicPr/>
          <p:nvPr/>
        </p:nvPicPr>
        <p:blipFill>
          <a:blip r:embed="rId2"/>
          <a:stretch/>
        </p:blipFill>
        <p:spPr>
          <a:xfrm>
            <a:off x="4875120" y="1820880"/>
            <a:ext cx="38293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533520" y="304920"/>
            <a:ext cx="784836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via respiratoria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ssorbimento rapido grazie all’ampia superficie ed elevata irrorazione delle membrane alveolo-capillari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olti metalli vengono inalati sotto forma di aerosol (intossicazioni industrial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Hg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tisifilitico-sifilide, da treponema pallidum-XV secol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ra somministrato attraverso inalaz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avi intossicazion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cuni farmaci vengono somministrati per via inalatoria (anestetici generali volatili, broncodilatatori e cortisonici nell’asma e nitrito di amil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9640" y="3887640"/>
            <a:ext cx="8064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pell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la pelle è un tessuto di protezione poco favorevole alla penetrazione dei tossic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però permeabile a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alle sostanz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ipofi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lubili nei lipid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39640" y="514980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esioni di continuità della cute alterano profondamente l’assorbimento attraverso di ess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84360" y="476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DISTRIBU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1268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a volta assorbito il tossico si distribuisce nei vari tessut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distribuzione dipend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vascolarizzazion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ffinità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 tessuto per quel determinato to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39640" y="270828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organi nei quali i tossici si localizzano più frequentemente son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(Pb, Hg, Cu, A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N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Pb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rene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d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39640" y="436572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localizzazione del tossico dipende anche dal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ipo di 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acuta o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Esempio del Pb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fegato e re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ghie, peli, capelli, saliv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: essendo la funzionalità renale alterata, il tossico non viene più eliminato con le urine ma attraverso nuove vi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611280" y="333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ETABOLIS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4360" y="1125360"/>
            <a:ext cx="777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24000" y="968400"/>
            <a:ext cx="83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armaco/tossico può subire una serie di trasformazioni chimiche all’interno dell’organismo che vanno sotto il nome di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etabolism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4920" y="17524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este reazioni di biotrasformazione sono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enzimatiche, non enzimatiche (spontanee) o post-enzima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d avvengono prevalentemente a livello del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85264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o scopo è quello di formare metaboliti più facilmente eliminabili attraverso gli organi emunt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3733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1" i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1584360" y="4162320"/>
            <a:ext cx="1800360" cy="122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0" y="4876920"/>
            <a:ext cx="26668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Reazioni di fase 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(funzionalizz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317760" y="4632480"/>
            <a:ext cx="20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ttiv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mmodificato o inattivato ma comunque generalmente leggermente più po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5364000" y="4343400"/>
            <a:ext cx="2027520" cy="9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451640" y="33638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 generalmente inattivo e comunque più polare escreto con le ur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4648320" y="3754440"/>
            <a:ext cx="2438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(coniug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324000" y="5300640"/>
            <a:ext cx="7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468360" y="496800"/>
            <a:ext cx="813600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Reazioni di fase 1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hanno lo scopo di trasformare molecole lipofile in molecole più polari/idrofile attravers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’introduzione o lo smascheramento di gruppi funzionali pola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-OH, -NH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-COOH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82680" y="1847880"/>
            <a:ext cx="835344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ono reazioni di fase 1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ossida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893880" y="3192480"/>
          <a:ext cx="4789440" cy="15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3192480"/>
                    <a:ext cx="478944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1057320" y="5318280"/>
          <a:ext cx="6408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5318280"/>
                    <a:ext cx="6408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9528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ridu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7" name="Object 0"/>
          <p:cNvGraphicFramePr/>
          <p:nvPr/>
        </p:nvGraphicFramePr>
        <p:xfrm>
          <a:off x="1596960" y="1393920"/>
          <a:ext cx="554364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1393920"/>
                    <a:ext cx="55436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7"/>
          <p:cNvSpPr/>
          <p:nvPr/>
        </p:nvSpPr>
        <p:spPr>
          <a:xfrm>
            <a:off x="539640" y="33577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idrolis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0" name="Object 1"/>
          <p:cNvGraphicFramePr/>
          <p:nvPr/>
        </p:nvGraphicFramePr>
        <p:xfrm>
          <a:off x="1711440" y="4454640"/>
          <a:ext cx="3998880" cy="15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1440" y="4454640"/>
                    <a:ext cx="39988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7040" y="0"/>
            <a:ext cx="8456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no reazioni di coniugazione. I metaboliti di fase I vengono coniugati con substrati endogeni altamente polari come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cido glucuronico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glutatione, solfato ed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minoacid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 prodotti di coniugazione sono generalmente più idrosolubili e più facilmente escreti nelle urine e/o nella bile rispetto ai loro precurs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539640" y="2155680"/>
            <a:ext cx="8425080" cy="4442040"/>
            <a:chOff x="539640" y="2155680"/>
            <a:chExt cx="8425080" cy="4442040"/>
          </a:xfrm>
        </p:grpSpPr>
        <p:graphicFrame>
          <p:nvGraphicFramePr>
            <p:cNvPr id="194" name="Object 5"/>
            <p:cNvGraphicFramePr/>
            <p:nvPr/>
          </p:nvGraphicFramePr>
          <p:xfrm>
            <a:off x="2013120" y="2155680"/>
            <a:ext cx="3892320" cy="158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13120" y="2155680"/>
                      <a:ext cx="3892320" cy="158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Line 6"/>
            <p:cNvSpPr/>
            <p:nvPr/>
          </p:nvSpPr>
          <p:spPr>
            <a:xfrm flipH="1">
              <a:off x="2916000" y="3597120"/>
              <a:ext cx="165708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5219640" y="3597120"/>
              <a:ext cx="13683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98" name="Object 8"/>
            <p:cNvGraphicFramePr/>
            <p:nvPr/>
          </p:nvGraphicFramePr>
          <p:xfrm>
            <a:off x="2268360" y="4029120"/>
            <a:ext cx="1297080" cy="68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4029120"/>
                      <a:ext cx="129708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9"/>
            <p:cNvGraphicFramePr/>
            <p:nvPr/>
          </p:nvGraphicFramePr>
          <p:xfrm>
            <a:off x="1692360" y="5037120"/>
            <a:ext cx="1650960" cy="1558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92360" y="5037120"/>
                      <a:ext cx="165096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Text Box 10"/>
            <p:cNvSpPr/>
            <p:nvPr/>
          </p:nvSpPr>
          <p:spPr>
            <a:xfrm>
              <a:off x="539640" y="43894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3300"/>
                  </a:solidFill>
                  <a:latin typeface="Comic Sans MS"/>
                </a:rPr>
                <a:t>Coniugazione con la glicina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203" name="Object 11"/>
            <p:cNvGraphicFramePr/>
            <p:nvPr/>
          </p:nvGraphicFramePr>
          <p:xfrm>
            <a:off x="6227640" y="5030640"/>
            <a:ext cx="1657440" cy="15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27640" y="5030640"/>
                      <a:ext cx="1657440" cy="15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2"/>
            <p:cNvGraphicFramePr/>
            <p:nvPr/>
          </p:nvGraphicFramePr>
          <p:xfrm>
            <a:off x="6300720" y="3381480"/>
            <a:ext cx="830160" cy="12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00720" y="3381480"/>
                      <a:ext cx="83016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Text Box 13"/>
            <p:cNvSpPr/>
            <p:nvPr/>
          </p:nvSpPr>
          <p:spPr>
            <a:xfrm>
              <a:off x="6948360" y="3933720"/>
              <a:ext cx="201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66"/>
                  </a:solidFill>
                  <a:latin typeface="Comic Sans MS"/>
                </a:rPr>
                <a:t>Coniugazione con l’acido glucuronico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ase2"/>
          <p:cNvPicPr/>
          <p:nvPr/>
        </p:nvPicPr>
        <p:blipFill>
          <a:blip r:embed="rId1"/>
          <a:stretch/>
        </p:blipFill>
        <p:spPr>
          <a:xfrm>
            <a:off x="1371600" y="838080"/>
            <a:ext cx="6400800" cy="5826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1371600" y="838080"/>
            <a:ext cx="640080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OFATTORI DI CONIUGA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Glu"/>
          <p:cNvPicPr/>
          <p:nvPr/>
        </p:nvPicPr>
        <p:blipFill>
          <a:blip r:embed="rId1"/>
          <a:stretch/>
        </p:blipFill>
        <p:spPr>
          <a:xfrm>
            <a:off x="5257800" y="22860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52280" y="12193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66"/>
                </a:solidFill>
                <a:latin typeface="Comic Sans MS"/>
              </a:rPr>
              <a:t>ESEMPIO DI COMPLESSITA’ DEL METABOLISMO DI FASE 2: GLUTATIONOCONIUGAZIONE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257800" y="228600"/>
            <a:ext cx="327672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6112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VVELENAMENTO DA METALLI PESANT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419120"/>
            <a:ext cx="815328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enti stimolatori (non essenziali)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e di assorbimento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alatoria e cutanea (intossicazione industriale), gastroenterica (intossicazione non industrial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80880" y="3581280"/>
            <a:ext cx="843912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Intossicazion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ut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(singola esposizione di durata relativamente breve a dosi elevate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gastrointestinali (nausea, vomito, diarrea, dolori addominali), segni particolari quali orletto gengivale nero (PbS) o pelle grigio-nerastra (Ag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), peraltro riscontrabili anche in quelle croniche. Manifestazioni patologiche specif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700200" y="83664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g, Pb, Hg, As, Sb, Bi, C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04920" y="5258520"/>
            <a:ext cx="82962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ingestione di alimenti contaminati: nausea, vomito, diarrea; per inalazione di vapori di Cd (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fumo di sigarette è una delle principali fonti non occupaziona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 fumator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hanno una concentrazione ematica di Cd   4-5 volte maggior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: irritazione locale, asma, polmonite acuta ed edema polmonar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04920" y="2514600"/>
            <a:ext cx="85150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O GENERALE DELL’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gli ioni dei metalli pesanti interagiscono con  gruppi nucleofili (in particolare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H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delle proteine (soprattutto enzimi) inattivandole e alterando il biochimismo fisiologico cellulare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685800" y="533520"/>
            <a:ext cx="8001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MEDICINA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FU): ogni sostanza o composizion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entata come avente proprietà curative o profilattiche delle malattie umane ed animali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 somministrare all’uomo o all’animale allo scopo di stabilire una diagnosi o di ripristinare, correggere o modificare funzioni organiche dell’uomo o dell’animal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685800" y="32004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FARMA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qualsiasi sostanza in grado di indurre, attraverso le sue azioni chimico-fisiche, modifiche nelle funzioni biologich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685800" y="4267080"/>
            <a:ext cx="7924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VELENO/TOSSIC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enso comune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lunque agente che, a dosi relativamente piccole e spesso senza effetti subito appariscenti, sia capace  di produrre delle risposte dannose in un sistema biologico alterandone seriamente le funzioni o producendone  talvolta anche la mort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6"/>
          <p:cNvSpPr/>
          <p:nvPr/>
        </p:nvSpPr>
        <p:spPr>
          <a:xfrm>
            <a:off x="457200" y="5257800"/>
            <a:ext cx="83948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gedia di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nam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ig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1950): intossicazione per ingestione pesce contaminato d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Hg(Me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MeHg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amente liposolubile, risale la catena alimentare);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raq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ereali inquinati da composti mercuriali ad attività anticrittogamica): morte, cecità, malformazioni fetali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1" name="Picture 1027" descr="Catena_2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029"/>
          <p:cNvSpPr/>
          <p:nvPr/>
        </p:nvSpPr>
        <p:spPr>
          <a:xfrm>
            <a:off x="2556000" y="83664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1030"/>
          <p:cNvSpPr/>
          <p:nvPr/>
        </p:nvSpPr>
        <p:spPr>
          <a:xfrm>
            <a:off x="2484360" y="765000"/>
            <a:ext cx="35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1032"/>
          <p:cNvSpPr/>
          <p:nvPr/>
        </p:nvSpPr>
        <p:spPr>
          <a:xfrm>
            <a:off x="324000" y="33336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ronica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(esposizioni ripetute nel tempo a dosi relativamente basse)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34"/>
          <p:cNvSpPr/>
          <p:nvPr/>
        </p:nvSpPr>
        <p:spPr>
          <a:xfrm>
            <a:off x="380880" y="609480"/>
            <a:ext cx="84981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IOMBO,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SATURN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sposizione occupazionale per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inatori, operai di fabbriche di vernici (PbCr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di industrie chimiche, di tipografie, addetti alla distribuzione delle benzine super ([Pb(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] utilizzato come antidetonant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intomi più frequenti: astenia, anoressia, cefalea, anemia, pallore della cute, orletto gengivale nero (Pb e PbS)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1035"/>
          <p:cNvSpPr/>
          <p:nvPr/>
        </p:nvSpPr>
        <p:spPr>
          <a:xfrm>
            <a:off x="304920" y="2209680"/>
            <a:ext cx="861048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ali bersagl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SNC e SN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erenza con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i sinaptici di rilascio dei NT (competizion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rvello del feto più sensibile per BEE immatur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uropatie periferiche: astenia con conseguente fenomeno di “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duta del polso e del pie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” per degenera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1036" descr="sinapsi"/>
          <p:cNvPicPr/>
          <p:nvPr/>
        </p:nvPicPr>
        <p:blipFill>
          <a:blip r:embed="rId1"/>
          <a:stretch/>
        </p:blipFill>
        <p:spPr>
          <a:xfrm>
            <a:off x="3048120" y="3886200"/>
            <a:ext cx="3379680" cy="26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80880" y="304920"/>
            <a:ext cx="8382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NGU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emia microcitica ipocromica dovuta ad alterata sintesi dell’EME e di emoglobina nel midollo osseo per l’inattivazione di enzimi emopoietic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Object 1024"/>
          <p:cNvGraphicFramePr/>
          <p:nvPr/>
        </p:nvGraphicFramePr>
        <p:xfrm>
          <a:off x="2141640" y="1295280"/>
          <a:ext cx="4556160" cy="42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1295280"/>
                    <a:ext cx="455616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9"/>
          <p:cNvSpPr/>
          <p:nvPr/>
        </p:nvSpPr>
        <p:spPr>
          <a:xfrm>
            <a:off x="457200" y="5867280"/>
            <a:ext cx="784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OSSA E DENT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et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el fissarsi a livello di ossa e denti alterandone così struttura e funz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050"/>
          <p:cNvSpPr/>
          <p:nvPr/>
        </p:nvSpPr>
        <p:spPr>
          <a:xfrm>
            <a:off x="304920" y="304920"/>
            <a:ext cx="849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RGEN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malattia professionale caratterizzata inizialmente da comparsa sulla pelle di colorazione grigio-nera per formazione superficiale di Ag e Ag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ed in seguito da bronchiti, danni renali, sclerosi arterie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2051"/>
          <p:cNvSpPr/>
          <p:nvPr/>
        </p:nvSpPr>
        <p:spPr>
          <a:xfrm>
            <a:off x="228600" y="1371600"/>
            <a:ext cx="871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,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DR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sonnia, irritabilità, alterazioni della personalità tremore alle estremità, disturbi della vista e dell’ udito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fropatia (danni ai tubuli renali) con proteinuria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2052"/>
          <p:cNvSpPr/>
          <p:nvPr/>
        </p:nvSpPr>
        <p:spPr>
          <a:xfrm>
            <a:off x="228600" y="2421360"/>
            <a:ext cx="84247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NTIMON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quadro clinico di intossicazione cronica comprende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ausea, vomito, diarrea, nefrite, epatopatie, alterazione funzionalità cardiaca, eritema antimoniale e poliur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b in modo simile all’As interagisce con i gruppi SH delle proteine inattivandole, ma viene escreto più rapidamente e presenta quindi effetti tossici generali meno grav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BISMUT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simile al saturnismo con diminuzione appetito, diarrea, febbre, orletto gengivale nero (Bi, B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complicazioni ren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04920" y="83520"/>
            <a:ext cx="85690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: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amminoaciduria, glicosuria), disturbi cardiovascolari (ipertensione, cardiopatie) ed a carico del sistema scheletrico che va incontro 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mineralizzazione con conseguente osteoporosi e osteomalacia dovuta ad interferenza con il metabolismo de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Sindrome Itai-Ita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tossicazione endemica che ha colpito negli anni ‘60 donne giapponesi in menopausa dovuta all’ingestione di riso inquinato: malattia renale cronica e gravi deformazioni osse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2133720" y="2743200"/>
          <a:ext cx="511164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743200"/>
                    <a:ext cx="511164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95280" y="476280"/>
            <a:ext cx="8229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ERAPIA ANTIDOTA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zzo di agenti chelanti quali EDTA, succimer, BAL, d-penicillam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826920" y="1268280"/>
          <a:ext cx="7554960" cy="51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55496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6"/>
          <p:cNvSpPr/>
          <p:nvPr/>
        </p:nvSpPr>
        <p:spPr>
          <a:xfrm>
            <a:off x="-2197080" y="49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2438280"/>
          <a:ext cx="8755200" cy="38880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9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RCU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</a:t>
                      </a:r>
                      <a:r>
                        <a:rPr b="1" lang="it-IT" sz="1600" spc="-1" strike="noStrike" baseline="-25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lomelano): antisifilitico, diuretico, purgativo, antisettico intestinale, oggi in disuso perché troppo toss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O</a:t>
                      </a:r>
                      <a:r>
                        <a:rPr b="0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, ossido di mercurio giallo: antisettico in pomate e colli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sublimato corrosivo): disinfettante ferri chirurgici, in disuso poiché intacca i metall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I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antibatterico e disinfettante, oggi in disu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posti organic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mercurio cromo (merbromina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disinfettante nelle ustioni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THIMEROSAL(sodio-etil-mercurio-tio-salicilato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onservante e stabilizzante di preparazioni farmaceutiche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diuretici mercurial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agiscono a livello dei tubuli renali inattivando gli enzimi deputati al riassorbimento degli elettroliti, oggi abbandonati per marcata tossicità a livello del rene dove si accumulano selettivame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28600" y="1066680"/>
          <a:ext cx="8755200" cy="9986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OMB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(CH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FU): uso esterno, astringente, antinfiammatorio, decongestionante e antidolorifico per contusioni e distors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in mix con acetato di Pb nelle “acque vegeto-minerali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28600" y="380880"/>
          <a:ext cx="8755200" cy="3654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52280" y="838080"/>
          <a:ext cx="8755200" cy="175428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17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colloidale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settico per uso estern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tteriostatico, caustico (0.5-1%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proteinat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protargolo)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parazione argento-proteica colloidale in acqua (0.5-2% in Ag) utilizzata come gocce nasali, auricolari e colliri quale antisettico su mucose e tessuti delicati, specie nei neonat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2743200"/>
          <a:ext cx="8755200" cy="969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MON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ntimonio-potassio-tartrato o tartaro emetico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e emetica e depressiva per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usato per ev nei casi di parassitosi tropicali (schistosomiasi e leishmaniosi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3809880"/>
          <a:ext cx="8755200" cy="2895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2998080"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SMU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(Bi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rbonato basico di bismuto): antiacido, antigastritico  e protettivo mucos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(OH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OOH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ismuto nitrato basico): anticolitico e disinfettante intestinale, anch’esso ha proprietà antiacide e protettive delle mucose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trambi i composti sono utili nell’ulcera peptica causata dall’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elycobacter pylor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per l’azione antibatterica del Bi riconducibile sia all’inattivazione di enzimi sulfidrilici batterici, sia alla stimolazione indiretta della produzione di anticorp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04920"/>
          <a:ext cx="8755200" cy="3650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048"/>
          <p:cNvGraphicFramePr/>
          <p:nvPr/>
        </p:nvGraphicFramePr>
        <p:xfrm>
          <a:off x="457200" y="2590920"/>
          <a:ext cx="822960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22960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2051"/>
          <p:cNvSpPr/>
          <p:nvPr/>
        </p:nvSpPr>
        <p:spPr>
          <a:xfrm>
            <a:off x="762120" y="380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MECCANISMO DELL’AZIONE ANTIACIDA E MUCOSO-PROTETTIVA DEI COMPOSTI DEL B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9696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RSENI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4920" y="981000"/>
            <a:ext cx="8515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ntossicazion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cut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usea, vomito, diarrea, danno ai capillari con aumento della permeabilità, disidratazione e shock mort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lterazioni cutanee (ipercheratosi), disturbi gastrointestinali, disturbi neurologici, depressione midollare, danni epatici, oliguri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Black foot diseas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urbi circolatori periferici (gangrena) (endemica a Taiwan e in Cile, dovuta ad acqua inquinata)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80880" y="3809880"/>
            <a:ext cx="8537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I DELLE 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game ai gruppi SH di proteine ed importanti ligandi biologici (acido lipo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68280" y="5122800"/>
            <a:ext cx="861048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esenta isochimismo con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nterferenza nella sintesi dell’ATP e sostituzione nelle catene del DNA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27"/>
          <p:cNvSpPr/>
          <p:nvPr/>
        </p:nvSpPr>
        <p:spPr>
          <a:xfrm>
            <a:off x="3886200" y="4648320"/>
            <a:ext cx="49528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Tutte le sostanze sono veleni: non ve n’è alcuna che non lo sia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E’ la giusta dose che differenzia un veleno da un farmac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Sola dosis facit venenum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Paracelso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(1493-1541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1029" descr="Dosi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30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030" descr="Curva"/>
          <p:cNvPicPr/>
          <p:nvPr/>
        </p:nvPicPr>
        <p:blipFill>
          <a:blip r:embed="rId2"/>
          <a:stretch/>
        </p:blipFill>
        <p:spPr>
          <a:xfrm>
            <a:off x="4419720" y="304920"/>
            <a:ext cx="384156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7" descr="File:Paracelsus.jpg"/>
          <p:cNvPicPr/>
          <p:nvPr/>
        </p:nvPicPr>
        <p:blipFill>
          <a:blip r:embed="rId3"/>
          <a:stretch/>
        </p:blipFill>
        <p:spPr>
          <a:xfrm>
            <a:off x="898560" y="3562200"/>
            <a:ext cx="23479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igura%204%20II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7" name="Rectangle 4"/>
          <p:cNvSpPr/>
          <p:nvPr/>
        </p:nvSpPr>
        <p:spPr>
          <a:xfrm>
            <a:off x="4038480" y="152280"/>
            <a:ext cx="472464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i="1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5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uò sostituire il P pentavalente nel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tto forma di 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ccumulo (forma trivalente è anche la più toss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MA III, DMA II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 più citotossici, più potenti innattivatori enzimatici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etilazione in questo caso è un meccanismo metabolico di attivazione, non di detossificazione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68360" y="4005360"/>
            <a:ext cx="83818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utagenicità e cancerogenicit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P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vironmental Protection Agenc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AR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tional Agency for Research on Cance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: sufficienti evidenze di una associazione tra tumori della pelle ed esposizione all’arsenico; esposizione per via inalatoria collegata al carcinoma polmonare. L’effetto mutagenico sembra dovuto ad alterazione dei sistemi di riparazione del DN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sali di As sono più propriamente definiti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genti di progression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37160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ARATTERISTICHE DI UNA CELLULA NEOPLASTICA MALIG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280" y="2133720"/>
            <a:ext cx="8991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Proliferazione incontrollat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: incapacità di soggiacere ai fisiologici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ocessi di  regolazione della crescit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erdita di funzioni cellulari specifiche: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sdifferenziazione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Invasività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nei confronti dei tessuti adiacenti: perdit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ell’inibizione da contatto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pacità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metastatic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0"/>
          <p:cNvGraphicFramePr/>
          <p:nvPr/>
        </p:nvGraphicFramePr>
        <p:xfrm>
          <a:off x="1843200" y="573120"/>
          <a:ext cx="604188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573120"/>
                    <a:ext cx="60418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2012040" y="548280"/>
            <a:ext cx="50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LEUCEMIA PROMIELOCITICA ACUTA (APL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4" name="Picture 6" descr="terapia2"/>
          <p:cNvPicPr/>
          <p:nvPr/>
        </p:nvPicPr>
        <p:blipFill>
          <a:blip r:embed="rId1"/>
          <a:stretch/>
        </p:blipFill>
        <p:spPr>
          <a:xfrm>
            <a:off x="2104920" y="1268280"/>
            <a:ext cx="4915080" cy="244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684360" y="3860640"/>
            <a:ext cx="78483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RASLOCAZIONE CROMOSOMICA 15-17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FUSIONE DEL GENE PER IL RECETTORE  DELL’ACIDO RETINOICO (</a:t>
            </a:r>
            <a:r>
              <a:rPr b="1" i="1" lang="it-IT" sz="1400" spc="-1" strike="noStrike">
                <a:solidFill>
                  <a:srgbClr val="ff0000"/>
                </a:solidFill>
                <a:latin typeface="Comic Sans MS"/>
              </a:rPr>
              <a:t>RAR</a:t>
            </a:r>
            <a:r>
              <a:rPr b="1" i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 E IL GENE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SINTESI DI UNA NUOVA PROTEINA CHIMERICA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/RAR</a:t>
            </a:r>
            <a:r>
              <a:rPr b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INIBENTE LA DIFFERENZIAZIONE CELLULARE E L’APOPTOSI.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685800" y="4875840"/>
            <a:ext cx="777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2. TERAPIA: TRATTAMENTO CON ACIDO RETINOICO (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RA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PROBLEMI: TOSSICITA’ E RICADUTE PER INSORGENZA RESISTENZA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684360" y="5274000"/>
            <a:ext cx="7831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3. FDA NEL 2000 APPROVA L’USO 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As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NELLA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APL-RA RESISTAN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84360" y="5826600"/>
            <a:ext cx="813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4. TRISENOX INJECTION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EFFETTI COLLATERALI: LEUCOCITOSI, NAUSEA, VOMITO, EDEMA, FLUTTERS ATRIALI, BLOCCHI ATRIOVENTRICOLARI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70200" cy="166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752720" cy="466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1" name="Text Box 8"/>
          <p:cNvSpPr/>
          <p:nvPr/>
        </p:nvSpPr>
        <p:spPr>
          <a:xfrm>
            <a:off x="447840" y="2009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-36360" y="2013120"/>
            <a:ext cx="43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Nature Reviews Cancer 2002, 2, 1-9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Oval 18"/>
          <p:cNvSpPr/>
          <p:nvPr/>
        </p:nvSpPr>
        <p:spPr>
          <a:xfrm>
            <a:off x="324000" y="549360"/>
            <a:ext cx="4392360" cy="107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Oval 19"/>
          <p:cNvSpPr/>
          <p:nvPr/>
        </p:nvSpPr>
        <p:spPr>
          <a:xfrm>
            <a:off x="179280" y="620640"/>
            <a:ext cx="460872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611280" y="549360"/>
            <a:ext cx="453708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AutoShape 23"/>
          <p:cNvSpPr/>
          <p:nvPr/>
        </p:nvSpPr>
        <p:spPr>
          <a:xfrm>
            <a:off x="5292720" y="1773360"/>
            <a:ext cx="71280" cy="1439640"/>
          </a:xfrm>
          <a:prstGeom prst="downArrow">
            <a:avLst>
              <a:gd name="adj1" fmla="val 50000"/>
              <a:gd name="adj2" fmla="val 5049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796000" y="2708280"/>
            <a:ext cx="576360" cy="790560"/>
          </a:xfrm>
          <a:prstGeom prst="line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1547640" y="4653000"/>
            <a:ext cx="50328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1476360" y="5084640"/>
            <a:ext cx="43164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Oval 29"/>
          <p:cNvSpPr/>
          <p:nvPr/>
        </p:nvSpPr>
        <p:spPr>
          <a:xfrm>
            <a:off x="6300720" y="3500280"/>
            <a:ext cx="503280" cy="289080"/>
          </a:xfrm>
          <a:prstGeom prst="ellipse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545000" y="2216160"/>
            <a:ext cx="441972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195120" y="355680"/>
            <a:ext cx="532152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" name="Text Box 4"/>
          <p:cNvSpPr/>
          <p:nvPr/>
        </p:nvSpPr>
        <p:spPr>
          <a:xfrm>
            <a:off x="0" y="4191120"/>
            <a:ext cx="8991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AT: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, acetilando il gruppo amminico protonato a pH fisiologico (N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i residui di lisina delle proteine istoniche, ne neutralizza la carica positiva e ne impedisce l’interazione elettrostatica con lo scheletro dei fosfati del DNA, mediando in tal modo il rilassamento della cromatina (la “collana di perle si svolge”: 1 “perla” = 1 nucleosoma = 8 istoni + 146 paia di nucleotidi ) e la conseguente trascrizione dei geni in essa localizzati, divenuti meccanicamente/fisicamente accessibili alla RNA polimerasi ed ai fattori di trascrizion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0" y="5545080"/>
            <a:ext cx="8839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DAC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nzima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ipendente che, deacetilando gli istoni, ripristina le cariche positive sui residui di lisina e consente le interazioni elettrostatiche tra gli istoni ed il DNA (che è un polianione per la presenza dei fosfati), determinando compattazione della cromatina (la “collana di perle si aggroviglia” su sé stessa) e la conseguente repressione trascrizionale dei geni in essa localizzati, divenuti fisicamente/meccanicamente inaccessibili agli enzimi polimerasici ed alle altre proteine di trascri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5"/>
          <p:cNvSpPr/>
          <p:nvPr/>
        </p:nvSpPr>
        <p:spPr>
          <a:xfrm>
            <a:off x="755640" y="40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TAGN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488600" y="835920"/>
            <a:ext cx="65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microessenziale (fabbisogno medio giornaliero 2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423720" y="1246680"/>
            <a:ext cx="55882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UOLO BIOLOG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ppia redox 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embra interagire con la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iboflav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vitamina 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quindi con flavoenzimi ossidoridutt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380880" y="2357640"/>
            <a:ext cx="6262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ncefalopatia ed edema cerebrale (Francia: ingestione di un preparat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talin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ontenente dietilstagno diioduro per trattamento di infezioni cutane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mal di testa, disturbi vis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380880" y="42678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O DELL’AZIONE TOSSIC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ività disaccoppiante la fosforilazione ossidativa nei mitocondri e inibizione della respirazione cellu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380880" y="5382360"/>
            <a:ext cx="8533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OMPOSTI DI INTERESSE FARMACEUT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 metall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e antiforuncolitico in dermatolog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O</a:t>
            </a:r>
            <a:r>
              <a:rPr b="0" lang="it-IT" sz="1800" spc="-1" strike="noStrike" baseline="-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per uso esterno e per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ro infezioni intestinali da stafilococco (non è assorbito quindi azione antisettica local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6372360" y="1390680"/>
          <a:ext cx="207648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390680"/>
                    <a:ext cx="20764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4047120" y="4752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A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95280" y="165168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cofattore in molti sistemi enzimatici redox qual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ocromi C reduttasi ed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i della catena respiratoria cellu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044720" y="98028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e stimolatorio (dose media giornaliera 2-6-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6" name="Picture 8" descr="citocromoC"/>
          <p:cNvPicPr/>
          <p:nvPr/>
        </p:nvPicPr>
        <p:blipFill>
          <a:blip r:embed="rId1"/>
          <a:stretch/>
        </p:blipFill>
        <p:spPr>
          <a:xfrm>
            <a:off x="755640" y="2708280"/>
            <a:ext cx="2933640" cy="33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9" descr="rame"/>
          <p:cNvPicPr/>
          <p:nvPr/>
        </p:nvPicPr>
        <p:blipFill>
          <a:blip r:embed="rId2"/>
          <a:stretch/>
        </p:blipFill>
        <p:spPr>
          <a:xfrm>
            <a:off x="4419720" y="2989440"/>
            <a:ext cx="3752640" cy="19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Text Box 10"/>
          <p:cNvSpPr/>
          <p:nvPr/>
        </p:nvSpPr>
        <p:spPr>
          <a:xfrm>
            <a:off x="755640" y="616572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Struttura tridimensionale del citocromo 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4643280" y="5084640"/>
            <a:ext cx="33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Ciclo di reazioni catalizzate dalla citocromo ossidasi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95280" y="258840"/>
            <a:ext cx="849636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isino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controlla l’elasticità delle pareti aortich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irosi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necessario per la pigmentazione della pel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ame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interviene nella sintesi del collage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uperossido-dismutas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 contenente 2 atomi di Cu e 2 di Zn (ossidoriduttivamente inattivi), che decompone radicali idroperossido  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-O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ggendo le cellule da stress ossidativo.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01" name="Object 0"/>
          <p:cNvGraphicFramePr/>
          <p:nvPr/>
        </p:nvGraphicFramePr>
        <p:xfrm>
          <a:off x="2209680" y="2971800"/>
          <a:ext cx="4802400" cy="35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48024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819000" y="969840"/>
            <a:ext cx="77900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è una malattia ereditaria caratterizzata da un accumulo di rame in vari tessuti ed i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articolare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fegat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cirros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istema nervoso centr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rovoc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alterazioni neurologiche e psichich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a livell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ocular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può provocar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del cristallin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e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tubular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04840" y="47991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938160" y="4964040"/>
            <a:ext cx="1293840" cy="1139760"/>
          </a:xfrm>
          <a:custGeom>
            <a:avLst/>
            <a:gdLst/>
            <a:ahLst/>
            <a:rect l="l" t="t" r="r" b="b"/>
            <a:pathLst>
              <a:path w="1293812" h="1139825">
                <a:moveTo>
                  <a:pt x="1" y="435373"/>
                </a:moveTo>
                <a:lnTo>
                  <a:pt x="494195" y="435376"/>
                </a:lnTo>
                <a:lnTo>
                  <a:pt x="646906" y="0"/>
                </a:lnTo>
                <a:lnTo>
                  <a:pt x="799617" y="435376"/>
                </a:lnTo>
                <a:lnTo>
                  <a:pt x="1293811" y="435373"/>
                </a:lnTo>
                <a:lnTo>
                  <a:pt x="893998" y="704448"/>
                </a:lnTo>
                <a:lnTo>
                  <a:pt x="1046715" y="1139822"/>
                </a:lnTo>
                <a:lnTo>
                  <a:pt x="646906" y="870743"/>
                </a:lnTo>
                <a:lnTo>
                  <a:pt x="247097" y="1139822"/>
                </a:lnTo>
                <a:lnTo>
                  <a:pt x="399814" y="704448"/>
                </a:lnTo>
                <a:lnTo>
                  <a:pt x="1" y="435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414360" y="143208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419040" y="330372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764640" y="3281400"/>
            <a:ext cx="5903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lattia è trasmessa con meccanismo autosomico recess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AutoShape 13"/>
          <p:cNvSpPr/>
          <p:nvPr/>
        </p:nvSpPr>
        <p:spPr>
          <a:xfrm>
            <a:off x="423720" y="4230720"/>
            <a:ext cx="214560" cy="284040"/>
          </a:xfrm>
          <a:custGeom>
            <a:avLst/>
            <a:gdLst>
              <a:gd name="textAreaLeft" fmla="*/ 33480 w 214560"/>
              <a:gd name="textAreaRight" fmla="*/ 187920 w 21456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860400" y="4230720"/>
            <a:ext cx="775512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l fattore più importante che regola l’ omeostasi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è l’  escrezione biliare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’  alterazione strutturale della proteina responsabile del morbo di Wilson comport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ncata escrezione e quindi il progressivo accumulo del metallo all’ interno deg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patociti che va incontro a necrosi. Alla morte dell’ epatocita consegue l’ immiss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n circolo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 quindi l’ estensione del danno ad altri organ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988920" y="33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707400" y="66816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3300"/>
                </a:solidFill>
                <a:latin typeface="Comic Sans MS"/>
              </a:rPr>
              <a:t>Morbo di Wils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80880" y="2057400"/>
            <a:ext cx="8153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Indice terapeutico (IT)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rapporto tr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tossica 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provocare nel 50% degli individui l’effetto tossico, 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efficac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indurre nel 50% degli individui uno specifico effetto (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DT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/DE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" name="Object 9"/>
          <p:cNvGraphicFramePr/>
          <p:nvPr/>
        </p:nvGraphicFramePr>
        <p:xfrm>
          <a:off x="2514600" y="3962520"/>
          <a:ext cx="399096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962520"/>
                    <a:ext cx="39909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10"/>
          <p:cNvSpPr/>
          <p:nvPr/>
        </p:nvSpPr>
        <p:spPr>
          <a:xfrm>
            <a:off x="457200" y="228600"/>
            <a:ext cx="797076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Non esiste una precisa definizione di veleno/tossico ed in definitiva si può sostenere che non esistono veleni in senso assoluto, ma soltanto avvelenamenti o intossicazioni e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sostanze più o meno pericolose per l’uom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-1440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FERR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566640" y="134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l Fe è il componente inorganico di molte proteine:</a:t>
            </a:r>
            <a:r>
              <a:rPr b="0" lang="it-IT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95280" y="1989000"/>
            <a:ext cx="860436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Hb), l’Hb è la metalloproteina trasportatrice del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i polmoni ai vari tessuti; è costituita da una porzione proteica (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da una parte non proteica o prostetica l’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EM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formato da una struttura organica tetraazotata, l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oporfirina I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 dallo ion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6" name="Picture 15" descr="emoglobina"/>
          <p:cNvPicPr/>
          <p:nvPr/>
        </p:nvPicPr>
        <p:blipFill>
          <a:blip r:embed="rId1"/>
          <a:stretch/>
        </p:blipFill>
        <p:spPr>
          <a:xfrm>
            <a:off x="5076720" y="3213000"/>
            <a:ext cx="3894120" cy="29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6"/>
          <p:cNvGraphicFramePr/>
          <p:nvPr/>
        </p:nvGraphicFramePr>
        <p:xfrm>
          <a:off x="612720" y="3564000"/>
          <a:ext cx="4030560" cy="26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2720" y="3564000"/>
                    <a:ext cx="403056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17"/>
          <p:cNvSpPr/>
          <p:nvPr/>
        </p:nvSpPr>
        <p:spPr>
          <a:xfrm>
            <a:off x="250920" y="765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(dose giornaliera media: 5-15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051"/>
          <p:cNvSpPr/>
          <p:nvPr/>
        </p:nvSpPr>
        <p:spPr>
          <a:xfrm>
            <a:off x="1143000" y="1219320"/>
            <a:ext cx="53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21" name="Group 2053"/>
          <p:cNvGrpSpPr/>
          <p:nvPr/>
        </p:nvGrpSpPr>
        <p:grpSpPr>
          <a:xfrm>
            <a:off x="838080" y="1143000"/>
            <a:ext cx="7467480" cy="5181120"/>
            <a:chOff x="838080" y="1143000"/>
            <a:chExt cx="7467480" cy="5181120"/>
          </a:xfrm>
        </p:grpSpPr>
        <p:pic>
          <p:nvPicPr>
            <p:cNvPr id="322" name="Picture 2050" descr="eme"/>
            <p:cNvPicPr/>
            <p:nvPr/>
          </p:nvPicPr>
          <p:blipFill>
            <a:blip r:embed="rId1"/>
            <a:stretch/>
          </p:blipFill>
          <p:spPr>
            <a:xfrm>
              <a:off x="841320" y="1143000"/>
              <a:ext cx="746064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Rectangle 2052"/>
            <p:cNvSpPr/>
            <p:nvPr/>
          </p:nvSpPr>
          <p:spPr>
            <a:xfrm>
              <a:off x="838080" y="1157760"/>
              <a:ext cx="7467480" cy="515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4" name="Text Box 2054"/>
          <p:cNvSpPr/>
          <p:nvPr/>
        </p:nvSpPr>
        <p:spPr>
          <a:xfrm>
            <a:off x="2057400" y="457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STRUTTURA DELL’E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836640"/>
            <a:ext cx="83059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è impegnato in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i di coordinazione: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no planari con i 4 atomi di N dell’anello tetrapirrolico della porfirina,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’atomo di N dell’istidina della globina mentre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a molecola di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6" name="Picture 3" descr="emoglobina-fe"/>
          <p:cNvPicPr/>
          <p:nvPr/>
        </p:nvPicPr>
        <p:blipFill>
          <a:blip r:embed="rId1"/>
          <a:stretch/>
        </p:blipFill>
        <p:spPr>
          <a:xfrm>
            <a:off x="4930920" y="1752480"/>
            <a:ext cx="4213080" cy="41036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380880" y="2276640"/>
            <a:ext cx="472464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ssi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vivo ai globuli rossi che la contengono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scuro ai globuli rossi che la contengono)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ossiemoglobin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O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arbossi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lore rosso ciliegia,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 viene trasportato: morte  per  anossi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no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olore grigiastro e inattiv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eta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i colore rosso-marrone perde la capacità di trasportare 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i tessut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5"/>
          <p:cNvSpPr/>
          <p:nvPr/>
        </p:nvSpPr>
        <p:spPr>
          <a:xfrm>
            <a:off x="380880" y="533520"/>
            <a:ext cx="82296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mioglob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b), proteina che lega l’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i tessuti muscol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citocromi e flavoprotei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enzimi della catena respiratoria che contengono gruppi EM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380880" y="1600200"/>
            <a:ext cx="8458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INTOSSICAZI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ovuta all’ingestione accidentale di farmaci contenenti Fe, si manifesta con vomito, acidosi metabolica, danno epatico ed alterazioni della coagul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80880" y="251460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ffetti del sovraccarico di Fe a livello di fegato, milza, cuore e pancreas con alterazione della funzionalità di questi organ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80880" y="3124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ERAP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duzione del vomito, lavanda gastrica con soluzioni di fosfato o carbonato, somministrazione di un chelante come la desferossam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380880" y="3886200"/>
            <a:ext cx="861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ARENZ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nemia microcitica ipocromic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mune nei neonati prematuri, donne in gravidanza, in caso di perdite ematiche); la terapia consiste nella somministrazione orale  o intramuscolare di composti a base di Fe quali reintegrator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380880" y="4724280"/>
            <a:ext cx="84582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TI DI INTERESSE FARMACEUTICO 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S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7 H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, tonici, ricostituenti ed emetici ad alte concentrazion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umar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lucon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rato ferr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ome i sali inorganici ma meno irritan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l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mostatico (provoca la precipitazione delle proteine, usato nel cotone emostatico); irritante, drasticamente emetico e tossico se somministrato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a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[Fe(CN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]</a:t>
            </a:r>
            <a:r>
              <a:rPr b="0" lang="it-IT" sz="1600" spc="-1" strike="noStrike">
                <a:solidFill>
                  <a:srgbClr val="010000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troprussiato sodico: potente agente ipotensivo per azione vasodilatatrice diretta utilizzato nelle emergenze ipertensiv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-176688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47640" y="333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LLUMIN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380880" y="3580560"/>
            <a:ext cx="8352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tudiata su modelli animali è caratterizzata da sintomi di neurotossicità quali deficit di apprendimento, tremori, debolezza e atassia, morte entro 3-4 settimane per convul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380880" y="464832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si sta studiando essenzialmente la neurotossicità in seguito ad  esposizione cronica come nel caso d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380880" y="663480"/>
            <a:ext cx="8353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l(S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(allume di rocca):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tringente, emostatico e antisettico per uso ester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lOH, 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stringenti e decongestionanti su contusioni e distor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P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(OH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Na[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: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cidi, antiulcera e protettivi mucose G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on effetti costipanti (uso in associazion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llumina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brasivo paste dentifrice, per prolungata esposizione alle sue polveri, data l’alta insolubilità, provoca disturbi polmon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Si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olin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dsorbente gastroenterico nelle intossicazioni, antidiarro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380880" y="5182200"/>
            <a:ext cx="80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emenza da dialisi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neurologica progressiva e fatale che insorge nei pazienti sottoposti a dialisi da 3-7 anni (Al presente nell’acqua della soluzione da 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86720" y="5943240"/>
            <a:ext cx="818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morbo di Alzheimer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istono strette correlazioni  fra accumulo di Al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il morb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228600" y="297720"/>
            <a:ext cx="8439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MECCANISMI D’AZIONE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farma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string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azione disidratante sui tessuti per il gran numero di molecole di acqua necessarie per la coordinazione e  la solvatazione;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mostatica e  antisett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collegate alla capacità di precipitare le protein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dsorb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legata alle caratteristiche chimico-fisiche dei composti utilizza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28600" y="2525400"/>
            <a:ext cx="37432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tossi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egenerazione neuronale con formazione di plessi neurofibrillari, forse dovuta ad interazione con DNA ed alla sostituzione del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l legame con protei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-dipendenti come la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modu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calmodulina è in grado di stimolare un gran numero di enzimi, pompe e altre proteine bersagli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3" name="Picture 8" descr="calmodulinaCa+"/>
          <p:cNvPicPr/>
          <p:nvPr/>
        </p:nvPicPr>
        <p:blipFill>
          <a:blip r:embed="rId1"/>
          <a:stretch/>
        </p:blipFill>
        <p:spPr>
          <a:xfrm>
            <a:off x="4419720" y="2590920"/>
            <a:ext cx="4198680" cy="3660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image001"/>
          <p:cNvPicPr/>
          <p:nvPr/>
        </p:nvPicPr>
        <p:blipFill>
          <a:blip r:embed="rId1"/>
          <a:stretch/>
        </p:blipFill>
        <p:spPr>
          <a:xfrm>
            <a:off x="611280" y="2637000"/>
            <a:ext cx="2923920" cy="28670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2989800" y="40356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orbo di Alzheim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780000" y="2716200"/>
            <a:ext cx="46688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. Corteccia cerebral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ove si formano il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pensier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l linguagg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B. Gangli della bas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coinvolti nel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mor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l’apprendiment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. Ippocampo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ssenziale per 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nservazione della memori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95280" y="1006560"/>
            <a:ext cx="83534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irca il 70% dei casi di demenza senile sono dovuti al morbo di Alzheimer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demenza si intende una riduzione progressiva delle funzioni mentali, della memoria e delle capacità intellettive acquisite che può condurre ad uno stato completamente vegetat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250920" y="907200"/>
            <a:ext cx="39607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aratteristiche dell’Alzheimer sono le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lacche neuritiche o amiloidi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fuori dei neuroni) e i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grovigli neurofibrillar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dentro i neuroni), che si ritiene siano responsabili della degenerazione dei neuroni e quindi delle manifestazioni clin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9" name="Picture 5" descr="image002"/>
          <p:cNvPicPr/>
          <p:nvPr/>
        </p:nvPicPr>
        <p:blipFill>
          <a:blip r:embed="rId1"/>
          <a:stretch/>
        </p:blipFill>
        <p:spPr>
          <a:xfrm>
            <a:off x="4392720" y="404640"/>
            <a:ext cx="457200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0" name="Rectangle 7"/>
          <p:cNvSpPr/>
          <p:nvPr/>
        </p:nvSpPr>
        <p:spPr>
          <a:xfrm>
            <a:off x="395280" y="4119480"/>
            <a:ext cx="820908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AMILOI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 intende un gruppo di proteine diverse che hanno in comune la conformazion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elle catene (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 che si accumula nelle placche è un frammento di una proteina più grande dett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myloid </a:t>
            </a:r>
            <a:r>
              <a:rPr b="1" i="1" lang="it-IT" sz="16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-protein precursor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una proteina integrale di membrana che viene sintetizzata da vari organi compresi neuroni e gl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Sembra probabile che nell’Alzheimer l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venga idrolizzata in siti anomali dando origine a peptidi che si accumulano in fibrille resistenti alla degradazione proteic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028" descr="image004"/>
          <p:cNvPicPr/>
          <p:nvPr/>
        </p:nvPicPr>
        <p:blipFill>
          <a:blip r:embed="rId1"/>
          <a:stretch/>
        </p:blipFill>
        <p:spPr>
          <a:xfrm>
            <a:off x="324000" y="1052640"/>
            <a:ext cx="4244760" cy="319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2" name="Rectangle 1030"/>
          <p:cNvSpPr/>
          <p:nvPr/>
        </p:nvSpPr>
        <p:spPr>
          <a:xfrm>
            <a:off x="4788000" y="1497240"/>
            <a:ext cx="410508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lzheimer vi è un raggrinzimento globale del tessuto cerebral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inizi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e della memoria recen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fin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i del linguaggio, del controllo emotivo, del ragionament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Rectangle 1032"/>
          <p:cNvSpPr/>
          <p:nvPr/>
        </p:nvSpPr>
        <p:spPr>
          <a:xfrm>
            <a:off x="108000" y="4581360"/>
            <a:ext cx="8856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l tempo medio dalla diagnosi alla morte è di 4-8 anni, sebbene la malattia talora possa durare 20 anni o più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971640" y="3794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RO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95280" y="98064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assorbimento medio giornaliero = 0.06-0.4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80880" y="1451160"/>
            <a:ext cx="835344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Ruol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biologic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l componente del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Glucose tolerance factor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necessario per l’attività dell’insulina, in grado di formare un complesso ternario con l’ormone ed il recettore facilitandone il legame. La su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iperglicemi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crescita stentata. 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6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è invece altamente tossico: sotto forma di cromato penetra nelle cellule dove precipita le proteine e, per l’elevato potere ossidante, distrugge cellule e tessuti. L’anione cromato è anche canceroge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95280" y="3519720"/>
            <a:ext cx="835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INSULINA</a:t>
            </a:r>
            <a:r>
              <a:rPr b="0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rmo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natur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dotto dal pancreas endocrino (isole di Langerhans); è formato da 2 catene polipeptidiche A e B unite da ponti disolfur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8" name="Picture 13" descr="sequenzainsulina"/>
          <p:cNvPicPr/>
          <p:nvPr/>
        </p:nvPicPr>
        <p:blipFill>
          <a:blip r:embed="rId1"/>
          <a:stretch/>
        </p:blipFill>
        <p:spPr>
          <a:xfrm>
            <a:off x="1447920" y="4419720"/>
            <a:ext cx="6095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457200"/>
            <a:ext cx="7925040" cy="3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produrre una manifestazione tossica, come peraltro un beneficio terapeutico, un agente chimico o un suo metabolita deve poter interagire con specifici siti bersagli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arget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dell’ organismo e rimanere in contatto con essi ad una appropriata concentrazione per un tempo sufficientemente lung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eventuale presenza di un effetto tossico dipen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e proprietà chimico-fisiche dell’agente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ituazione di esposizione (via, durata, frequenza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ensibilità del sistema biologico oggett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4495680"/>
            <a:ext cx="7925040" cy="15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tossicità di una data sostanza dipende in sintesi dal proprio profil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dinamic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 (ciò che l’agente fa all’organismo)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 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cinetico 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(ciò che l’organismo fa all’agente)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671760" y="548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zioni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ll’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042920" y="930960"/>
            <a:ext cx="77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mett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captazione del glucos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a parte delle cellule attraverso la mobilizzazione di uno specifico recettore GLUT4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974520" y="1796760"/>
            <a:ext cx="71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umenta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l’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accumulo di glucosio nel feg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formazione del glicogeno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044720" y="2214360"/>
            <a:ext cx="770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romuov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sintesi proteica nei musco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la formazione di trigliceridi nel tessuto adip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riserva energetica)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684360" y="3068640"/>
            <a:ext cx="806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riduzione o la mancata produzione di insulina da parte del pancreas endocrino è la causa del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iabete melli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o-dipend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una malattia metabolica che si manifesta in giovane età con un aumento della concentrazione ematica di glucosio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685800" y="4366440"/>
            <a:ext cx="808344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in vari organi nel lungo periodo in assenza di adeguato controllo della glicemia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generazione retinica (retin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nef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al SNC (neu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teroscleros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insulina2"/>
          <p:cNvPicPr/>
          <p:nvPr/>
        </p:nvPicPr>
        <p:blipFill>
          <a:blip r:embed="rId1"/>
          <a:stretch/>
        </p:blipFill>
        <p:spPr>
          <a:xfrm>
            <a:off x="1835280" y="549360"/>
            <a:ext cx="5675040" cy="578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900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NGANE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539640" y="1052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dose media giornaliera 3-1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324000" y="1628640"/>
            <a:ext cx="82072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fattore di vari metalloenzimi qua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ocitrico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enzima del ciclo di Krebs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n-superossido dismut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mitocondriale, enzima “scavenger” dei radicali liberi dell’ossigeno, come l’anione radicale superossido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324000" y="3213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della crescita e dello sviluppo corporeo, ma molto rar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539640" y="3789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324000" y="3573360"/>
            <a:ext cx="80643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ossicazione cronica da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n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industrie per produzione leghe d’acciaio, vetri, tinture) per periodo &gt; 2 anni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ANGANISM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disturbi psichici e sindrome simil parkinsoniana: tremori, difficoltà di deambulazione, disturbi del linguaggio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24000" y="5084640"/>
            <a:ext cx="8424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KM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ntibatterico e antisettico per uso esterno (azione antibatterica dovuta alla capacità ossidante dell’anione permanganato) in soluzioni dilui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Mn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reintegratore di M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61128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ZIN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826920" y="9079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oligoessenziale (fabbisogno giornaliero medio 10-15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93680" y="1450800"/>
            <a:ext cx="8950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lo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ndispensabile per l’attività di numerose proteine 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di più di 200 metalloenzimi fra cu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insulin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rmone ipoglicemizzante;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tone deacetilasi (HDAC)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odulazione epigenetica dell’espressione gen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nidrasi carb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nzima che catalizza la reaz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                              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↔ 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 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lcol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fermentazione alcol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76" name="Object 0"/>
          <p:cNvGraphicFramePr/>
          <p:nvPr/>
        </p:nvGraphicFramePr>
        <p:xfrm>
          <a:off x="2879640" y="5092560"/>
          <a:ext cx="339084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9640" y="5092560"/>
                    <a:ext cx="33908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10" descr="alcol deidro"/>
          <p:cNvPicPr/>
          <p:nvPr/>
        </p:nvPicPr>
        <p:blipFill>
          <a:blip r:embed="rId3"/>
          <a:stretch/>
        </p:blipFill>
        <p:spPr>
          <a:xfrm>
            <a:off x="444600" y="4626000"/>
            <a:ext cx="2239920" cy="1982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379" name="Object 1"/>
          <p:cNvGraphicFramePr/>
          <p:nvPr/>
        </p:nvGraphicFramePr>
        <p:xfrm>
          <a:off x="6148440" y="3152880"/>
          <a:ext cx="2670120" cy="21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0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8440" y="3152880"/>
                    <a:ext cx="26701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517680" y="3195720"/>
            <a:ext cx="806436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batterici, antisettici e adsorbenti (azione antimicrobica dovuta all’interazione con i gruppi SH ed altri gruppi polari di proteine enzimatiche) per uso estern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(C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·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zinco acetato diidrat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il principio attivo della specialità medicinale Wilzin®  approvata nel 2004 per il trattamento del morbo di Wilson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Cl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egrante dell’insulina nella terapia antidiabet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S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 soluzioni diluite antisettico per uso oftalmico, ad alte dos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eloce ed efficace emet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719280" y="216000"/>
            <a:ext cx="7632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fosfatasi alca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marker biochimico per epatopatie e malattie osse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E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(angiotensin converting enzyme)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 catalizza la formazione dell’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giotensina I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un octapeptide ad attività vasocostrittrice ed ipertensiv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3" name="Object 7"/>
          <p:cNvGraphicFramePr/>
          <p:nvPr/>
        </p:nvGraphicFramePr>
        <p:xfrm>
          <a:off x="1459080" y="1468440"/>
          <a:ext cx="611964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468440"/>
                    <a:ext cx="61196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1187280" y="404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OBAL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468360" y="90792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microessenziale (dose media giornaliera  0.01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80880" y="1295280"/>
            <a:ext cx="83520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onente inorganico (Co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ll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vitamina B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1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necessaria per la produzione dei globuli rossi (carenza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emia pernicios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. Si somministran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ianocobalamina o idrossi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via parenterale. La carenza provoca anche degenerazione del sistema nervoso centrale per accumulo di acidi grassi anom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8" name="Object 7"/>
          <p:cNvGraphicFramePr/>
          <p:nvPr/>
        </p:nvGraphicFramePr>
        <p:xfrm>
          <a:off x="369720" y="2930400"/>
          <a:ext cx="381348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2930400"/>
                    <a:ext cx="381348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Picture 8" descr="vit B12"/>
          <p:cNvPicPr/>
          <p:nvPr/>
        </p:nvPicPr>
        <p:blipFill>
          <a:blip r:embed="rId3"/>
          <a:stretch/>
        </p:blipFill>
        <p:spPr>
          <a:xfrm>
            <a:off x="5257800" y="3200400"/>
            <a:ext cx="3063960" cy="32637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5"/>
          <p:cNvSpPr/>
          <p:nvPr/>
        </p:nvSpPr>
        <p:spPr>
          <a:xfrm>
            <a:off x="395280" y="17654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79280" y="901800"/>
            <a:ext cx="88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7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e 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8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(gamma emittenti) vengono usati nella radioterapia contro varie forme di tum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79280" y="327168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EFFETTI TOSSIC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irritazioni GI, vomito e diarrea. Per via parenterale tossico a livello cardiaco e circolatorio (diminuzione pressione arteriosa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79280" y="1476360"/>
            <a:ext cx="84963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(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ntidoto nell’avvelenamento da C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-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+ 6CN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-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↔ [Co(CN)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-          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 inst= 10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19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, Co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 insieme ai sali ferrosi in taluni tipi di anemi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16000" y="4141800"/>
            <a:ext cx="889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1116000" y="54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NICH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24000" y="112536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che se viene definit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lemento stimolatorio e microessenzi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sono note soprattutto le proprietà tossicologiche del 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79280" y="1844640"/>
            <a:ext cx="3786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I TOSSICH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gente cancerogen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umento dei casi di cancro del tratto respiratorio negli addetti alle industrie di raffinazione del Ni (solfuri di Ni e Ni(CO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dermatiti allergiche da contat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onete e gioiell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ibizione del rilascio di insul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237960" y="5581800"/>
            <a:ext cx="29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0" i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CaEDT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094280" y="1874880"/>
            <a:ext cx="2573280" cy="83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1" name="Text Box 11"/>
          <p:cNvSpPr/>
          <p:nvPr/>
        </p:nvSpPr>
        <p:spPr>
          <a:xfrm>
            <a:off x="5364000" y="566100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Nestle et al. </a:t>
            </a:r>
            <a:r>
              <a:rPr b="1" i="1" lang="it-IT" sz="1600" spc="-1" strike="noStrike">
                <a:solidFill>
                  <a:srgbClr val="ffff00"/>
                </a:solidFill>
                <a:latin typeface="Comic Sans MS"/>
              </a:rPr>
              <a:t>Nature</a:t>
            </a: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 2002, 419, 132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2" name="Picture 9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68600" cy="32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611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ALC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95280" y="83664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essenziale (fabbisogno medio giornaliero 50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95280" y="1413000"/>
            <a:ext cx="84247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messaggero citosolico ubiquitario (vedi calmodulina); svolge funzioni di vitale importanza per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eccitabilità delle membrane nervose e muscolar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ccanica della contrazione muscola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ttività cardiac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agulazione del sangu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6" name="Picture 7" descr="contrazione muscolare"/>
          <p:cNvPicPr/>
          <p:nvPr/>
        </p:nvPicPr>
        <p:blipFill>
          <a:blip r:embed="rId1"/>
          <a:stretch/>
        </p:blipFill>
        <p:spPr>
          <a:xfrm>
            <a:off x="5388120" y="2343240"/>
            <a:ext cx="3576600" cy="3173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407" name="Object 8"/>
          <p:cNvGraphicFramePr/>
          <p:nvPr/>
        </p:nvGraphicFramePr>
        <p:xfrm>
          <a:off x="324000" y="4008600"/>
          <a:ext cx="5949720" cy="215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08600"/>
                    <a:ext cx="594972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755640" y="4762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suo metabolismo è regolato da: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paratorm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citonin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vitamina 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51000" y="295200"/>
          <a:ext cx="8207280" cy="5273640"/>
        </p:xfrm>
        <a:graphic>
          <a:graphicData uri="http://schemas.openxmlformats.org/drawingml/2006/table">
            <a:tbl>
              <a:tblPr/>
              <a:tblGrid>
                <a:gridCol w="1834920"/>
                <a:gridCol w="2184480"/>
                <a:gridCol w="2068560"/>
                <a:gridCol w="2119320"/>
              </a:tblGrid>
              <a:tr h="252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PARATORMONE (PT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sintetizzato dalle paratiroi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VITAMINA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otto dal deidrocolesterolo per azione dei raggi UV o assunta con la di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ALCITON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prodotto dalle cellule parafollicolari della tiroi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azione o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Rectangle 45"/>
          <p:cNvSpPr/>
          <p:nvPr/>
        </p:nvSpPr>
        <p:spPr>
          <a:xfrm>
            <a:off x="-31680" y="520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09680" y="5632560"/>
            <a:ext cx="8342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chitismo, malattie ossee, predisposizione a carie ed emorragie, ipereccitabilità nervosa e musco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ER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pofunzionalità nervosa e muscolare e calcolosi re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4"/>
          <p:cNvSpPr/>
          <p:nvPr/>
        </p:nvSpPr>
        <p:spPr>
          <a:xfrm>
            <a:off x="3276720" y="304920"/>
            <a:ext cx="60948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324480" y="19810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562720" y="0"/>
            <a:ext cx="11430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5867280" y="6858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477120" y="380880"/>
            <a:ext cx="7596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629400" y="457200"/>
            <a:ext cx="2286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632448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6629400" y="685800"/>
            <a:ext cx="1522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85800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95280" y="1752480"/>
            <a:ext cx="6400440" cy="4343040"/>
            <a:chOff x="1295280" y="1752480"/>
            <a:chExt cx="6400440" cy="4343040"/>
          </a:xfrm>
        </p:grpSpPr>
        <p:pic>
          <p:nvPicPr>
            <p:cNvPr id="113" name="Picture 2" descr="Cd"/>
            <p:cNvPicPr/>
            <p:nvPr/>
          </p:nvPicPr>
          <p:blipFill>
            <a:blip r:embed="rId1"/>
            <a:stretch/>
          </p:blipFill>
          <p:spPr>
            <a:xfrm>
              <a:off x="1373760" y="1752480"/>
              <a:ext cx="6321960" cy="434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4" name="Oval 5"/>
            <p:cNvSpPr/>
            <p:nvPr/>
          </p:nvSpPr>
          <p:spPr>
            <a:xfrm>
              <a:off x="1295280" y="1752480"/>
              <a:ext cx="4072680" cy="3528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996800" y="2120760"/>
              <a:ext cx="2159280" cy="2054880"/>
            </a:xfrm>
            <a:prstGeom prst="ellipse">
              <a:avLst/>
            </a:prstGeom>
            <a:noFill/>
            <a:ln w="28440">
              <a:solidFill>
                <a:srgbClr val="0f34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28600" y="6172200"/>
            <a:ext cx="327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TOSSICOCINET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914400" y="2743200"/>
            <a:ext cx="533520" cy="2590920"/>
          </a:xfrm>
          <a:custGeom>
            <a:avLst/>
            <a:gdLst>
              <a:gd name="textAreaLeft" fmla="*/ 71280 w 533520"/>
              <a:gd name="textAreaRight" fmla="*/ 462240 w 53352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685800" y="2590920"/>
            <a:ext cx="609480" cy="3352680"/>
          </a:xfrm>
          <a:custGeom>
            <a:avLst/>
            <a:gdLst>
              <a:gd name="textAreaLeft" fmla="*/ 350640 w 609480"/>
              <a:gd name="textAreaRight" fmla="*/ 514440 w 609480"/>
              <a:gd name="textAreaTop" fmla="*/ 451800 h 3352680"/>
              <a:gd name="textAreaBottom" fmla="*/ 14349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5850720" y="380880"/>
            <a:ext cx="2922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a2270"/>
                </a:solidFill>
                <a:latin typeface="Comic Sans MS"/>
              </a:rPr>
              <a:t>TOSSICODINAM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AutoShape 21"/>
          <p:cNvSpPr/>
          <p:nvPr/>
        </p:nvSpPr>
        <p:spPr>
          <a:xfrm rot="10878000">
            <a:off x="6933960" y="990360"/>
            <a:ext cx="685800" cy="2057400"/>
          </a:xfrm>
          <a:custGeom>
            <a:avLst/>
            <a:gdLst>
              <a:gd name="textAreaLeft" fmla="*/ 394560 w 685800"/>
              <a:gd name="textAreaRight" fmla="*/ 578880 w 685800"/>
              <a:gd name="textAreaTop" fmla="*/ 277200 h 2057400"/>
              <a:gd name="textAreaBottom" fmla="*/ 8805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b2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36520" y="400536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93680" y="4335480"/>
            <a:ext cx="847080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Cl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in casi di ipocalcemia, emostatico poiché astringent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Br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sedativ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(CH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(anche in soluzioni per emo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(OH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(H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acidi per via oral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HPO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rachitico, anticari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usato nelle ingessatur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doto avvelenamenti da metalli pesanti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-lattato, Ca-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gluconato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-pantotenato, Ca-glicerofosf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5" name="Object 5"/>
          <p:cNvGraphicFramePr/>
          <p:nvPr/>
        </p:nvGraphicFramePr>
        <p:xfrm>
          <a:off x="1258920" y="115920"/>
          <a:ext cx="6738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5920"/>
                    <a:ext cx="6738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539640" y="5238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BAR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250920" y="1052640"/>
            <a:ext cx="87138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atione noto per le azioni tossiche (sali idrosolubili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camente simile al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può provocare stati di acuta 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vomito, diarrea, crampi muscolari, aritmie e morte per arresto cardia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ntido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lfati alcalini 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↓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livello gastric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0920" y="3527280"/>
            <a:ext cx="8569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O DI INTERESSE FARMACEUTIC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diopaco utilizzato nelle radiografie a raggi X (assorbe le radiazioni elettromagnetiche X)dell’apparato gastro-enter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468360" y="450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GNE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466560" y="901800"/>
            <a:ext cx="84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quantità media nell’uomo: 10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79280" y="1484280"/>
            <a:ext cx="44737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ntra nella costituzione di ossa e denti come fosfa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importante per attività di molti enzimi cellulari e reazioni in cui è implicato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stituente inorganico della </a:t>
            </a:r>
            <a:r>
              <a:rPr b="0" i="1" lang="it-IT" sz="1800" spc="-1" strike="noStrike">
                <a:solidFill>
                  <a:srgbClr val="66ff33"/>
                </a:solidFill>
                <a:latin typeface="Comic Sans MS"/>
              </a:rPr>
              <a:t>clorofill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zione lassativa e/o purgativa dovuta a facilità di solvatazione dello ione ed all’azione irritante loca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smo competitivo con lo ione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depressione a livello SN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228600" y="51814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ipnotica, analgesica e anestetica fino all’ arresto cardiaco ad alte dosi; potenti effetti ipotensivi; amianto (silicato) provoca tumori polmona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24" name="Object 9"/>
          <p:cNvGraphicFramePr/>
          <p:nvPr/>
        </p:nvGraphicFramePr>
        <p:xfrm>
          <a:off x="4932360" y="1595520"/>
          <a:ext cx="345600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59552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0"/>
          <p:cNvGraphicFramePr/>
          <p:nvPr/>
        </p:nvGraphicFramePr>
        <p:xfrm>
          <a:off x="4859280" y="3429000"/>
          <a:ext cx="392436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429000"/>
                    <a:ext cx="392436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539640" y="333360"/>
            <a:ext cx="84250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O,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(P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Mg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S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lassativo/purgante osmotico (sale ingles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Cl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-aspart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eintegratori per ev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O 3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nH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, antiulcera,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6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ttapulgite):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173240" y="3141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LIT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79440" y="3668760"/>
            <a:ext cx="83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LiBr, gluconato, citrato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 utilizzati nelle psicosi maniaco-depressiv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171360" y="4124160"/>
            <a:ext cx="8972640" cy="24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ZIONE FARMAC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riequilibrante nelle sindromi bipolari per il controllo esercitato su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delle cellule nervose e per gli effetti sui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I messaggeri cellulari (inositoli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disturbi tiroidei, gastroenteriti, obesità, lesioni cutane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tremori, atassia muscolare, nausea, vomito, epilessia, com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75564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OD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24000" y="1341360"/>
            <a:ext cx="60483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one a concentrazione prevalentemente extra-cellulare (come C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 a differenza di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Mg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intra-cellulare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ua concentrazione intracellulare è mantenuta da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.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gradiente di concentrazione viene sfruttato per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ontrollo della pressione osmot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trasmissione nerv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539640" y="76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300 mg/l nel plasm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35" name="Object 7"/>
          <p:cNvGraphicFramePr/>
          <p:nvPr/>
        </p:nvGraphicFramePr>
        <p:xfrm>
          <a:off x="2916360" y="4076640"/>
          <a:ext cx="307800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076640"/>
                    <a:ext cx="30780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7" name="Picture 9" descr="can na 2"/>
          <p:cNvPicPr/>
          <p:nvPr/>
        </p:nvPicPr>
        <p:blipFill>
          <a:blip r:embed="rId3"/>
          <a:stretch/>
        </p:blipFill>
        <p:spPr>
          <a:xfrm>
            <a:off x="6516720" y="2349360"/>
            <a:ext cx="2314440" cy="2824200"/>
          </a:xfrm>
          <a:prstGeom prst="rect">
            <a:avLst/>
          </a:prstGeom>
          <a:ln w="0">
            <a:noFill/>
          </a:ln>
        </p:spPr>
      </p:pic>
      <p:sp>
        <p:nvSpPr>
          <p:cNvPr id="438" name="Line 10"/>
          <p:cNvSpPr/>
          <p:nvPr/>
        </p:nvSpPr>
        <p:spPr>
          <a:xfrm>
            <a:off x="7524720" y="191628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6948360" y="155736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i="1" lang="it-IT" sz="20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6372360" y="5445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Trasmissione impulso nerv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Line 13"/>
          <p:cNvSpPr/>
          <p:nvPr/>
        </p:nvSpPr>
        <p:spPr>
          <a:xfrm>
            <a:off x="7596360" y="494172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324000" y="404640"/>
            <a:ext cx="8351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tilizzato come NaCl nelle soluzioni fisiologiche (0.9% p/v) iniettabili che devono esse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neutr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pH= 7.4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ton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i rapporti ionici ponderali del siero emat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osmo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e pressione osmot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24000" y="2492280"/>
            <a:ext cx="8353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↑ conc plasmatica di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pernatriemia) porta ad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pertens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ha effetti anche sulla diuresi e sulla eccitabilità di nervi e muscoli. Avvelenamento acuto per ev può provocare arresto del cuore in si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19240" y="3986280"/>
            <a:ext cx="8451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sod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purgante drastico per azione irritante sulla mucosa intestinale e           idratante la massa fecale (sale di Glauber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alcalinizzante in preparazioni farmaceutich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H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 per via or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Hcitr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coagulante ( il citrato chela il calci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1258920" y="595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POTAS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042920" y="98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dose media giornaliera 3 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24000" y="1700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one a concentrazione prevalentemente intracellulare, fondamentale per il biochimismo cellulare (vedi pompa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portante per il normale funzionamento del cuo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24000" y="3284640"/>
            <a:ext cx="83088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pota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Al(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allume di rocca): astringente, emostatico ed antisettico per uso estern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24000" y="486900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via ev provoca aritmie, fibrillazione cardiaca ed a dosi elevate arresto del cuore in dia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-396720" y="549360"/>
          <a:ext cx="9388440" cy="5989680"/>
        </p:xfrm>
        <a:graphic>
          <a:graphicData uri="http://schemas.openxmlformats.org/drawingml/2006/table">
            <a:tbl>
              <a:tblPr/>
              <a:tblGrid>
                <a:gridCol w="2454120"/>
                <a:gridCol w="69343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N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TTIVITA’ FARMACOLOGICA E COMPOSTI DI INTERESSE FARMACEUT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LF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Mg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ssativi e/o purganti osmotic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OR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Cl, CaCl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K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integrato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H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pettorante, mucolitico per irritazione di mucosa respiratori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tecipa insieme al N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lla regolazione della p osmotica e alla trasmissione dell’impulso nervo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BROM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Br, KBr, CaBr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LiBr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dativi, antiepilettici ma causano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romism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oggi in disuso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OSSAL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oni sequestranti il C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↓CaC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con conseguente ipocalcemia, calcolosi renale e trombosi vascolar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H</a:t>
                      </a:r>
                      <a:r>
                        <a:rPr b="1" lang="it-IT" sz="1600" spc="-1" strike="noStrike" baseline="-25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OOH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: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ato in soluzioni diluite all’1% come antibatterico per uso top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il-SCoA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ortantissimo intermedio metabol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324000" y="695160"/>
            <a:ext cx="835164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A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a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K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 conservanti negli insaccati per azione ossidante su microrganismi (causano metaemoglobinemia a dosi superiori a quelle fisiologich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52" name="Object 5"/>
          <p:cNvGraphicFramePr/>
          <p:nvPr/>
        </p:nvGraphicFramePr>
        <p:xfrm>
          <a:off x="5651640" y="2079720"/>
          <a:ext cx="28922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079720"/>
                    <a:ext cx="28922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7"/>
          <p:cNvSpPr/>
          <p:nvPr/>
        </p:nvSpPr>
        <p:spPr>
          <a:xfrm>
            <a:off x="396720" y="2152800"/>
            <a:ext cx="47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glicer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estere nitrico della glicerina) usato come coronaro-dilatator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3916440"/>
            <a:ext cx="843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I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servanti negli insaccati (cui conferiscono colore rosso vivo), nell’ambiente acido dello stomaco forman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soammi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stanze ad elevato potere cancerogen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R-N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+ HNO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→R-NH-N=O + 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>
            <a:off x="324000" y="404640"/>
            <a:ext cx="8591400" cy="34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NITRITI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ngono usati nel caso di avvelenamento da CIANURI.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 ione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N presenta una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r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ffinità per il Fe con conseguente inattivazione  degli enzimi della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nitrit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nche i nitrati) causano la formazione di metaemoglobina che lega il cianuro. La successiva somministrazione di 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rta a formazione del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N (molto meno tossico ed eliminabile attraverso le urine) grazie all’enzim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rodan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0" y="378936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332000" y="4003560"/>
            <a:ext cx="1079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Line 8"/>
          <p:cNvSpPr/>
          <p:nvPr/>
        </p:nvSpPr>
        <p:spPr>
          <a:xfrm flipV="1">
            <a:off x="2413080" y="3547800"/>
            <a:ext cx="595080" cy="455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2413080" y="3979800"/>
            <a:ext cx="496800" cy="455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2700360" y="3284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Line 11"/>
          <p:cNvSpPr/>
          <p:nvPr/>
        </p:nvSpPr>
        <p:spPr>
          <a:xfrm>
            <a:off x="3995640" y="3571920"/>
            <a:ext cx="119088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4284720" y="3355920"/>
            <a:ext cx="35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porto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556000" y="4292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3851280" y="450864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4427640" y="4292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6516720" y="4508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7539120" y="482616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7020000" y="4292640"/>
            <a:ext cx="247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S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2759040" y="51213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N</a:t>
            </a:r>
            <a:r>
              <a:rPr b="1" lang="it-IT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Line 20"/>
          <p:cNvSpPr/>
          <p:nvPr/>
        </p:nvSpPr>
        <p:spPr>
          <a:xfrm flipV="1">
            <a:off x="3780000" y="4652640"/>
            <a:ext cx="504720" cy="53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3780000" y="5516640"/>
            <a:ext cx="7189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24000" y="587700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Line 23"/>
          <p:cNvSpPr/>
          <p:nvPr/>
        </p:nvSpPr>
        <p:spPr>
          <a:xfrm flipV="1">
            <a:off x="3348000" y="6093000"/>
            <a:ext cx="19764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4622760" y="5877000"/>
            <a:ext cx="48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Oval 25"/>
          <p:cNvSpPr/>
          <p:nvPr/>
        </p:nvSpPr>
        <p:spPr>
          <a:xfrm>
            <a:off x="2771640" y="5084640"/>
            <a:ext cx="1008360" cy="505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332000" y="4003560"/>
            <a:ext cx="14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con N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 baseline="30000">
                <a:solidFill>
                  <a:srgbClr val="ffff66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5940360" y="458136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6227640" y="4172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cc"/>
                </a:solidFill>
                <a:latin typeface="Comic Sans MS"/>
              </a:rPr>
              <a:t>rodanas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90720" y="609480"/>
            <a:ext cx="691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Group 24"/>
          <p:cNvGrpSpPr/>
          <p:nvPr/>
        </p:nvGrpSpPr>
        <p:grpSpPr>
          <a:xfrm>
            <a:off x="609480" y="1371600"/>
            <a:ext cx="8280360" cy="4249800"/>
            <a:chOff x="609480" y="1371600"/>
            <a:chExt cx="8280360" cy="4249800"/>
          </a:xfrm>
        </p:grpSpPr>
        <p:sp>
          <p:nvSpPr>
            <p:cNvPr id="123" name="Text Box 14"/>
            <p:cNvSpPr/>
            <p:nvPr/>
          </p:nvSpPr>
          <p:spPr>
            <a:xfrm>
              <a:off x="7010280" y="3276720"/>
              <a:ext cx="16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Comic Sans MS"/>
                </a:rPr>
                <a:t>tessuti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4" name="Group 21"/>
            <p:cNvGrpSpPr/>
            <p:nvPr/>
          </p:nvGrpSpPr>
          <p:grpSpPr>
            <a:xfrm>
              <a:off x="609480" y="1371600"/>
              <a:ext cx="8280360" cy="4249800"/>
              <a:chOff x="609480" y="1371600"/>
              <a:chExt cx="8280360" cy="4249800"/>
            </a:xfrm>
          </p:grpSpPr>
          <p:sp>
            <p:nvSpPr>
              <p:cNvPr id="125" name="Rectangle 5"/>
              <p:cNvSpPr/>
              <p:nvPr/>
            </p:nvSpPr>
            <p:spPr>
              <a:xfrm>
                <a:off x="2409480" y="1371600"/>
                <a:ext cx="3167280" cy="7207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" name="Text Box 6"/>
              <p:cNvSpPr/>
              <p:nvPr/>
            </p:nvSpPr>
            <p:spPr>
              <a:xfrm>
                <a:off x="2625480" y="1371600"/>
                <a:ext cx="280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Sito di somministra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" name="Line 7"/>
              <p:cNvSpPr/>
              <p:nvPr/>
            </p:nvSpPr>
            <p:spPr>
              <a:xfrm>
                <a:off x="3920760" y="2235240"/>
                <a:ext cx="0" cy="79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Rectangle 8"/>
              <p:cNvSpPr/>
              <p:nvPr/>
            </p:nvSpPr>
            <p:spPr>
              <a:xfrm>
                <a:off x="2914560" y="3171960"/>
                <a:ext cx="208728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Text Box 9"/>
              <p:cNvSpPr/>
              <p:nvPr/>
            </p:nvSpPr>
            <p:spPr>
              <a:xfrm>
                <a:off x="3128760" y="3243240"/>
                <a:ext cx="165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plasma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0" name="Line 10"/>
              <p:cNvSpPr/>
              <p:nvPr/>
            </p:nvSpPr>
            <p:spPr>
              <a:xfrm>
                <a:off x="5144760" y="3532320"/>
                <a:ext cx="15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" name="Line 11"/>
              <p:cNvSpPr/>
              <p:nvPr/>
            </p:nvSpPr>
            <p:spPr>
              <a:xfrm flipH="1">
                <a:off x="5144400" y="3387600"/>
                <a:ext cx="136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2" name="Rectangle 12"/>
              <p:cNvSpPr/>
              <p:nvPr/>
            </p:nvSpPr>
            <p:spPr>
              <a:xfrm>
                <a:off x="6802200" y="3243240"/>
                <a:ext cx="208764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6945120" y="3316320"/>
                <a:ext cx="1655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4" name="Text Box 15"/>
              <p:cNvSpPr/>
              <p:nvPr/>
            </p:nvSpPr>
            <p:spPr>
              <a:xfrm>
                <a:off x="1112400" y="2451240"/>
                <a:ext cx="28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5050"/>
                    </a:solidFill>
                    <a:latin typeface="Comic Sans MS"/>
                  </a:rPr>
                  <a:t>1. ASSORBIMENTO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5" name="Text Box 16"/>
              <p:cNvSpPr/>
              <p:nvPr/>
            </p:nvSpPr>
            <p:spPr>
              <a:xfrm>
                <a:off x="4568400" y="2846520"/>
                <a:ext cx="288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66ff33"/>
                    </a:solidFill>
                    <a:latin typeface="Comic Sans MS"/>
                  </a:rPr>
                  <a:t>2. DISTRIBU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>
                <a:off x="3920760" y="3892680"/>
                <a:ext cx="0" cy="93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2698560" y="5116320"/>
                <a:ext cx="2519280" cy="50508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8" name="Text Box 19"/>
              <p:cNvSpPr/>
              <p:nvPr/>
            </p:nvSpPr>
            <p:spPr>
              <a:xfrm>
                <a:off x="2984400" y="5187960"/>
                <a:ext cx="201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feci, uri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9" name="Text Box 20"/>
              <p:cNvSpPr/>
              <p:nvPr/>
            </p:nvSpPr>
            <p:spPr>
              <a:xfrm>
                <a:off x="609480" y="3963960"/>
                <a:ext cx="309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ff66"/>
                    </a:solidFill>
                    <a:latin typeface="Comic Sans MS"/>
                  </a:rPr>
                  <a:t>3. METABOLISMO ED ESCRE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40" name="Text Box 23"/>
          <p:cNvSpPr/>
          <p:nvPr/>
        </p:nvSpPr>
        <p:spPr>
          <a:xfrm>
            <a:off x="129528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4"/>
          <p:cNvSpPr/>
          <p:nvPr/>
        </p:nvSpPr>
        <p:spPr>
          <a:xfrm>
            <a:off x="423720" y="436680"/>
            <a:ext cx="8413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ARBONA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più importante sistema tampone fisiolog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mette controllo respiratorio del pH emat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57200" y="1371600"/>
            <a:ext cx="84963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OD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NaI, KI usati nelle disfunzioni tiroidee e quali espettoranti e mucolitici; I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utilizzato per la sintesi di ormoni tiroidei T4 (tiroxina) e T3 (triiodotironina) fondamentali per metabolism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2" name="Object 0"/>
          <p:cNvGraphicFramePr/>
          <p:nvPr/>
        </p:nvGraphicFramePr>
        <p:xfrm>
          <a:off x="755640" y="2565360"/>
          <a:ext cx="7488360" cy="16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748836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8"/>
          <p:cNvSpPr/>
          <p:nvPr/>
        </p:nvSpPr>
        <p:spPr>
          <a:xfrm>
            <a:off x="539640" y="4678200"/>
            <a:ext cx="849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IAN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levata tossicità (dose letale media HCN 50-100 mg; KCN: 130-200 mg) dovuta a forte affinità per F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inattivazione enzimi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do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(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nitriti e tiosolfati alcalin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838080" y="762120"/>
            <a:ext cx="7239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990720" y="838080"/>
            <a:ext cx="7162560" cy="5410080"/>
            <a:chOff x="990720" y="838080"/>
            <a:chExt cx="7162560" cy="5410080"/>
          </a:xfrm>
        </p:grpSpPr>
        <p:pic>
          <p:nvPicPr>
            <p:cNvPr id="143" name="Picture 4" descr="Cinetica"/>
            <p:cNvPicPr/>
            <p:nvPr/>
          </p:nvPicPr>
          <p:blipFill>
            <a:blip r:embed="rId1"/>
            <a:stretch/>
          </p:blipFill>
          <p:spPr>
            <a:xfrm>
              <a:off x="990720" y="838080"/>
              <a:ext cx="7162560" cy="53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6"/>
            <p:cNvSpPr/>
            <p:nvPr/>
          </p:nvSpPr>
          <p:spPr>
            <a:xfrm>
              <a:off x="990720" y="838080"/>
              <a:ext cx="7162560" cy="541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5" name="Text Box 7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16000" y="3078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ASSORBIMEN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24000" y="1197000"/>
            <a:ext cx="835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dopo somministrazione per os: stomaco ed intesti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ipende da vari fattori quali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l flusso ematico nel sito di 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uperficie totale disponibile per l’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empo di contatto con la superficie assorbente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3789360"/>
            <a:ext cx="85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può avveni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passiva semplice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facilitata (carriers proteici)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trasporto attivo (carriers proteic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7" descr="membrana"/>
          <p:cNvPicPr/>
          <p:nvPr/>
        </p:nvPicPr>
        <p:blipFill>
          <a:blip r:embed="rId1"/>
          <a:stretch/>
        </p:blipFill>
        <p:spPr>
          <a:xfrm>
            <a:off x="5508720" y="3213000"/>
            <a:ext cx="3238560" cy="30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Line 8"/>
          <p:cNvSpPr/>
          <p:nvPr/>
        </p:nvSpPr>
        <p:spPr>
          <a:xfrm>
            <a:off x="6443640" y="2852640"/>
            <a:ext cx="216000" cy="201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093080" y="278136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19" descr="farmaco"/>
          <p:cNvPicPr/>
          <p:nvPr/>
        </p:nvPicPr>
        <p:blipFill>
          <a:blip r:embed="rId2"/>
          <a:stretch/>
        </p:blipFill>
        <p:spPr>
          <a:xfrm>
            <a:off x="6823080" y="220500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153" name="Line 20"/>
          <p:cNvSpPr/>
          <p:nvPr/>
        </p:nvSpPr>
        <p:spPr>
          <a:xfrm>
            <a:off x="7885080" y="242100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21" descr="farmaco"/>
          <p:cNvPicPr/>
          <p:nvPr/>
        </p:nvPicPr>
        <p:blipFill>
          <a:blip r:embed="rId3"/>
          <a:stretch/>
        </p:blipFill>
        <p:spPr>
          <a:xfrm>
            <a:off x="7667640" y="1844640"/>
            <a:ext cx="4856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8:16:16Z</dcterms:created>
  <dc:creator>Ilaria &amp; Vera</dc:creator>
  <dc:description/>
  <dc:language>en-US</dc:language>
  <cp:lastModifiedBy>Sergio  Valente</cp:lastModifiedBy>
  <dcterms:modified xsi:type="dcterms:W3CDTF">2018-12-19T07:44:42Z</dcterms:modified>
  <cp:revision>234</cp:revision>
  <dc:subject/>
  <dc:title>Presentazione di PowerPoint</dc:title>
</cp:coreProperties>
</file>