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55.jpeg" ContentType="image/jpeg"/>
  <Override PartName="/ppt/media/image43.png" ContentType="image/png"/>
  <Override PartName="/ppt/media/image54.wmf" ContentType="image/x-wmf"/>
  <Override PartName="/ppt/media/image53.wmf" ContentType="image/x-wmf"/>
  <Override PartName="/ppt/media/image51.jpeg" ContentType="image/jpeg"/>
  <Override PartName="/ppt/media/image49.jpeg" ContentType="image/jpeg"/>
  <Override PartName="/ppt/media/image4.jpeg" ContentType="image/jpeg"/>
  <Override PartName="/ppt/media/image40.png" ContentType="image/png"/>
  <Override PartName="/ppt/media/image37.jpeg" ContentType="image/jpeg"/>
  <Override PartName="/ppt/media/image3.jpeg" ContentType="image/jpeg"/>
  <Override PartName="/ppt/media/image28.wmf" ContentType="image/x-wmf"/>
  <Override PartName="/ppt/media/image62.wmf" ContentType="image/x-wmf"/>
  <Override PartName="/ppt/media/image50.wmf" ContentType="image/x-wmf"/>
  <Override PartName="/ppt/media/image1.jpeg" ContentType="image/jpeg"/>
  <Override PartName="/ppt/media/image10.png" ContentType="image/png"/>
  <Override PartName="/ppt/media/image26.wmf" ContentType="image/x-wmf"/>
  <Override PartName="/ppt/media/image9.png" ContentType="image/png"/>
  <Override PartName="/ppt/media/image22.jpeg" ContentType="image/jpeg"/>
  <Override PartName="/ppt/media/image24.jpeg" ContentType="image/jpeg"/>
  <Override PartName="/ppt/media/image52.wmf" ContentType="image/x-wmf"/>
  <Override PartName="/ppt/media/image23.jpeg" ContentType="image/jpeg"/>
  <Override PartName="/ppt/media/image46.jpeg" ContentType="image/jpeg"/>
  <Override PartName="/ppt/media/image15.wmf" ContentType="image/x-wmf"/>
  <Override PartName="/ppt/media/image66.wmf" ContentType="image/x-wmf"/>
  <Override PartName="/ppt/media/image19.wmf" ContentType="image/x-wmf"/>
  <Override PartName="/ppt/media/image61.wmf" ContentType="image/x-wmf"/>
  <Override PartName="/ppt/media/image65.wmf" ContentType="image/x-wmf"/>
  <Override PartName="/ppt/media/image42.jpeg" ContentType="image/jpeg"/>
  <Override PartName="/ppt/media/image64.png" ContentType="image/png"/>
  <Override PartName="/ppt/media/image16.wmf" ContentType="image/x-wmf"/>
  <Override PartName="/ppt/media/image27.wmf" ContentType="image/x-wmf"/>
  <Override PartName="/ppt/media/image14.wmf" ContentType="image/x-wmf"/>
  <Override PartName="/ppt/media/image57.png" ContentType="image/png"/>
  <Override PartName="/ppt/media/image18.wmf" ContentType="image/x-wmf"/>
  <Override PartName="/ppt/media/image21.jpeg" ContentType="image/jpeg"/>
  <Override PartName="/ppt/media/image63.wmf" ContentType="image/x-wmf"/>
  <Override PartName="/ppt/media/image20.wmf" ContentType="image/x-wmf"/>
  <Override PartName="/ppt/media/image7.jpeg" ContentType="image/jpeg"/>
  <Override PartName="/ppt/media/image38.jpeg" ContentType="image/jpeg"/>
  <Override PartName="/ppt/media/image11.png" ContentType="image/png"/>
  <Override PartName="/ppt/media/image6.jpeg" ContentType="image/jpeg"/>
  <Override PartName="/ppt/media/image12.wmf" ContentType="image/x-wmf"/>
  <Override PartName="/ppt/media/image5.wmf" ContentType="image/x-wmf"/>
  <Override PartName="/ppt/media/image17.wmf" ContentType="image/x-wmf"/>
  <Override PartName="/ppt/media/image29.jpeg" ContentType="image/jpeg"/>
  <Override PartName="/ppt/media/image8.jpeg" ContentType="image/jpeg"/>
  <Override PartName="/ppt/media/image41.wmf" ContentType="image/x-wmf"/>
  <Override PartName="/ppt/media/image56.png" ContentType="image/png"/>
  <Override PartName="/ppt/media/image13.wmf" ContentType="image/x-wmf"/>
  <Override PartName="/ppt/media/image58.jpeg" ContentType="image/jpeg"/>
  <Override PartName="/ppt/media/image30.wmf" ContentType="image/x-wmf"/>
  <Override PartName="/ppt/media/image2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34.wmf" ContentType="image/x-wmf"/>
  <Override PartName="/ppt/media/image35.png" ContentType="image/png"/>
  <Override PartName="/ppt/media/image36.wmf" ContentType="image/x-wmf"/>
  <Override PartName="/ppt/media/image25.wmf" ContentType="image/x-wmf"/>
  <Override PartName="/ppt/media/image47.jpeg" ContentType="image/jpeg"/>
  <Override PartName="/ppt/media/image39.wmf" ContentType="image/x-wmf"/>
  <Override PartName="/ppt/media/image60.wmf" ContentType="image/x-wmf"/>
  <Override PartName="/ppt/media/image44.jpeg" ContentType="image/jpeg"/>
  <Override PartName="/ppt/media/image45.png" ContentType="image/png"/>
  <Override PartName="/ppt/media/image4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368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5BBD-68A3-4E5C-9299-4943EA642FA6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E448-5408-4E05-857D-723833CD6FD9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8697-F986-4CB0-8BC3-742956B5C339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AD6D-FFC8-4E27-BCF1-F802E0C3965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8A11-5E47-4047-81CA-D975EA025BD2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090B-9531-4096-B87F-CB703E91072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2502-CB61-4C2D-B94C-E8ADC569718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56C5-F4F0-47A6-B897-ECC76C97267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FE34-798A-458A-BBCA-DADB0A6A2BB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A263-8D8D-494C-A16F-DFA46B0ED06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0B14-62F0-4560-AF9B-EA865DB79BE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6F22-D7D7-4A5E-BC75-E2E9AA0EA84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693E-2B41-4DC5-B214-75EE1C3451A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62AD-69D5-44C1-96D7-E6A2971CA6C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8920-52F1-4296-939B-6D6422C2C36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4D7A-0BAB-40E7-AF07-17DC18F00EE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D6EB-9015-4C5E-9C64-2BB0164E968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6AA6-72E6-45D4-816E-C8877994976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5411-173A-4B99-A132-C3F4E47EB9E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FB9B-4717-43ED-AEA0-7A5515DD7BA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C366-7935-43C9-8A06-2B61498E6D0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C9C4-0890-4523-9F7C-A8B1E377C9B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C669-0BAF-4160-99E8-FDC9A8878AC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BF21-AE33-4FF6-AF9F-53734D91602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5072-B67E-4235-8275-DEC34CFE5BB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F7D5-CACF-457F-8533-D94FDEBBA2B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759C-F6DA-437E-8F4A-D057214EC05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ACA6-4FE2-4C7A-B052-A91D0116836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D5E0-B108-4532-8420-4F44693C124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D91E-BC3A-415A-9FD9-EAF09374738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859D-71F1-4E1F-BB26-A34456B7DF4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433A-110D-46DE-8E27-52F02DB8C15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8854-BA7E-442A-B9FF-6BE8AD2C1BD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0714-CAB0-4E71-B071-D63515283AE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5064-F607-4F0F-AE30-D23461EA11E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C7A0-E8C3-4838-8B6E-2CB5B2090562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2BFE-A752-4EEF-BC09-63D9EE94376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9628-308A-4A07-BC69-D2115C5C6C5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435C-CCD6-4A6B-B68A-94BFC36FC6D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625A-FD34-4784-84B6-7FB5615E9FB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995E-ACD8-4110-804E-32123EE2B36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8BAD-97FA-4653-9619-0C5FA8272FD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C65C-085A-4B12-92C9-9C89FE37E1A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EB40-E09F-4CD4-9155-8D582E38332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5416-E993-402E-9BB5-72E17B68E19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C3A8-C5BC-4162-9A64-01D58E884D0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37B3-7CF6-49C6-9A4E-FDD38C8B57E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EBAE-0C23-45C6-8C73-4B7E00FC43C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4267-3932-4249-915B-D24227D832D2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22EE-581C-47C1-9C0C-8ECCB955560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CAAE-D9E0-450A-A0DD-15F163D72B8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D52B-62A6-4C30-ABA8-6890B05329D2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40B6-1361-4D04-BDE5-72F8C79DB10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B7B4-8DAE-40F3-A769-CEC1B81DAFA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4B26-D2EB-423E-B575-BF902A3F548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AE2D-664B-4278-A44F-645382236FB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3FD8-8D92-4E73-B7FE-8E41B686659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CC43-D27C-4F0B-888B-5C6F368C7D0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BA60-411E-44AC-AD44-6CBE276CD1B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4E43-F194-4572-984B-4B5B16F112B2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F893-5331-4E15-AB4B-E3236FF8C14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B8EC-6C3D-40E6-8B8F-7591B1A4F48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825B-9CFB-464A-B6E9-E64D03359F62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CF81-AA79-426F-B0B0-686C45D2B1D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F085-F25B-43E7-B6AE-2D8879FEFE39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A200-622E-44EA-A3DB-585826AB9E3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F4C0-572D-4B1D-8481-5BB4D5956D29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65A2-AA3A-4A7A-9E22-07D97F23C35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1594-8001-47C3-8A82-BE9D99D0860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4F26-8B73-42DB-91E0-83716BB3069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17D7-11DB-47B6-98AD-BAF57056E09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A04-9250-4792-AAC1-058C6F43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636-8108-4FE6-A4A6-1979D731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C3B-728A-42BB-A92C-E598C1B2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BBE-56D2-4F91-BBDC-17E0DEF3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9D36-A40B-4F0E-8C18-CB08E7DD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6AB1-FF9F-4F95-8BFF-AC5F7B6D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835A-AA5A-420C-8F16-BFE02FD1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7930-1BA2-48F4-9564-C3A857CD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29BB-8620-47DD-9588-033E4F36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E328-3BF5-4118-9D35-1BB0C50E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1E05-8568-4D0E-A072-9A429B68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AAEB-8F19-45AB-AF25-8BBE8E20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339B-F35D-4A4A-9D6C-39202940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7D3B-78F9-4275-AB40-2540CBFA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E889-C588-4F14-9F8F-A41AE6E6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15B4-61CB-4FBD-88E8-35410AD5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FC70-CC67-4F23-B7C8-5C8DB2F3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18E-253A-4A77-ACC9-0D19CC2F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CF1C-5AAC-46E2-86CB-7470C4D2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8BD-A13E-4DA5-88CB-B0DEF255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660-6FD8-439B-A00F-31187525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D597-74D5-4512-B696-3987CF3B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011-C607-4CB3-9D37-DD53A24A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E6B9-47EA-42F8-BDA6-E221FEDC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a1b5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4CBB-0DDC-40B0-9F5D-65878E113B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50000">
              <a:srgbClr val="e0e8f8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ED2A-7A35-4BAD-9203-581BF9FE2ED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5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62080" y="2349360"/>
            <a:ext cx="8574120" cy="25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191966"/>
                </a:solidFill>
                <a:latin typeface="Comic Sans MS"/>
              </a:rPr>
              <a:t>Chimica Farmaceutica e Tossicologica dei Composti Inorganici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191966"/>
                </a:solidFill>
                <a:latin typeface="Comic Sans MS"/>
              </a:rPr>
              <a:t>Corso di Laurea in CTF (A-L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191966"/>
                </a:solidFill>
                <a:latin typeface="Comic Sans MS"/>
              </a:rPr>
              <a:t>Dr. Sergio Valen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-5724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39640" y="549360"/>
            <a:ext cx="82234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Farmaci/tossici fortemente idrofili poiché carichi o insolubili non sono attivi per os: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d-tubocurarina e BaSO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6" descr="File:Tubocurarine.svg"/>
          <p:cNvPicPr/>
          <p:nvPr/>
        </p:nvPicPr>
        <p:blipFill>
          <a:blip r:embed="rId1"/>
          <a:stretch/>
        </p:blipFill>
        <p:spPr>
          <a:xfrm>
            <a:off x="485640" y="2041560"/>
            <a:ext cx="4000680" cy="2705040"/>
          </a:xfrm>
          <a:prstGeom prst="rect">
            <a:avLst/>
          </a:prstGeom>
          <a:ln w="0">
            <a:noFill/>
          </a:ln>
        </p:spPr>
      </p:pic>
      <p:sp>
        <p:nvSpPr>
          <p:cNvPr id="158" name="ZoneTexte 5"/>
          <p:cNvSpPr/>
          <p:nvPr/>
        </p:nvSpPr>
        <p:spPr>
          <a:xfrm>
            <a:off x="2208240" y="5046840"/>
            <a:ext cx="4675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-tubocurarina (curaro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Miorilassante attivo solo per e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Picture 8" descr="File:Tubocurarine-3D-sticks.png"/>
          <p:cNvPicPr/>
          <p:nvPr/>
        </p:nvPicPr>
        <p:blipFill>
          <a:blip r:embed="rId2"/>
          <a:stretch/>
        </p:blipFill>
        <p:spPr>
          <a:xfrm>
            <a:off x="4875120" y="1820880"/>
            <a:ext cx="382932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533520" y="304920"/>
            <a:ext cx="7848360" cy="35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attraverso la via respiratoria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ssorbimento rapido grazie all’ampia superficie ed elevata irrorazione delle membrane alveolo-capillari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olti metalli vengono inalati sotto forma di aerosol (intossicazioni industrial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Comic Sans MS"/>
              </a:rPr>
              <a:t>Hg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ntisifilitico-sifilide, da treponema pallidum-XV secol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 era somministrato attraverso inalazion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ravi intossicazioni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cuni farmaci vengono somministrati per via inalatoria (anestetici generali volatili, broncodilatatori e cortisonici nell’asma e nitrito di amile nei casi d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ngina pectori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39640" y="3887640"/>
            <a:ext cx="80647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attraverso la pelle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la pelle è un tessuto di protezione poco favorevole alla penetrazione dei tossici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È però permeabile a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 alle sostanze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ipofil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solubili nei lipid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39640" y="514980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esioni di continuità della cute alterano profondamente l’assorbimento attraverso di ess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684360" y="476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DISTRIBUZIO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68360" y="126828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na volta assorbito il tossico si distribuisce nei vari tessuti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distribuzione dipende dalla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vascolarizzazione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 dalla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affinità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l tessuto per quel determinato toss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539640" y="2708280"/>
            <a:ext cx="8353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li organi nei quali i tossici si localizzano più frequentemente sono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feg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(Pb, Hg, Cu, A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SN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Pb, H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rene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Cd, H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539640" y="4365720"/>
            <a:ext cx="8209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localizzazione del tossico dipende anche dal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ipo di intossicaz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acuta o 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 Esempio del Pb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x 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fegato e re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x 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unghie, peli, capelli, saliv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: essendo la funzionalità renale alterata, il tossico non viene più eliminato con le urine ma attraverso nuove vi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611280" y="333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ETABOLISM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84360" y="1125360"/>
            <a:ext cx="777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24000" y="968400"/>
            <a:ext cx="835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farmaco/tossico può subire una serie di trasformazioni chimiche all’interno dell’organismo che vanno sotto il nome di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etabolism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04920" y="1752480"/>
            <a:ext cx="8353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este reazioni di biotrasformazione sono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enzimatiche, non enzimatiche (spontanee) o post-enzimat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d avvengono prevalentemente a livello del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fegat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4000" y="2852640"/>
            <a:ext cx="8353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o scopo è quello di formare metaboliti più facilmente eliminabili attraverso gli organi emuntor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0" y="3733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Tossico</a:t>
            </a:r>
            <a:r>
              <a:rPr b="1" i="1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1584360" y="4162320"/>
            <a:ext cx="1800360" cy="122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0" y="4876920"/>
            <a:ext cx="26668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5050"/>
                </a:solidFill>
                <a:latin typeface="Comic Sans MS"/>
              </a:rPr>
              <a:t>Reazioni di fase 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5050"/>
                </a:solidFill>
                <a:latin typeface="Comic Sans MS"/>
              </a:rPr>
              <a:t>(funzionalizzazione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3317760" y="4632480"/>
            <a:ext cx="208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ossi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ttiv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mmodificato o inattivato ma comunque generalmente leggermente più pola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5364000" y="4343400"/>
            <a:ext cx="2027520" cy="90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7451640" y="3363840"/>
            <a:ext cx="16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ossico generalmente inattivo e comunque più polare escreto con le uri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4648320" y="3754440"/>
            <a:ext cx="2438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66"/>
                </a:solidFill>
                <a:latin typeface="Comic Sans MS"/>
              </a:rPr>
              <a:t>Reazioni di fase 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66"/>
                </a:solidFill>
                <a:latin typeface="Comic Sans MS"/>
              </a:rPr>
              <a:t>(coniugazione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324000" y="5300640"/>
            <a:ext cx="71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468360" y="496800"/>
            <a:ext cx="813600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Reazioni di fase 1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hanno lo scopo di trasformare molecole lipofile in molecole più polari/idrofile attraverso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’introduzione o lo smascheramento di gruppi funzionali polar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(-OH, -NH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, -COOH)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82680" y="1847880"/>
            <a:ext cx="8353440" cy="9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ono reazioni di fase 1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ossidazio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2" name="Object 6"/>
          <p:cNvGraphicFramePr/>
          <p:nvPr/>
        </p:nvGraphicFramePr>
        <p:xfrm>
          <a:off x="893880" y="3192480"/>
          <a:ext cx="4789440" cy="15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3192480"/>
                    <a:ext cx="4789440" cy="15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7"/>
          <p:cNvGraphicFramePr/>
          <p:nvPr/>
        </p:nvGraphicFramePr>
        <p:xfrm>
          <a:off x="1057320" y="5318280"/>
          <a:ext cx="640872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7320" y="5318280"/>
                    <a:ext cx="640872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395280" y="549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riduzio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7" name="Object 0"/>
          <p:cNvGraphicFramePr/>
          <p:nvPr/>
        </p:nvGraphicFramePr>
        <p:xfrm>
          <a:off x="1596960" y="1393920"/>
          <a:ext cx="554364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6960" y="1393920"/>
                    <a:ext cx="55436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7"/>
          <p:cNvSpPr/>
          <p:nvPr/>
        </p:nvSpPr>
        <p:spPr>
          <a:xfrm>
            <a:off x="539640" y="335772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idrolisi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0" name="Object 1"/>
          <p:cNvGraphicFramePr/>
          <p:nvPr/>
        </p:nvGraphicFramePr>
        <p:xfrm>
          <a:off x="1711440" y="4454640"/>
          <a:ext cx="3998880" cy="159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1440" y="4454640"/>
                    <a:ext cx="399888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57040" y="0"/>
            <a:ext cx="84567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fase 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sono reazioni di coniugazione. I metaboliti di fase I vengono coniugati con substrati endogeni altamente polari come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acido glucuronico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,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glutatione, solfato ed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aminoacidi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 prodotti di coniugazione sono generalmente più idrosolubili e più facilmente escreti nelle urine e/o nella bile rispetto ai loro precursor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93" name="Group 14"/>
          <p:cNvGrpSpPr/>
          <p:nvPr/>
        </p:nvGrpSpPr>
        <p:grpSpPr>
          <a:xfrm>
            <a:off x="539640" y="2155680"/>
            <a:ext cx="8425080" cy="4442040"/>
            <a:chOff x="539640" y="2155680"/>
            <a:chExt cx="8425080" cy="4442040"/>
          </a:xfrm>
        </p:grpSpPr>
        <p:graphicFrame>
          <p:nvGraphicFramePr>
            <p:cNvPr id="194" name="Object 5"/>
            <p:cNvGraphicFramePr/>
            <p:nvPr/>
          </p:nvGraphicFramePr>
          <p:xfrm>
            <a:off x="2013120" y="2155680"/>
            <a:ext cx="3892320" cy="158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13120" y="2155680"/>
                      <a:ext cx="3892320" cy="158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Line 6"/>
            <p:cNvSpPr/>
            <p:nvPr/>
          </p:nvSpPr>
          <p:spPr>
            <a:xfrm flipH="1">
              <a:off x="2916000" y="3597120"/>
              <a:ext cx="165708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>
              <a:off x="5219640" y="3597120"/>
              <a:ext cx="136836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198" name="Object 8"/>
            <p:cNvGraphicFramePr/>
            <p:nvPr/>
          </p:nvGraphicFramePr>
          <p:xfrm>
            <a:off x="2268360" y="4029120"/>
            <a:ext cx="1297080" cy="68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9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68360" y="4029120"/>
                      <a:ext cx="1297080" cy="6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0" name="Object 9"/>
            <p:cNvGraphicFramePr/>
            <p:nvPr/>
          </p:nvGraphicFramePr>
          <p:xfrm>
            <a:off x="1692360" y="5037120"/>
            <a:ext cx="1650960" cy="1558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1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92360" y="5037120"/>
                      <a:ext cx="1650960" cy="15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Text Box 10"/>
            <p:cNvSpPr/>
            <p:nvPr/>
          </p:nvSpPr>
          <p:spPr>
            <a:xfrm>
              <a:off x="539640" y="438948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3300"/>
                  </a:solidFill>
                  <a:latin typeface="Comic Sans MS"/>
                </a:rPr>
                <a:t>Coniugazione con la glicina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203" name="Object 11"/>
            <p:cNvGraphicFramePr/>
            <p:nvPr/>
          </p:nvGraphicFramePr>
          <p:xfrm>
            <a:off x="6227640" y="5030640"/>
            <a:ext cx="1657440" cy="15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4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27640" y="5030640"/>
                      <a:ext cx="1657440" cy="15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Object 12"/>
            <p:cNvGraphicFramePr/>
            <p:nvPr/>
          </p:nvGraphicFramePr>
          <p:xfrm>
            <a:off x="6300720" y="3381480"/>
            <a:ext cx="830160" cy="120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6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00720" y="3381480"/>
                      <a:ext cx="830160" cy="12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Text Box 13"/>
            <p:cNvSpPr/>
            <p:nvPr/>
          </p:nvSpPr>
          <p:spPr>
            <a:xfrm>
              <a:off x="6948360" y="3933720"/>
              <a:ext cx="201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ff66"/>
                  </a:solidFill>
                  <a:latin typeface="Comic Sans MS"/>
                </a:rPr>
                <a:t>Coniugazione con l’acido glucuronico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fase2"/>
          <p:cNvPicPr/>
          <p:nvPr/>
        </p:nvPicPr>
        <p:blipFill>
          <a:blip r:embed="rId1"/>
          <a:stretch/>
        </p:blipFill>
        <p:spPr>
          <a:xfrm>
            <a:off x="1371600" y="838080"/>
            <a:ext cx="6400800" cy="58262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1371600" y="838080"/>
            <a:ext cx="6400800" cy="579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3808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COFATTORI DI CONIUGAZIO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Glu"/>
          <p:cNvPicPr/>
          <p:nvPr/>
        </p:nvPicPr>
        <p:blipFill>
          <a:blip r:embed="rId1"/>
          <a:stretch/>
        </p:blipFill>
        <p:spPr>
          <a:xfrm>
            <a:off x="5257800" y="228600"/>
            <a:ext cx="3286080" cy="6400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152280" y="121932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ff66"/>
                </a:solidFill>
                <a:latin typeface="Comic Sans MS"/>
              </a:rPr>
              <a:t>ESEMPIO DI COMPLESSITA’ DEL METABOLISMO DI FASE 2: GLUTATIONOCONIUGAZIONE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5257800" y="228600"/>
            <a:ext cx="327672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61128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AVVELENAMENTO DA METALLI PESANT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4000" y="1419120"/>
            <a:ext cx="8153280" cy="12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menti stimolatori (non essenziali)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e di assorbimento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alatoria e cutanea (intossicazione industriale), gastroenterica (intossicazione non industrial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80880" y="3581280"/>
            <a:ext cx="843912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Intossicazion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cuta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(singola esposizione di durata relativamente breve a dosi elevate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isturbi gastrointestinali (nausea, vomito, diarrea, dolori addominali), segni particolari quali orletto gengivale nero (PbS) o pelle grigio-nerastra (Ag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), peraltro riscontrabili anche in quelle croniche. Manifestazioni patologiche specifich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700200" y="83664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g, Pb, Hg, As, Sb, Bi, C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04920" y="5258520"/>
            <a:ext cx="829620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CADMIO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er ingestione di alimenti contaminati: nausea, vomito, diarrea; per inalazione di vapori di Cd (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fumo di sigarette è una delle principali fonti non occupazional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i fumatori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hanno una concentrazione ematica di Cd   4-5 volte maggior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: irritazione locale, asma, polmonite acuta ed edema polmonar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304920" y="2514600"/>
            <a:ext cx="85150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CCANISMO GENERALE DELL’AZIONE TOSS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gli ioni dei metalli pesanti interagiscono con  gruppi nucleofili (in particolare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H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delle proteine (soprattutto enzimi) inattivandole e alterando il biochimismo fisiologico cellulare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685800" y="533520"/>
            <a:ext cx="8001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MEDICINAL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FU): ogni sostanza o composizion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esentata come avente proprietà curative o profilattiche delle malattie umane ed animali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a somministrare all’uomo o all’animale allo scopo di stabilire una diagnosi o di ripristinare, correggere o modificare funzioni organiche dell’uomo o dell’animal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685800" y="320040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FARMAC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: qualsiasi sostanza in grado di indurre, attraverso le sue azioni chimico-fisiche, modifiche nelle funzioni biologich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685800" y="4267080"/>
            <a:ext cx="79246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VELENO/TOSSIC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senso comune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lunque agente che, a dosi relativamente piccole e spesso senza effetti subito appariscenti, sia capace  di produrre delle risposte dannose in un sistema biologico alterandone seriamente le funzioni o producendone  talvolta anche la mort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26"/>
          <p:cNvSpPr/>
          <p:nvPr/>
        </p:nvSpPr>
        <p:spPr>
          <a:xfrm>
            <a:off x="457200" y="5257800"/>
            <a:ext cx="839484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RCURI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gedia di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nama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iga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1950): intossicazione per ingestione pesce contaminato da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Hg(Me)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 MeHg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tamente liposolubile, risale la catena alimentare);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raq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cereali inquinati da composti mercuriali ad attività anticrittogamica): morte, cecità, malformazioni fetali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1" name="Picture 1027" descr="Catena_2"/>
          <p:cNvPicPr/>
          <p:nvPr/>
        </p:nvPicPr>
        <p:blipFill>
          <a:blip r:embed="rId1"/>
          <a:stretch/>
        </p:blipFill>
        <p:spPr>
          <a:xfrm>
            <a:off x="1371600" y="685800"/>
            <a:ext cx="6400800" cy="44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029"/>
          <p:cNvSpPr/>
          <p:nvPr/>
        </p:nvSpPr>
        <p:spPr>
          <a:xfrm>
            <a:off x="2556000" y="836640"/>
            <a:ext cx="32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1030"/>
          <p:cNvSpPr/>
          <p:nvPr/>
        </p:nvSpPr>
        <p:spPr>
          <a:xfrm>
            <a:off x="2484360" y="765000"/>
            <a:ext cx="35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1032"/>
          <p:cNvSpPr/>
          <p:nvPr/>
        </p:nvSpPr>
        <p:spPr>
          <a:xfrm>
            <a:off x="324000" y="33336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cronica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(esposizioni ripetute nel tempo a dosi relativamente basse)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1034"/>
          <p:cNvSpPr/>
          <p:nvPr/>
        </p:nvSpPr>
        <p:spPr>
          <a:xfrm>
            <a:off x="380880" y="609480"/>
            <a:ext cx="84981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PIOMBO,</a:t>
            </a:r>
            <a:r>
              <a:rPr b="1" i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SATURNISM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esposizione occupazionale per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inatori, operai di fabbriche di vernici (PbCrO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di industrie chimiche, di tipografie, addetti alla distribuzione delle benzine super ([Pb(CH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] utilizzato come antidetonant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intomi più frequenti: astenia, anoressia, cefalea, anemia, pallore della cute, orletto gengivale nero (Pb e PbS).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Rectangle 1035"/>
          <p:cNvSpPr/>
          <p:nvPr/>
        </p:nvSpPr>
        <p:spPr>
          <a:xfrm>
            <a:off x="304920" y="2209680"/>
            <a:ext cx="861048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cipali bersagl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SNC e SNP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ferenza con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canismi sinaptici di rilascio dei NT (competizione con il C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,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rvello del feto più sensibile per BEE immatura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uropatie periferiche: astenia con conseguente fenomeno di “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duta del polso e del pied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” per degenerazione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7" name="Picture 1036" descr="sinapsi"/>
          <p:cNvPicPr/>
          <p:nvPr/>
        </p:nvPicPr>
        <p:blipFill>
          <a:blip r:embed="rId1"/>
          <a:stretch/>
        </p:blipFill>
        <p:spPr>
          <a:xfrm>
            <a:off x="3048120" y="3886200"/>
            <a:ext cx="3379680" cy="264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80880" y="304920"/>
            <a:ext cx="8382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ANGU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nemia microcitica ipocromica dovuta ad alterata sintesi dell’EME e di emoglobina nel midollo osseo per l’inattivazione di enzimi emopoietici.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9" name="Object 1024"/>
          <p:cNvGraphicFramePr/>
          <p:nvPr/>
        </p:nvGraphicFramePr>
        <p:xfrm>
          <a:off x="2141640" y="1295280"/>
          <a:ext cx="4556160" cy="42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1640" y="1295280"/>
                    <a:ext cx="4556160" cy="42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9"/>
          <p:cNvSpPr/>
          <p:nvPr/>
        </p:nvSpPr>
        <p:spPr>
          <a:xfrm>
            <a:off x="457200" y="5867280"/>
            <a:ext cx="784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OSSA E DENT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compete con il C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nel fissarsi a livello di ossa e denti alterandone così struttura e funzio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050"/>
          <p:cNvSpPr/>
          <p:nvPr/>
        </p:nvSpPr>
        <p:spPr>
          <a:xfrm>
            <a:off x="304920" y="304920"/>
            <a:ext cx="8497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RGENTO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RGIRISM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malattia professionale caratterizzata inizialmente da comparsa sulla pelle di colorazione grigio-nera per formazione superficiale di Ag e Ag</a:t>
            </a:r>
            <a:r>
              <a:rPr b="0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ed in seguito da bronchiti, danni renali, sclerosi arterie,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2051"/>
          <p:cNvSpPr/>
          <p:nvPr/>
        </p:nvSpPr>
        <p:spPr>
          <a:xfrm>
            <a:off x="228600" y="1371600"/>
            <a:ext cx="8713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RCURIO,</a:t>
            </a: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DRARGIRISM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insonnia, irritabilità, alterazioni della personalità tremore alle estremità, disturbi della vista e dell’ udito,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fropatia (danni ai tubuli renali) con proteinuria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Rectangle 2052"/>
          <p:cNvSpPr/>
          <p:nvPr/>
        </p:nvSpPr>
        <p:spPr>
          <a:xfrm>
            <a:off x="228600" y="2421360"/>
            <a:ext cx="842472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NTIMONI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quadro clinico di intossicazione cronica comprende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nausea, vomito, diarrea, nefrite, epatopatie, alterazione funzionalità cardiaca, eritema antimoniale e poliuria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b in modo simile all’As interagisce con i gruppi SH delle proteine inattivandole, ma viene escreto più rapidamente e presenta quindi effetti tossici generali meno grav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BISMUT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indrome simile al saturnismo con diminuzione appetito, diarrea, febbre, orletto gengivale nero (Bi, Bi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3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complicazioni renal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304920" y="83520"/>
            <a:ext cx="856908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CADMIO:</a:t>
            </a:r>
            <a:r>
              <a:rPr b="1" i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renali (amminoaciduria, glicosuria), disturbi cardiovascolari (ipertensione, cardiopatie) ed a carico del sistema scheletrico che va incontro 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mineralizzazione con conseguente osteoporosi e osteomalacia dovuta ad interferenza con il metabolismo del C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Sindrome Itai-Itai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tossicazione endemica che ha colpito negli anni ‘60 donne giapponesi in menopausa dovuta all’ingestione di riso inquinato: malattia renale cronica e gravi deformazioni osse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36" name="Object 0"/>
          <p:cNvGraphicFramePr/>
          <p:nvPr/>
        </p:nvGraphicFramePr>
        <p:xfrm>
          <a:off x="2133720" y="2743200"/>
          <a:ext cx="511164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743200"/>
                    <a:ext cx="511164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395280" y="476280"/>
            <a:ext cx="8229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TERAPIA ANTIDOTAL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tilizzo di agenti chelanti quali EDTA, succimer, BAL, d-penicillam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826920" y="1268280"/>
          <a:ext cx="7554960" cy="51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7554960" cy="51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6"/>
          <p:cNvSpPr/>
          <p:nvPr/>
        </p:nvSpPr>
        <p:spPr>
          <a:xfrm>
            <a:off x="-2197080" y="49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28600" y="2438280"/>
          <a:ext cx="8755200" cy="388800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39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ERCUR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</a:t>
                      </a:r>
                      <a:r>
                        <a:rPr b="1" lang="it-IT" sz="1600" spc="-1" strike="noStrike" baseline="-25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alomelano): antisifilitico, diuretico, purgativo, antisettico intestinale, oggi in disuso perché troppo tossi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O</a:t>
                      </a:r>
                      <a:r>
                        <a:rPr b="0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FU), ossido di mercurio giallo: antisettico in pomate e collir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Cl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sublimato corrosivo): disinfettante ferri chirurgici, in disuso poiché intacca i metall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I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antibatterico e disinfettante, oggi in disus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posti organic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mercurio cromo (merbromina)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disinfettante nelle ustioni; 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THIMEROSAL(sodio-etil-mercurio-tio-salicilato)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conservante e stabilizzante di preparazioni farmaceutiche; 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diuretici mercurial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agiscono a livello dei tubuli renali inattivando gli enzimi deputati al riassorbimento degli elettroliti, oggi abbandonati per marcata tossicità a livello del rene dove si accumulano selettivamen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228600" y="1066680"/>
          <a:ext cx="8755200" cy="9986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IOMB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Pb(CH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COO)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(FU): uso esterno, astringente, antinfiammatorio, decongestionante e antidolorifico per contusioni e distorsio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Pb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in mix con acetato di Pb nelle “acque vegeto-minerali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228600" y="380880"/>
          <a:ext cx="8755200" cy="36540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META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COMPOSTI DI INTERESSE FARMACEU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52280" y="838080"/>
          <a:ext cx="8755200" cy="175428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17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RG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g colloidale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tisettico per uso estern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gNO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U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tteriostatico, caustico (0.5-1%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g proteinato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protargolo)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parazione argento-proteica colloidale in acqua (0.5-2% in Ag) utilizzata come gocce nasali, auricolari e colliri quale antisettico su mucose e tessuti delicati, specie nei neonati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2743200"/>
          <a:ext cx="8755200" cy="9698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TIMON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ntimonio-potassio-tartrato o tartaro emetico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FU)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zione emetica e depressiva per 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s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usato per ev nei casi di parassitosi tropicali (schistosomiasi e leishmaniosi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280" y="3809880"/>
          <a:ext cx="8755200" cy="28958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2998080">
                <a:tc>
                  <a:txBody>
                    <a:bodyPr lIns="90000" rIns="90000" tIns="46080" bIns="4608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ISMU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(BiO)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arbonato basico di bismuto): antiacido, antigastritico  e protettivo mucos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Bi(OH)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 baseline="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BiOOH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ismuto nitrato basico): anticolitico e disinfettante intestinale, anch’esso ha proprietà antiacide e protettive delle mucose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ntrambi i composti sono utili nell’ulcera peptica causata dall’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elycobacter pylor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per l’azione antibatterica del Bi riconducibile sia all’inattivazione di enzimi sulfidrilici batterici, sia alla stimolazione indiretta della produzione di anticorpi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52280" y="304920"/>
          <a:ext cx="8755200" cy="3650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META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COMPOSTI DI INTERESSE FARMACEU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048"/>
          <p:cNvGraphicFramePr/>
          <p:nvPr/>
        </p:nvGraphicFramePr>
        <p:xfrm>
          <a:off x="457200" y="2590920"/>
          <a:ext cx="8229600" cy="28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0920"/>
                    <a:ext cx="822960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2051"/>
          <p:cNvSpPr/>
          <p:nvPr/>
        </p:nvSpPr>
        <p:spPr>
          <a:xfrm>
            <a:off x="762120" y="380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MECCANISMO DELL’AZIONE ANTIACIDA E MUCOSO-PROTETTIVA DEI COMPOSTI DEL B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69696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ARSENIC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04920" y="981000"/>
            <a:ext cx="85150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Intossicazioni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cut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usea, vomito, diarrea, danno ai capillari con aumento della permeabilità, disidratazione e shock mort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lterazioni cutanee (ipercheratosi), disturbi gastrointestinali, disturbi neurologici, depressione midollare, danni epatici, oliguria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Black foot diseas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turbi circolatori periferici (gangrena) (endemica a Taiwan e in Cile, dovuta ad acqua inquinata)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380880" y="3809880"/>
            <a:ext cx="85377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CCANISMI DELLE AZIONI TOSS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game ai gruppi SH di proteine ed importanti ligandi biologici (acido lipoico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368280" y="5122800"/>
            <a:ext cx="8610480" cy="8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esenta isochimismo con P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nterferenza nella sintesi dell’ATP e sostituzione nelle catene del DNA)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027"/>
          <p:cNvSpPr/>
          <p:nvPr/>
        </p:nvSpPr>
        <p:spPr>
          <a:xfrm>
            <a:off x="3886200" y="4648320"/>
            <a:ext cx="495288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Tutte le sostanze sono veleni: non ve n’è alcuna che non lo sia.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E’ la giusta dose che differenzia un veleno da un farmac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Sola dosis facit venenum”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Paracelso </a:t>
            </a:r>
            <a:r>
              <a:rPr b="1" i="1" lang="it-IT" sz="1400" spc="-1" strike="noStrike">
                <a:solidFill>
                  <a:srgbClr val="000000"/>
                </a:solidFill>
                <a:latin typeface="Comic Sans MS"/>
              </a:rPr>
              <a:t>(1493-1541)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Picture 1029" descr="Dosi"/>
          <p:cNvPicPr/>
          <p:nvPr/>
        </p:nvPicPr>
        <p:blipFill>
          <a:blip r:embed="rId1"/>
          <a:stretch/>
        </p:blipFill>
        <p:spPr>
          <a:xfrm>
            <a:off x="380880" y="228600"/>
            <a:ext cx="3353040" cy="30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1030" descr="Curva"/>
          <p:cNvPicPr/>
          <p:nvPr/>
        </p:nvPicPr>
        <p:blipFill>
          <a:blip r:embed="rId2"/>
          <a:stretch/>
        </p:blipFill>
        <p:spPr>
          <a:xfrm>
            <a:off x="4419720" y="304920"/>
            <a:ext cx="3841560" cy="41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Picture 7" descr="File:Paracelsus.jpg"/>
          <p:cNvPicPr/>
          <p:nvPr/>
        </p:nvPicPr>
        <p:blipFill>
          <a:blip r:embed="rId3"/>
          <a:stretch/>
        </p:blipFill>
        <p:spPr>
          <a:xfrm>
            <a:off x="898560" y="3562200"/>
            <a:ext cx="23479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figura%204%20II"/>
          <p:cNvPicPr/>
          <p:nvPr/>
        </p:nvPicPr>
        <p:blipFill>
          <a:blip r:embed="rId1"/>
          <a:stretch/>
        </p:blipFill>
        <p:spPr>
          <a:xfrm>
            <a:off x="228600" y="228600"/>
            <a:ext cx="373392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57" name="Rectangle 4"/>
          <p:cNvSpPr/>
          <p:nvPr/>
        </p:nvSpPr>
        <p:spPr>
          <a:xfrm>
            <a:off x="4038480" y="152280"/>
            <a:ext cx="4724640" cy="38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s</a:t>
            </a:r>
            <a:r>
              <a:rPr b="0" i="1" lang="it-IT" sz="1800" spc="-1" strike="noStrike" baseline="30000">
                <a:solidFill>
                  <a:srgbClr val="ffff66"/>
                </a:solidFill>
                <a:latin typeface="Comic Sans MS"/>
                <a:ea typeface="Times New Roman"/>
              </a:rPr>
              <a:t>5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può sostituire il P pentavalente nel P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tto forma di As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s</a:t>
            </a:r>
            <a:r>
              <a:rPr b="0" lang="it-IT" sz="1800" spc="-1" strike="noStrike" baseline="30000">
                <a:solidFill>
                  <a:srgbClr val="ffff66"/>
                </a:solidFill>
                <a:latin typeface="Comic Sans MS"/>
                <a:ea typeface="Times New Roman"/>
              </a:rPr>
              <a:t>3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ccumulo (forma trivalente è anche la più tossica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MA III, DMA II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: più citotossici, più potenti innattivatori enzimatici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metilazione in questo caso è un meccanismo metabolico di attivazione, non di detossificazione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68360" y="4005360"/>
            <a:ext cx="838188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utagenicità e cancerogenicit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P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vironmental Protection Agency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e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ARC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national Agency for Research on Cancer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: sufficienti evidenze di una associazione tra tumori della pelle ed esposizione all’arsenico; esposizione per via inalatoria collegata al carcinoma polmonare. L’effetto mutagenico sembra dovuto ad alterazione dei sistemi di riparazione del DNA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sali di As sono più propriamente definiti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genti di progressione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371600" y="6094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CARATTERISTICHE DI UNA CELLULA NEOPLASTICA MALIGN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52280" y="2133720"/>
            <a:ext cx="899172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Proliferazione incontrollata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: incapacità di soggiacere ai fisiologici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ocessi di  regolazione della crescita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erdita di funzioni cellulari specifiche: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sdifferenziazione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Invasività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nei confronti dei tessuti adiacenti: perdita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dell’inibizione da contatto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Capacità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metastatica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0"/>
          <p:cNvGraphicFramePr/>
          <p:nvPr/>
        </p:nvGraphicFramePr>
        <p:xfrm>
          <a:off x="1843200" y="573120"/>
          <a:ext cx="604188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0" y="573120"/>
                    <a:ext cx="60418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5"/>
          <p:cNvSpPr/>
          <p:nvPr/>
        </p:nvSpPr>
        <p:spPr>
          <a:xfrm>
            <a:off x="2012040" y="548280"/>
            <a:ext cx="508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LEUCEMIA PROMIELOCITICA ACUTA (APL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4" name="Picture 6" descr="terapia2"/>
          <p:cNvPicPr/>
          <p:nvPr/>
        </p:nvPicPr>
        <p:blipFill>
          <a:blip r:embed="rId1"/>
          <a:stretch/>
        </p:blipFill>
        <p:spPr>
          <a:xfrm>
            <a:off x="2104920" y="1268280"/>
            <a:ext cx="4915080" cy="24480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7"/>
          <p:cNvSpPr/>
          <p:nvPr/>
        </p:nvSpPr>
        <p:spPr>
          <a:xfrm>
            <a:off x="684360" y="3860640"/>
            <a:ext cx="784836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RASLOCAZIONE CROMOSOMICA 15-17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FUSIONE DEL GENE PER IL RECETTORE  DELL’ACIDO RETINOICO (</a:t>
            </a:r>
            <a:r>
              <a:rPr b="1" i="1" lang="it-IT" sz="1400" spc="-1" strike="noStrike">
                <a:solidFill>
                  <a:srgbClr val="ff0000"/>
                </a:solidFill>
                <a:latin typeface="Comic Sans MS"/>
              </a:rPr>
              <a:t>RAR</a:t>
            </a:r>
            <a:r>
              <a:rPr b="1" i="1" lang="it-I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) E IL GENE </a:t>
            </a:r>
            <a:r>
              <a:rPr b="1" lang="it-IT" sz="1400" spc="-1" strike="noStrike">
                <a:solidFill>
                  <a:srgbClr val="ff0000"/>
                </a:solidFill>
                <a:latin typeface="Comic Sans MS"/>
              </a:rPr>
              <a:t>PML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SINTESI DI UNA NUOVA PROTEINA CHIMERICA </a:t>
            </a:r>
            <a:r>
              <a:rPr b="1" lang="it-IT" sz="1400" spc="-1" strike="noStrike">
                <a:solidFill>
                  <a:srgbClr val="ff0000"/>
                </a:solidFill>
                <a:latin typeface="Comic Sans MS"/>
              </a:rPr>
              <a:t>PML/RAR</a:t>
            </a:r>
            <a:r>
              <a:rPr b="1" lang="it-I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INIBENTE LA DIFFERENZIAZIONE CELLULARE E L’APOPTOSI.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685800" y="4875840"/>
            <a:ext cx="77756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2. TERAPIA: TRATTAMENTO CON ACIDO RETINOICO (</a:t>
            </a:r>
            <a:r>
              <a:rPr b="1" lang="it-IT" sz="1400" spc="-1" strike="noStrike">
                <a:solidFill>
                  <a:srgbClr val="ffff66"/>
                </a:solidFill>
                <a:latin typeface="Comic Sans MS"/>
              </a:rPr>
              <a:t>RA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PROBLEMI: TOSSICITA’ E RICADUTE PER INSORGENZA RESISTENZA.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684360" y="5274000"/>
            <a:ext cx="78310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3. FDA NEL 2000 APPROVA L’USO </a:t>
            </a:r>
            <a:r>
              <a:rPr b="1" lang="it-IT" sz="1400" spc="-1" strike="noStrike">
                <a:solidFill>
                  <a:srgbClr val="ffff66"/>
                </a:solidFill>
                <a:latin typeface="Comic Sans MS"/>
              </a:rPr>
              <a:t>As</a:t>
            </a:r>
            <a:r>
              <a:rPr b="1" lang="it-IT" sz="14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lang="it-IT" sz="1400" spc="-1" strike="noStrike">
                <a:solidFill>
                  <a:srgbClr val="ffff66"/>
                </a:solidFill>
                <a:latin typeface="Comic Sans MS"/>
              </a:rPr>
              <a:t>O</a:t>
            </a:r>
            <a:r>
              <a:rPr b="1" lang="it-IT" sz="1400" spc="-1" strike="noStrike" baseline="-25000">
                <a:solidFill>
                  <a:srgbClr val="ffff66"/>
                </a:solidFill>
                <a:latin typeface="Comic Sans MS"/>
              </a:rPr>
              <a:t>3</a:t>
            </a:r>
            <a:r>
              <a:rPr b="1" lang="it-IT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NELLA </a:t>
            </a:r>
            <a:r>
              <a:rPr b="1" i="1" lang="it-IT" sz="1400" spc="-1" strike="noStrike">
                <a:solidFill>
                  <a:srgbClr val="000000"/>
                </a:solidFill>
                <a:latin typeface="Comic Sans MS"/>
              </a:rPr>
              <a:t>APL-RA RESISTAN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684360" y="5826600"/>
            <a:ext cx="81356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4. TRISENOX INJECTION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EFFETTI COLLATERALI: LEUCOCITOSI, NAUSEA, VOMITO, EDEMA, FLUTTERS ATRIALI, BLOCCHI ATRIOVENTRICOLARI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70200" cy="1666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752720" cy="466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1" name="Text Box 8"/>
          <p:cNvSpPr/>
          <p:nvPr/>
        </p:nvSpPr>
        <p:spPr>
          <a:xfrm>
            <a:off x="447840" y="2009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-36360" y="2013120"/>
            <a:ext cx="43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Nature Reviews Cancer 2002, 2, 1-9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Oval 18"/>
          <p:cNvSpPr/>
          <p:nvPr/>
        </p:nvSpPr>
        <p:spPr>
          <a:xfrm>
            <a:off x="324000" y="549360"/>
            <a:ext cx="4392360" cy="107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Oval 19"/>
          <p:cNvSpPr/>
          <p:nvPr/>
        </p:nvSpPr>
        <p:spPr>
          <a:xfrm>
            <a:off x="179280" y="620640"/>
            <a:ext cx="4608720" cy="1079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Oval 20"/>
          <p:cNvSpPr/>
          <p:nvPr/>
        </p:nvSpPr>
        <p:spPr>
          <a:xfrm>
            <a:off x="611280" y="549360"/>
            <a:ext cx="4537080" cy="129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AutoShape 23"/>
          <p:cNvSpPr/>
          <p:nvPr/>
        </p:nvSpPr>
        <p:spPr>
          <a:xfrm>
            <a:off x="5292720" y="1773360"/>
            <a:ext cx="71280" cy="1439640"/>
          </a:xfrm>
          <a:prstGeom prst="downArrow">
            <a:avLst>
              <a:gd name="adj1" fmla="val 50000"/>
              <a:gd name="adj2" fmla="val 5049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5796000" y="2708280"/>
            <a:ext cx="576360" cy="790560"/>
          </a:xfrm>
          <a:prstGeom prst="line">
            <a:avLst/>
          </a:prstGeom>
          <a:ln w="316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Oval 27"/>
          <p:cNvSpPr/>
          <p:nvPr/>
        </p:nvSpPr>
        <p:spPr>
          <a:xfrm>
            <a:off x="1547640" y="4653000"/>
            <a:ext cx="50328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Oval 28"/>
          <p:cNvSpPr/>
          <p:nvPr/>
        </p:nvSpPr>
        <p:spPr>
          <a:xfrm>
            <a:off x="1476360" y="5084640"/>
            <a:ext cx="43164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Oval 29"/>
          <p:cNvSpPr/>
          <p:nvPr/>
        </p:nvSpPr>
        <p:spPr>
          <a:xfrm>
            <a:off x="6300720" y="3500280"/>
            <a:ext cx="503280" cy="289080"/>
          </a:xfrm>
          <a:prstGeom prst="ellipse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4545000" y="2216160"/>
            <a:ext cx="4419720" cy="19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195120" y="355680"/>
            <a:ext cx="532152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3" name="Text Box 4"/>
          <p:cNvSpPr/>
          <p:nvPr/>
        </p:nvSpPr>
        <p:spPr>
          <a:xfrm>
            <a:off x="0" y="4191120"/>
            <a:ext cx="899172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HAT: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nzima che, acetilando il gruppo amminico protonato a pH fisiologico (NH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dei residui di lisina delle proteine istoniche, ne neutralizza la carica positiva e ne impedisce l’interazione elettrostatica con lo scheletro dei fosfati del DNA, mediando in tal modo il rilassamento della cromatina (la “collana di perle si svolge”: 1 “perla” = 1 nucleosoma = 8 istoni + 146 paia di nucleotidi ) e la conseguente trascrizione dei geni in essa localizzati, divenuti meccanicamente/fisicamente accessibili alla RNA polimerasi ed ai fattori di trascrizion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0" y="5545080"/>
            <a:ext cx="8839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HDAC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nzima Z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ipendente che, deacetilando gli istoni, ripristina le cariche positive sui residui di lisina e consente le interazioni elettrostatiche tra gli istoni ed il DNA (che è un polianione per la presenza dei fosfati), determinando compattazione della cromatina (la “collana di perle si aggroviglia” su sé stessa) e la conseguente repressione trascrizionale dei geni in essa localizzati, divenuti fisicamente/meccanicamente inaccessibili agli enzimi polimerasici ed alle altre proteine di trascrizione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5"/>
          <p:cNvSpPr/>
          <p:nvPr/>
        </p:nvSpPr>
        <p:spPr>
          <a:xfrm>
            <a:off x="755640" y="404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STAGN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1488600" y="835920"/>
            <a:ext cx="65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microessenziale (fabbisogno medio giornaliero 2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423720" y="1246680"/>
            <a:ext cx="558828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UOLO BIOLOGICO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coppia redox S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S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sembra interagire con la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iboflav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vitamina B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e quindi con flavoenzimi ossidoriduttiv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380880" y="2357640"/>
            <a:ext cx="62629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ntossicaz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encefalopatia ed edema cerebrale (Francia: ingestione di un preparato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Stalinon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contenente dietilstagno diioduro per trattamento di infezioni cutane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mal di testa, disturbi visiv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380880" y="426780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CANISMO DELL’AZIONE TOSSIC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tività disaccoppiante la fosforilazione ossidativa nei mitocondri e inibizione della respirazione cellular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Rectangle 16"/>
          <p:cNvSpPr/>
          <p:nvPr/>
        </p:nvSpPr>
        <p:spPr>
          <a:xfrm>
            <a:off x="380880" y="5382360"/>
            <a:ext cx="85330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COMPOSTI DI INTERESSE FARMACEUTICO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n metalli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ntiacne e antiforuncolitico in dermatolog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nO</a:t>
            </a:r>
            <a:r>
              <a:rPr b="0" lang="it-IT" sz="1800" spc="-1" strike="noStrike" baseline="-30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ntiacne per uso esterno e per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ro infezioni intestinali da stafilococco (non è assorbito quindi azione antisettica local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6372360" y="1390680"/>
          <a:ext cx="2076480" cy="25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390680"/>
                    <a:ext cx="207648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4047120" y="47520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A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95280" y="1651680"/>
            <a:ext cx="8353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è cofattore in molti sistemi enzimatici redox quali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tocromi C reduttasi ed ossid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i della catena respiratoria cellula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044720" y="980280"/>
            <a:ext cx="75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igoelemento essenziale e stimolatorio (dose media giornaliera 2-6-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6" name="Picture 8" descr="citocromoC"/>
          <p:cNvPicPr/>
          <p:nvPr/>
        </p:nvPicPr>
        <p:blipFill>
          <a:blip r:embed="rId1"/>
          <a:stretch/>
        </p:blipFill>
        <p:spPr>
          <a:xfrm>
            <a:off x="755640" y="2708280"/>
            <a:ext cx="2933640" cy="336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7" name="Picture 9" descr="rame"/>
          <p:cNvPicPr/>
          <p:nvPr/>
        </p:nvPicPr>
        <p:blipFill>
          <a:blip r:embed="rId2"/>
          <a:stretch/>
        </p:blipFill>
        <p:spPr>
          <a:xfrm>
            <a:off x="4419720" y="2989440"/>
            <a:ext cx="3752640" cy="195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8" name="Text Box 10"/>
          <p:cNvSpPr/>
          <p:nvPr/>
        </p:nvSpPr>
        <p:spPr>
          <a:xfrm>
            <a:off x="755640" y="616572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0000"/>
                </a:solidFill>
                <a:latin typeface="Comic Sans MS"/>
              </a:rPr>
              <a:t>Struttura tridimensionale del citocromo 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4643280" y="5084640"/>
            <a:ext cx="33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0000"/>
                </a:solidFill>
                <a:latin typeface="Comic Sans MS"/>
              </a:rPr>
              <a:t>Ciclo di reazioni catalizzate dalla citocromo ossidasi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395280" y="258840"/>
            <a:ext cx="849636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lisino-ossid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che controlla l’elasticità delle pareti aortich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tirosin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necessario per la pigmentazione della pell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rame-ossid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che interviene nella sintesi del collagen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uperossido-dismutasi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OD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 contenente 2 atomi di Cu e 2 di Zn (ossidoriduttivamente inattivi), che decompone radicali idroperossido  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-O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ggendo le cellule da stress ossidativo.</a:t>
            </a:r>
            <a:r>
              <a:rPr b="0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01" name="Object 0"/>
          <p:cNvGraphicFramePr/>
          <p:nvPr/>
        </p:nvGraphicFramePr>
        <p:xfrm>
          <a:off x="2209680" y="2971800"/>
          <a:ext cx="4802400" cy="35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48024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819000" y="969840"/>
            <a:ext cx="77900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è una malattia ereditaria caratterizzata da un accumulo di rame in vari tessuti ed in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particolare n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fegato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dove determina </a:t>
            </a: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cirrosi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, n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sistema nervoso central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dov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provoca </a:t>
            </a: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alterazioni neurologiche e psichich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, a livello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ocular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dove può provocar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lesioni del cristallin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, n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ren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dove determina </a:t>
            </a: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lesioni tubulari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104840" y="479916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938160" y="4964040"/>
            <a:ext cx="1293840" cy="1139760"/>
          </a:xfrm>
          <a:custGeom>
            <a:avLst/>
            <a:gdLst/>
            <a:ahLst/>
            <a:rect l="l" t="t" r="r" b="b"/>
            <a:pathLst>
              <a:path w="1293812" h="1139825">
                <a:moveTo>
                  <a:pt x="1" y="435373"/>
                </a:moveTo>
                <a:lnTo>
                  <a:pt x="494195" y="435376"/>
                </a:lnTo>
                <a:lnTo>
                  <a:pt x="646906" y="0"/>
                </a:lnTo>
                <a:lnTo>
                  <a:pt x="799617" y="435376"/>
                </a:lnTo>
                <a:lnTo>
                  <a:pt x="1293811" y="435373"/>
                </a:lnTo>
                <a:lnTo>
                  <a:pt x="893998" y="704448"/>
                </a:lnTo>
                <a:lnTo>
                  <a:pt x="1046715" y="1139822"/>
                </a:lnTo>
                <a:lnTo>
                  <a:pt x="646906" y="870743"/>
                </a:lnTo>
                <a:lnTo>
                  <a:pt x="247097" y="1139822"/>
                </a:lnTo>
                <a:lnTo>
                  <a:pt x="399814" y="704448"/>
                </a:lnTo>
                <a:lnTo>
                  <a:pt x="1" y="435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414360" y="1432080"/>
            <a:ext cx="214200" cy="284040"/>
          </a:xfrm>
          <a:custGeom>
            <a:avLst/>
            <a:gdLst>
              <a:gd name="textAreaLeft" fmla="*/ 33480 w 214200"/>
              <a:gd name="textAreaRight" fmla="*/ 187560 w 21420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419040" y="3303720"/>
            <a:ext cx="214200" cy="284040"/>
          </a:xfrm>
          <a:custGeom>
            <a:avLst/>
            <a:gdLst>
              <a:gd name="textAreaLeft" fmla="*/ 33480 w 214200"/>
              <a:gd name="textAreaRight" fmla="*/ 187560 w 21420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764640" y="3281400"/>
            <a:ext cx="5903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La malattia è trasmessa con meccanismo autosomico recessiv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AutoShape 13"/>
          <p:cNvSpPr/>
          <p:nvPr/>
        </p:nvSpPr>
        <p:spPr>
          <a:xfrm>
            <a:off x="423720" y="4230720"/>
            <a:ext cx="214560" cy="284040"/>
          </a:xfrm>
          <a:custGeom>
            <a:avLst/>
            <a:gdLst>
              <a:gd name="textAreaLeft" fmla="*/ 33480 w 214560"/>
              <a:gd name="textAreaRight" fmla="*/ 187920 w 21456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860400" y="4230720"/>
            <a:ext cx="775512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Il fattore più importante che regola l’ omeostasi d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ram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è l’  escrezione biliare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l’  alterazione strutturale della proteina responsabile del morbo di Wilson comport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la mancata escrezione e quindi il progressivo accumulo del metallo all’ interno degl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patociti che va incontro a necrosi. Alla morte dell’ epatocita consegue l’ immission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in circolo d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ram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 quindi l’ estensione del danno ad altri organi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988920" y="33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707400" y="66816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3300"/>
                </a:solidFill>
                <a:latin typeface="Comic Sans MS"/>
              </a:rPr>
              <a:t>Morbo di Wils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80880" y="2057400"/>
            <a:ext cx="81536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Indice terapeutico (IT)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rapporto tra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dose tossica mediana,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 grado di provocare nel 50% degli individui l’effetto tossico, e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dose efficac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mediana,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 grado di indurre nel 50% degli individui uno specifico effetto (</a:t>
            </a: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DT</a:t>
            </a:r>
            <a:r>
              <a:rPr b="1" i="1" lang="it-IT" sz="2000" spc="-1" strike="noStrike" baseline="-25000">
                <a:solidFill>
                  <a:srgbClr val="ffff66"/>
                </a:solidFill>
                <a:latin typeface="Comic Sans MS"/>
              </a:rPr>
              <a:t>50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/DE</a:t>
            </a:r>
            <a:r>
              <a:rPr b="1" i="1" lang="it-IT" sz="2000" spc="-1" strike="noStrike" baseline="-25000">
                <a:solidFill>
                  <a:srgbClr val="ffff66"/>
                </a:solidFill>
                <a:latin typeface="Comic Sans MS"/>
              </a:rPr>
              <a:t>5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8" name="Object 9"/>
          <p:cNvGraphicFramePr/>
          <p:nvPr/>
        </p:nvGraphicFramePr>
        <p:xfrm>
          <a:off x="2514600" y="3962520"/>
          <a:ext cx="399096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962520"/>
                    <a:ext cx="39909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10"/>
          <p:cNvSpPr/>
          <p:nvPr/>
        </p:nvSpPr>
        <p:spPr>
          <a:xfrm>
            <a:off x="457200" y="228600"/>
            <a:ext cx="797076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Non esiste una precisa definizione di veleno/tossico ed in definitiva si può sostenere che non esistono veleni in senso assoluto, ma soltanto avvelenamenti o intossicazioni e </a:t>
            </a:r>
            <a:r>
              <a:rPr b="0" lang="it-IT" sz="2200" spc="-1" strike="noStrike" u="sng">
                <a:solidFill>
                  <a:srgbClr val="ff0000"/>
                </a:solidFill>
                <a:uFillTx/>
                <a:latin typeface="Comic Sans MS"/>
              </a:rPr>
              <a:t>sostanze più o meno pericolose per l’uomo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-14400" y="2286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FERR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566640" y="13413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il Fe è il componente inorganico di molte proteine:</a:t>
            </a:r>
            <a:r>
              <a:rPr b="0" lang="it-IT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395280" y="1989000"/>
            <a:ext cx="8604360" cy="14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mo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Hb), l’Hb è la metalloproteina trasportatrice dell’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i polmoni ai vari tessuti; è costituita da una porzione proteica (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e da una parte non proteica o prostetica l’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EM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formato da una struttura organica tetraazotata, la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oporfirina IX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 dallo ione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e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16" name="Picture 15" descr="emoglobina"/>
          <p:cNvPicPr/>
          <p:nvPr/>
        </p:nvPicPr>
        <p:blipFill>
          <a:blip r:embed="rId1"/>
          <a:stretch/>
        </p:blipFill>
        <p:spPr>
          <a:xfrm>
            <a:off x="5076720" y="3213000"/>
            <a:ext cx="3894120" cy="296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16"/>
          <p:cNvGraphicFramePr/>
          <p:nvPr/>
        </p:nvGraphicFramePr>
        <p:xfrm>
          <a:off x="612720" y="3564000"/>
          <a:ext cx="4030560" cy="26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2720" y="3564000"/>
                    <a:ext cx="4030560" cy="26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Rectangle 17"/>
          <p:cNvSpPr/>
          <p:nvPr/>
        </p:nvSpPr>
        <p:spPr>
          <a:xfrm>
            <a:off x="250920" y="765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igoelemento essenziale (dose giornaliera media: 5-15 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051"/>
          <p:cNvSpPr/>
          <p:nvPr/>
        </p:nvSpPr>
        <p:spPr>
          <a:xfrm>
            <a:off x="1143000" y="1219320"/>
            <a:ext cx="533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21" name="Group 2053"/>
          <p:cNvGrpSpPr/>
          <p:nvPr/>
        </p:nvGrpSpPr>
        <p:grpSpPr>
          <a:xfrm>
            <a:off x="838080" y="1143000"/>
            <a:ext cx="7467480" cy="5181120"/>
            <a:chOff x="838080" y="1143000"/>
            <a:chExt cx="7467480" cy="5181120"/>
          </a:xfrm>
        </p:grpSpPr>
        <p:pic>
          <p:nvPicPr>
            <p:cNvPr id="322" name="Picture 2050" descr="eme"/>
            <p:cNvPicPr/>
            <p:nvPr/>
          </p:nvPicPr>
          <p:blipFill>
            <a:blip r:embed="rId1"/>
            <a:stretch/>
          </p:blipFill>
          <p:spPr>
            <a:xfrm>
              <a:off x="841320" y="1143000"/>
              <a:ext cx="746064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Rectangle 2052"/>
            <p:cNvSpPr/>
            <p:nvPr/>
          </p:nvSpPr>
          <p:spPr>
            <a:xfrm>
              <a:off x="838080" y="1157760"/>
              <a:ext cx="7467480" cy="5153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4" name="Text Box 2054"/>
          <p:cNvSpPr/>
          <p:nvPr/>
        </p:nvSpPr>
        <p:spPr>
          <a:xfrm>
            <a:off x="2057400" y="4572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STRUTTURA DELL’E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80880" y="836640"/>
            <a:ext cx="83059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è impegnato in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gami di coordinazione: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no planari con i 4 atomi di N dell’anello tetrapirrolico della porfirina, il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°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game è con l’atomo di N dell’istidina della globina mentre il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°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game è con la molecola di 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26" name="Picture 3" descr="emoglobina-fe"/>
          <p:cNvPicPr/>
          <p:nvPr/>
        </p:nvPicPr>
        <p:blipFill>
          <a:blip r:embed="rId1"/>
          <a:stretch/>
        </p:blipFill>
        <p:spPr>
          <a:xfrm>
            <a:off x="4930920" y="1752480"/>
            <a:ext cx="4213080" cy="410364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>
            <a:off x="380880" y="2276640"/>
            <a:ext cx="472464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ssiemo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mpartisce colore rosso vivo ai globuli rossi che la contengono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mpartisce colore rosso scuro ai globuli rossi che la contengono)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ossiemoglobin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CO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arbossiemoglobina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olore rosso ciliegia, 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 viene trasportato: morte  per  anossia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C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anoemo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colore grigiastro e inattiva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+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etaemoglobina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i colore rosso-marrone perde la capacità di trasportare l’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i tessut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5"/>
          <p:cNvSpPr/>
          <p:nvPr/>
        </p:nvSpPr>
        <p:spPr>
          <a:xfrm>
            <a:off x="380880" y="533520"/>
            <a:ext cx="82296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it-IT" sz="1600" spc="-1" strike="noStrike">
                <a:solidFill>
                  <a:srgbClr val="ff0000"/>
                </a:solidFill>
                <a:latin typeface="Comic Sans MS"/>
              </a:rPr>
              <a:t>mioglob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Mb), proteina che lega l’O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nei tessuti muscola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it-IT" sz="1600" spc="-1" strike="noStrike">
                <a:solidFill>
                  <a:srgbClr val="ff0000"/>
                </a:solidFill>
                <a:latin typeface="Comic Sans MS"/>
              </a:rPr>
              <a:t>citocromi e flavoprotein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enzimi della catena respiratoria che contengono gruppi EM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380880" y="1600200"/>
            <a:ext cx="84582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INTOSSICAZIONE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cut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ovuta all’ingestione accidentale di farmaci contenenti Fe, si manifesta con vomito, acidosi metabolica, danno epatico ed alterazioni della coagulazio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380880" y="2514600"/>
            <a:ext cx="84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on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effetti del sovraccarico di Fe a livello di fegato, milza, cuore e pancreas con alterazione della funzionalità di questi organi.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380880" y="31240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ERAPI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induzione del vomito, lavanda gastrica con soluzioni di fosfato o carbonato, somministrazione di un chelante come la desferossamin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Rectangle 15"/>
          <p:cNvSpPr/>
          <p:nvPr/>
        </p:nvSpPr>
        <p:spPr>
          <a:xfrm>
            <a:off x="380880" y="3886200"/>
            <a:ext cx="861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CARENZ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nemia microcitica ipocromic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omune nei neonati prematuri, donne in gravidanza, in caso di perdite ematiche); la terapia consiste nella somministrazione orale  o intramuscolare di composti a base di Fe quali reintegratori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380880" y="4724280"/>
            <a:ext cx="84582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OSTI DI INTERESSE FARMACEUTICO 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SO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4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.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7 H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CO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anemici, tonici, ricostituenti ed emetici ad alte concentrazion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umar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glucon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trato ferros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ome i sali inorganici ma meno irritant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Cl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emostatico (provoca la precipitazione delle proteine, usato nel cotone emostatico); irritante, drasticamente emetico e tossico se somministrato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a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[Fe(CN)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5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]</a:t>
            </a:r>
            <a:r>
              <a:rPr b="0" lang="it-IT" sz="1600" spc="-1" strike="noStrike">
                <a:solidFill>
                  <a:srgbClr val="010000"/>
                </a:solidFill>
                <a:latin typeface="Comic Sans MS"/>
                <a:ea typeface="Times New Roman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itroprussiato sodico: potente agente ipotensivo per azione vasodilatatrice diretta utilizzato nelle emergenze ipertensiv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-1766880" y="27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547640" y="33336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ALLUMIN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380880" y="3580560"/>
            <a:ext cx="83520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ntossicazion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Acuta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tudiata su modelli animali è caratterizzata da sintomi di neurotossicità quali deficit di apprendimento, tremori, debolezza e atassia, morte entro 3-4 settimane per convulsio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380880" y="4648320"/>
            <a:ext cx="81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ron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si sta studiando essenzialmente la neurotossicità in seguito ad  esposizione cronica come nel caso d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380880" y="663480"/>
            <a:ext cx="83534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MPOSTI DI INTERESSE FARMACEUTIC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Al(S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 (allume di rocca):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tringente, emostatico e antisettico per uso estern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(CH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O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lOH, CH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OAl(OH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stringenti e decongestionanti su contusioni e distorsio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P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(OH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Na[Al(OH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: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acidi, antiulcera e protettivi mucose GI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con effetti costipanti (uso in associazion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llumina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brasivo paste dentifrice, per prolungata esposizione alle sue polveri, data l’alta insolubilità, provoca disturbi polmona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Si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aolino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dsorbente gastroenterico nelle intossicazioni, antidiarroic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380880" y="5182200"/>
            <a:ext cx="80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5396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demenza da dialisi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indrome neurologica progressiva e fatale che insorge nei pazienti sottoposti a dialisi da 3-7 anni (Al presente nell’acqua della soluzione da dialisi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86720" y="5943240"/>
            <a:ext cx="818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5396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morbo di Alzheimer,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sistono strette correlazioni  fra accumulo di Al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d il morb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228600" y="297720"/>
            <a:ext cx="84391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MECCANISMI D’AZIONE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zione farmac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stringen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azione disidratante sui tessuti per il gran numero di molecole di acqua necessarie per la coordinazione e  la solvatazione;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emostatica e  antisett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collegate alla capacità di precipitare le protein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dsorben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legata alle caratteristiche chimico-fisiche dei composti utilizzat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228600" y="2525400"/>
            <a:ext cx="374328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zione tossic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egenerazione neuronale con formazione di plessi neurofibrillari, forse dovuta ad interazione con DNA ed alla sostituzione del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a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nel legame con protein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a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-dipendenti come la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almodul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 calmodulina è in grado di stimolare un gran numero di enzimi, pompe e altre proteine bersagli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3" name="Picture 8" descr="calmodulinaCa+"/>
          <p:cNvPicPr/>
          <p:nvPr/>
        </p:nvPicPr>
        <p:blipFill>
          <a:blip r:embed="rId1"/>
          <a:stretch/>
        </p:blipFill>
        <p:spPr>
          <a:xfrm>
            <a:off x="4419720" y="2590920"/>
            <a:ext cx="4198680" cy="3660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image001"/>
          <p:cNvPicPr/>
          <p:nvPr/>
        </p:nvPicPr>
        <p:blipFill>
          <a:blip r:embed="rId1"/>
          <a:stretch/>
        </p:blipFill>
        <p:spPr>
          <a:xfrm>
            <a:off x="611280" y="2637000"/>
            <a:ext cx="2923920" cy="28670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5"/>
          <p:cNvSpPr/>
          <p:nvPr/>
        </p:nvSpPr>
        <p:spPr>
          <a:xfrm>
            <a:off x="2989800" y="40356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orbo di Alzheim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780000" y="2716200"/>
            <a:ext cx="466884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. Corteccia cerebrale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ove si formano il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pensier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d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l linguaggi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B. Gangli della base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coinvolti nella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memori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l’apprendiment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. Ippocampo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ssenziale per la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conservazione della memoria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95280" y="1006560"/>
            <a:ext cx="83534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irca il 70% dei casi di demenza senile sono dovuti al morbo di Alzheimer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er demenza si intende una riduzione progressiva delle funzioni mentali, della memoria e delle capacità intellettive acquisite che può condurre ad uno stato completamente vegetativ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250920" y="907200"/>
            <a:ext cx="396072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aratteristiche dell’Alzheimer sono le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placche neuritiche o amiloidi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fuori dei neuroni) e i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grovigli neurofibrillar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dentro i neuroni), che si ritiene siano responsabili della degenerazione dei neuroni e quindi delle manifestazioni clinich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9" name="Picture 5" descr="image002"/>
          <p:cNvPicPr/>
          <p:nvPr/>
        </p:nvPicPr>
        <p:blipFill>
          <a:blip r:embed="rId1"/>
          <a:stretch/>
        </p:blipFill>
        <p:spPr>
          <a:xfrm>
            <a:off x="4392720" y="404640"/>
            <a:ext cx="457200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0" name="Rectangle 7"/>
          <p:cNvSpPr/>
          <p:nvPr/>
        </p:nvSpPr>
        <p:spPr>
          <a:xfrm>
            <a:off x="395280" y="4119480"/>
            <a:ext cx="8209080" cy="2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AMILOID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i intende un gruppo di proteine diverse che hanno in comune la conformazion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elle catene (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miloid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miloide che si accumula nelle placche è un frammento di una proteina più grande detta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myloid </a:t>
            </a:r>
            <a:r>
              <a:rPr b="1" i="1" lang="it-IT" sz="1600" spc="-1" strike="noStrike">
                <a:solidFill>
                  <a:srgbClr val="ffff66"/>
                </a:solidFill>
                <a:latin typeface="Symbol"/>
                <a:ea typeface="Symbol"/>
              </a:rPr>
              <a:t>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-protein precursor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PP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una proteina integrale di membrana che viene sintetizzata da vari organi compresi neuroni e glia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Sembra probabile che nell’Alzheimer la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PP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venga idrolizzata in siti anomali dando origine a peptidi che si accumulano in fibrille resistenti alla degradazione proteica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028" descr="image004"/>
          <p:cNvPicPr/>
          <p:nvPr/>
        </p:nvPicPr>
        <p:blipFill>
          <a:blip r:embed="rId1"/>
          <a:stretch/>
        </p:blipFill>
        <p:spPr>
          <a:xfrm>
            <a:off x="324000" y="1052640"/>
            <a:ext cx="4244760" cy="3192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2" name="Rectangle 1030"/>
          <p:cNvSpPr/>
          <p:nvPr/>
        </p:nvSpPr>
        <p:spPr>
          <a:xfrm>
            <a:off x="4788000" y="1497240"/>
            <a:ext cx="410508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ll’Alzheimer vi è un raggrinzimento globale del tessuto cerebrale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si iniziali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lterazione della memoria recent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si finali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lterazioni del linguaggio, del controllo emotivo, del ragionament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Rectangle 1032"/>
          <p:cNvSpPr/>
          <p:nvPr/>
        </p:nvSpPr>
        <p:spPr>
          <a:xfrm>
            <a:off x="108000" y="4581360"/>
            <a:ext cx="8856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l tempo medio dalla diagnosi alla morte è di 4-8 anni, sebbene la malattia talora possa durare 20 anni o più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4"/>
          <p:cNvSpPr/>
          <p:nvPr/>
        </p:nvSpPr>
        <p:spPr>
          <a:xfrm>
            <a:off x="971640" y="3794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CROM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395280" y="98064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Microelemento essenziale (assorbimento medio giornaliero = 0.06-0.4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80880" y="1451160"/>
            <a:ext cx="835344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Ruol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biologic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Cr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è il componente del </a:t>
            </a:r>
            <a:r>
              <a:rPr b="1" lang="it-IT" sz="1600" spc="-1" strike="noStrike">
                <a:solidFill>
                  <a:srgbClr val="ff5050"/>
                </a:solidFill>
                <a:latin typeface="Comic Sans MS"/>
              </a:rPr>
              <a:t>Glucose tolerance factor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fattore necessario per l’attività dell’insulina, in grado di formare un complesso ternario con l’ormone ed il recettore facilitandone il legame. La su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omic Sans MS"/>
              </a:rPr>
              <a:t>carenz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rovoc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omic Sans MS"/>
              </a:rPr>
              <a:t>iperglicemia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 crescita stentata. Il Cr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6+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è invece altamente tossico: sotto forma di cromato penetra nelle cellule dove precipita le proteine e, per l’elevato potere ossidante, distrugge cellule e tessuti. L’anione cromato è anche cancerogen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395280" y="3519720"/>
            <a:ext cx="8352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INSULINA</a:t>
            </a:r>
            <a:r>
              <a:rPr b="0" lang="it-IT" sz="16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rmon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natura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odotto dal pancreas endocrino (isole di Langerhans); è formato da 2 catene polipeptidiche A e B unite da ponti disolfur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58" name="Picture 13" descr="sequenzainsulina"/>
          <p:cNvPicPr/>
          <p:nvPr/>
        </p:nvPicPr>
        <p:blipFill>
          <a:blip r:embed="rId1"/>
          <a:stretch/>
        </p:blipFill>
        <p:spPr>
          <a:xfrm>
            <a:off x="1447920" y="4419720"/>
            <a:ext cx="6095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09480" y="457200"/>
            <a:ext cx="7925040" cy="34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produrre una manifestazione tossica, come peraltro un beneficio terapeutico, un agente chimico o un suo metabolita deve poter interagire con specifici siti bersaglio 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target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 dell’ organismo e rimanere in contatto con essi ad una appropriata concentrazione per un tempo sufficientemente lung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eventuale presenza di un effetto tossico dipend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lle proprietà chimico-fisiche dell’agente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lla situazione di esposizione (via, durata, frequenza)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lla sensibilità del sistema biologico oggett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09480" y="4495680"/>
            <a:ext cx="7925040" cy="15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tossicità di una data sostanza dipende in sintesi dal proprio profil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ff0000"/>
                </a:solidFill>
                <a:uFillTx/>
                <a:latin typeface="Comic Sans MS"/>
              </a:rPr>
              <a:t>tossicodinamico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 (ciò che l’agente fa all’organismo)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e  </a:t>
            </a:r>
            <a:r>
              <a:rPr b="0" lang="it-IT" sz="2200" spc="-1" strike="noStrike" u="sng">
                <a:solidFill>
                  <a:srgbClr val="ff0000"/>
                </a:solidFill>
                <a:uFillTx/>
                <a:latin typeface="Comic Sans MS"/>
              </a:rPr>
              <a:t>tossicocinetico 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(ciò che l’organismo fa all’agente)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4"/>
          <p:cNvSpPr/>
          <p:nvPr/>
        </p:nvSpPr>
        <p:spPr>
          <a:xfrm>
            <a:off x="671760" y="548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zioni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ll’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insulin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042920" y="930960"/>
            <a:ext cx="777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ermette la 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captazione del glucosi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a parte delle cellule attraverso la mobilizzazione di uno specifico recettore GLUT4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974520" y="1796760"/>
            <a:ext cx="71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umenta </a:t>
            </a:r>
            <a:r>
              <a:rPr b="1" lang="it-IT" sz="1600" spc="-1" strike="noStrike">
                <a:solidFill>
                  <a:srgbClr val="ff5050"/>
                </a:solidFill>
                <a:latin typeface="Comic Sans MS"/>
              </a:rPr>
              <a:t>l’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accumulo di glucosio nel feg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formazione del glicogeno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044720" y="2214360"/>
            <a:ext cx="770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romuove la 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sintesi proteica nei muscol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la formazione di trigliceridi nel tessuto adipos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riserva energetica)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684360" y="3068640"/>
            <a:ext cx="806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 riduzione o la mancata produzione di insulina da parte del pancreas endocrino è la causa del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diabete mellito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insulino-dipenden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una malattia metabolica che si manifesta in giovane età con un aumento della concentrazione ematica di glucosio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685800" y="4366440"/>
            <a:ext cx="808344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in vari organi nel lungo periodo in assenza di adeguato controllo della glicemia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generazione retinica (retinopatia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renali (nefropatia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al SNC (neuropatia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teroscleros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insulina2"/>
          <p:cNvPicPr/>
          <p:nvPr/>
        </p:nvPicPr>
        <p:blipFill>
          <a:blip r:embed="rId1"/>
          <a:stretch/>
        </p:blipFill>
        <p:spPr>
          <a:xfrm>
            <a:off x="1835280" y="549360"/>
            <a:ext cx="5675040" cy="578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4"/>
          <p:cNvSpPr/>
          <p:nvPr/>
        </p:nvSpPr>
        <p:spPr>
          <a:xfrm>
            <a:off x="900000" y="404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ANGANE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539640" y="1052640"/>
            <a:ext cx="74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Microelemento essenziale (dose media giornaliera 3-10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324000" y="1628640"/>
            <a:ext cx="82072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cofattore di vari metalloenzimi qual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socitrico deidrogen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enzima del ciclo di Krebs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Mn-superossido dismut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SOD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mitocondriale, enzima “scavenger” dei radicali liberi dell’ossigeno, come l’anione radicale superossido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324000" y="3213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ARENZ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isturbi della crescita e dello sviluppo corporeo, ma molto rar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539640" y="378936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324000" y="3573360"/>
            <a:ext cx="80643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ZIONE TOSS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intossicazione cronica da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nO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industrie per produzione leghe d’acciaio, vetri, tinture) per periodo &gt; 2 anni provoca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MANGANISMO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disturbi psichici e sindrome simil parkinsoniana: tremori, difficoltà di deambulazione, disturbi del linguaggio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324000" y="5084640"/>
            <a:ext cx="84247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OMPOSTI DI INTERESSE FARMACEUTIC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KMn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ntibatterico e antisettico per uso esterno (azione antibatterica dovuta alla capacità ossidante dell’anione permanganato) in soluzioni diluit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MnS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reintegratore di M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611280" y="260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ZINC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826920" y="907920"/>
            <a:ext cx="74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lemento oligoessenziale (fabbisogno giornaliero medio 10-15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93680" y="1450800"/>
            <a:ext cx="8950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lo Z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è indispensabile per l’attività di numerose proteine 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fattore di più di 200 metalloenzimi fra cu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insulina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rmone ipoglicemizzante;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stone deacetilasi (HDAC)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odulazione epigenetica dell’espressione genica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nidrasi carbon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enzima che catalizza la reazion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                              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H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↔ 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2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+ H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lcol deidrogen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:fermentazione alcolica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76" name="Object 0"/>
          <p:cNvGraphicFramePr/>
          <p:nvPr/>
        </p:nvGraphicFramePr>
        <p:xfrm>
          <a:off x="2879640" y="5092560"/>
          <a:ext cx="339084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9640" y="5092560"/>
                    <a:ext cx="339084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8" name="Picture 10" descr="alcol deidro"/>
          <p:cNvPicPr/>
          <p:nvPr/>
        </p:nvPicPr>
        <p:blipFill>
          <a:blip r:embed="rId3"/>
          <a:stretch/>
        </p:blipFill>
        <p:spPr>
          <a:xfrm>
            <a:off x="444600" y="4626000"/>
            <a:ext cx="2239920" cy="19828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graphicFrame>
        <p:nvGraphicFramePr>
          <p:cNvPr id="379" name="Object 1"/>
          <p:cNvGraphicFramePr/>
          <p:nvPr/>
        </p:nvGraphicFramePr>
        <p:xfrm>
          <a:off x="6148440" y="3152880"/>
          <a:ext cx="2670120" cy="21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0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48440" y="3152880"/>
                    <a:ext cx="267012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517680" y="3195720"/>
            <a:ext cx="8064360" cy="37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O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(CH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O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batterici, antisettici e adsorbenti (azione antimicrobica dovuta all’interazione con i gruppi SH ed altri gruppi polari di proteine enzimatiche) per uso esterno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n(C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·2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zinco acetato diidrato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è il principio attivo della specialità medicinale Wilzin®  approvata nel 2004 per il trattamento del morbo di Wilson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Cl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integrante dell’insulina nella terapia antidiabetica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SO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 soluzioni diluite antisettico per uso oftalmico, ad alte dosi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os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veloce ed efficace emetic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719280" y="216000"/>
            <a:ext cx="7632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fosfatasi alcal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:marker biochimico per epatopatie e malattie osse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CE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(angiotensin converting enzyme)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nzima che catalizza la formazione dell’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angiotensina I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un octapeptide ad attività vasocostrittrice ed ipertensiv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83" name="Object 7"/>
          <p:cNvGraphicFramePr/>
          <p:nvPr/>
        </p:nvGraphicFramePr>
        <p:xfrm>
          <a:off x="1459080" y="1468440"/>
          <a:ext cx="6119640" cy="14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1468440"/>
                    <a:ext cx="61196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1187280" y="404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COBAL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468360" y="90792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lemento microessenziale (dose media giornaliera  0.01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380880" y="1295280"/>
            <a:ext cx="835200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componente inorganico (Co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della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vitamina B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1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cobalam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necessaria per la produzione dei globuli rossi (carenza provoca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anemia pernicios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. Si somministrano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ianocobalamina o idrossicobalam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er via parenterale. La carenza provoca anche degenerazione del sistema nervoso centrale per accumulo di acidi grassi anomal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88" name="Object 7"/>
          <p:cNvGraphicFramePr/>
          <p:nvPr/>
        </p:nvGraphicFramePr>
        <p:xfrm>
          <a:off x="369720" y="2930400"/>
          <a:ext cx="3813480" cy="32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2930400"/>
                    <a:ext cx="3813480" cy="32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0" name="Picture 8" descr="vit B12"/>
          <p:cNvPicPr/>
          <p:nvPr/>
        </p:nvPicPr>
        <p:blipFill>
          <a:blip r:embed="rId3"/>
          <a:stretch/>
        </p:blipFill>
        <p:spPr>
          <a:xfrm>
            <a:off x="5257800" y="3200400"/>
            <a:ext cx="3063960" cy="32637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5"/>
          <p:cNvSpPr/>
          <p:nvPr/>
        </p:nvSpPr>
        <p:spPr>
          <a:xfrm>
            <a:off x="395280" y="176544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179280" y="901800"/>
            <a:ext cx="88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57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o e 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58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o (gamma emittenti) vengono usati nella radioterapia contro varie forme di tumo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179280" y="3271680"/>
            <a:ext cx="871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EFFETTI TOSSIC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rovoca irritazioni GI, vomito e diarrea. Per via parenterale tossico a livello cardiaco e circolatorio (diminuzione pressione arteriosa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179280" y="1476360"/>
            <a:ext cx="849636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o(N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ntidoto nell’avvelenamento da C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-  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</a:rPr>
              <a:t>2+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+ 6CN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</a:rPr>
              <a:t>-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↔ [Co(CN)</a:t>
            </a:r>
            <a:r>
              <a:rPr b="1" i="1" lang="it-IT" sz="1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-          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 inst= 10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19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, CoS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4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anemici insieme ai sali ferrosi in taluni tipi di anemi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16000" y="4141800"/>
            <a:ext cx="889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NTIDO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EDTA</a:t>
            </a: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4"/>
          <p:cNvSpPr/>
          <p:nvPr/>
        </p:nvSpPr>
        <p:spPr>
          <a:xfrm>
            <a:off x="1116000" y="549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NICH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324000" y="112536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Anche se viene definito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elemento stimolatorio e microessenzial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sono note soprattutto le proprietà tossicologiche del 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79280" y="1844640"/>
            <a:ext cx="3786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ZIONI TOSSICH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gente cancerogen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umento dei casi di cancro del tratto respiratorio negli addetti alle industrie di raffinazione del Ni (solfuri di Ni e Ni(CO)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dermatiti allergiche da contat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monete e gioielli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nibizione del rilascio di insulin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237960" y="5581800"/>
            <a:ext cx="291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NTIDO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0" i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CaEDT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0" name="Picture 10" descr=""/>
          <p:cNvPicPr/>
          <p:nvPr/>
        </p:nvPicPr>
        <p:blipFill>
          <a:blip r:embed="rId1"/>
          <a:stretch/>
        </p:blipFill>
        <p:spPr>
          <a:xfrm>
            <a:off x="4094280" y="1874880"/>
            <a:ext cx="2573280" cy="831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01" name="Text Box 11"/>
          <p:cNvSpPr/>
          <p:nvPr/>
        </p:nvSpPr>
        <p:spPr>
          <a:xfrm>
            <a:off x="5364000" y="5661000"/>
            <a:ext cx="37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00"/>
                </a:solidFill>
                <a:latin typeface="Comic Sans MS"/>
              </a:rPr>
              <a:t>Nestle et al. </a:t>
            </a:r>
            <a:r>
              <a:rPr b="1" i="1" lang="it-IT" sz="1600" spc="-1" strike="noStrike">
                <a:solidFill>
                  <a:srgbClr val="ffff00"/>
                </a:solidFill>
                <a:latin typeface="Comic Sans MS"/>
              </a:rPr>
              <a:t>Nature</a:t>
            </a:r>
            <a:r>
              <a:rPr b="0" i="1" lang="it-IT" sz="1600" spc="-1" strike="noStrike">
                <a:solidFill>
                  <a:srgbClr val="ffff00"/>
                </a:solidFill>
                <a:latin typeface="Comic Sans MS"/>
              </a:rPr>
              <a:t> 2002, 419, 132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2" name="Picture 9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2568600" cy="325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4"/>
          <p:cNvSpPr/>
          <p:nvPr/>
        </p:nvSpPr>
        <p:spPr>
          <a:xfrm>
            <a:off x="611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CALC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395280" y="836640"/>
            <a:ext cx="79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lemento essenziale (fabbisogno medio giornaliero 500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395280" y="1413000"/>
            <a:ext cx="84247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messaggero citosolico ubiquitario (vedi calmodulina); svolge funzioni di vitale importanza per: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eccitabilità delle membrane nervose e muscolar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meccanica della contrazione muscolar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ttività cardiac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coagulazione del sangu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6" name="Picture 7" descr="contrazione muscolare"/>
          <p:cNvPicPr/>
          <p:nvPr/>
        </p:nvPicPr>
        <p:blipFill>
          <a:blip r:embed="rId1"/>
          <a:stretch/>
        </p:blipFill>
        <p:spPr>
          <a:xfrm>
            <a:off x="5388120" y="2343240"/>
            <a:ext cx="3576600" cy="3173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graphicFrame>
        <p:nvGraphicFramePr>
          <p:cNvPr id="407" name="Object 8"/>
          <p:cNvGraphicFramePr/>
          <p:nvPr/>
        </p:nvGraphicFramePr>
        <p:xfrm>
          <a:off x="324000" y="4008600"/>
          <a:ext cx="5949720" cy="215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008600"/>
                    <a:ext cx="5949720" cy="21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4"/>
          <p:cNvSpPr/>
          <p:nvPr/>
        </p:nvSpPr>
        <p:spPr>
          <a:xfrm>
            <a:off x="755640" y="47628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suo metabolismo è regolato da: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paratormone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alcitonin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vitamina 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51000" y="295200"/>
          <a:ext cx="8207280" cy="5273640"/>
        </p:xfrm>
        <a:graphic>
          <a:graphicData uri="http://schemas.openxmlformats.org/drawingml/2006/table">
            <a:tbl>
              <a:tblPr/>
              <a:tblGrid>
                <a:gridCol w="1834920"/>
                <a:gridCol w="2184480"/>
                <a:gridCol w="2068560"/>
                <a:gridCol w="2119320"/>
              </a:tblGrid>
              <a:tr h="252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ZIO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PARATORMONE (PT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rmone polipeptidico sintetizzato dalle paratiroi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VITAMINA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dotto dal deidrocolesterolo per azione dei raggi UV o assunta con la die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CALCITON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rmone polipeptidico prodotto dalle cellule parafollicolari della tiroi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TEST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bs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bs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↓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crezione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↓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crezione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crezione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S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iassorbimento osteoclas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ormazione o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↓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iassorbimento osteoclas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Rectangle 45"/>
          <p:cNvSpPr/>
          <p:nvPr/>
        </p:nvSpPr>
        <p:spPr>
          <a:xfrm>
            <a:off x="-31680" y="520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Text Box 54"/>
          <p:cNvSpPr/>
          <p:nvPr/>
        </p:nvSpPr>
        <p:spPr>
          <a:xfrm>
            <a:off x="409680" y="5632560"/>
            <a:ext cx="8342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IPOCALCEM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rachitismo, malattie ossee, predisposizione a carie ed emorragie, ipereccitabilità nervosa e muscolar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IPERCALCEM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ipofunzionalità nervosa e muscolare e calcolosi ren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4"/>
          <p:cNvSpPr/>
          <p:nvPr/>
        </p:nvSpPr>
        <p:spPr>
          <a:xfrm>
            <a:off x="3276720" y="304920"/>
            <a:ext cx="609480" cy="29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6324480" y="19810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5562720" y="0"/>
            <a:ext cx="114300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5867280" y="68580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477120" y="380880"/>
            <a:ext cx="75960" cy="1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629400" y="457200"/>
            <a:ext cx="22860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6324480" y="6858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6629400" y="685800"/>
            <a:ext cx="15228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858000" y="6858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2" name="Group 25"/>
          <p:cNvGrpSpPr/>
          <p:nvPr/>
        </p:nvGrpSpPr>
        <p:grpSpPr>
          <a:xfrm>
            <a:off x="1295280" y="1752480"/>
            <a:ext cx="6400440" cy="4343040"/>
            <a:chOff x="1295280" y="1752480"/>
            <a:chExt cx="6400440" cy="4343040"/>
          </a:xfrm>
        </p:grpSpPr>
        <p:pic>
          <p:nvPicPr>
            <p:cNvPr id="113" name="Picture 2" descr="Cd"/>
            <p:cNvPicPr/>
            <p:nvPr/>
          </p:nvPicPr>
          <p:blipFill>
            <a:blip r:embed="rId1"/>
            <a:stretch/>
          </p:blipFill>
          <p:spPr>
            <a:xfrm>
              <a:off x="1373760" y="1752480"/>
              <a:ext cx="6321960" cy="4343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4" name="Oval 5"/>
            <p:cNvSpPr/>
            <p:nvPr/>
          </p:nvSpPr>
          <p:spPr>
            <a:xfrm>
              <a:off x="1295280" y="1752480"/>
              <a:ext cx="4072680" cy="3528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Oval 14"/>
            <p:cNvSpPr/>
            <p:nvPr/>
          </p:nvSpPr>
          <p:spPr>
            <a:xfrm>
              <a:off x="4996800" y="2120760"/>
              <a:ext cx="2159280" cy="2054880"/>
            </a:xfrm>
            <a:prstGeom prst="ellipse">
              <a:avLst/>
            </a:prstGeom>
            <a:noFill/>
            <a:ln w="28440">
              <a:solidFill>
                <a:srgbClr val="0f34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6" name="Text Box 15"/>
          <p:cNvSpPr/>
          <p:nvPr/>
        </p:nvSpPr>
        <p:spPr>
          <a:xfrm>
            <a:off x="228600" y="6172200"/>
            <a:ext cx="327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TOSSICOCINET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AutoShape 17"/>
          <p:cNvSpPr/>
          <p:nvPr/>
        </p:nvSpPr>
        <p:spPr>
          <a:xfrm>
            <a:off x="914400" y="2743200"/>
            <a:ext cx="533520" cy="2590920"/>
          </a:xfrm>
          <a:custGeom>
            <a:avLst/>
            <a:gdLst>
              <a:gd name="textAreaLeft" fmla="*/ 71280 w 533520"/>
              <a:gd name="textAreaRight" fmla="*/ 462240 w 53352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685800" y="2590920"/>
            <a:ext cx="609480" cy="3352680"/>
          </a:xfrm>
          <a:custGeom>
            <a:avLst/>
            <a:gdLst>
              <a:gd name="textAreaLeft" fmla="*/ 350640 w 609480"/>
              <a:gd name="textAreaRight" fmla="*/ 514440 w 609480"/>
              <a:gd name="textAreaTop" fmla="*/ 451800 h 3352680"/>
              <a:gd name="textAreaBottom" fmla="*/ 14349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5850720" y="380880"/>
            <a:ext cx="2922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a2270"/>
                </a:solidFill>
                <a:latin typeface="Comic Sans MS"/>
              </a:rPr>
              <a:t>TOSSICODINAM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AutoShape 21"/>
          <p:cNvSpPr/>
          <p:nvPr/>
        </p:nvSpPr>
        <p:spPr>
          <a:xfrm rot="10878000">
            <a:off x="6933960" y="990360"/>
            <a:ext cx="685800" cy="2057400"/>
          </a:xfrm>
          <a:custGeom>
            <a:avLst/>
            <a:gdLst>
              <a:gd name="textAreaLeft" fmla="*/ 394560 w 685800"/>
              <a:gd name="textAreaRight" fmla="*/ 578880 w 685800"/>
              <a:gd name="textAreaTop" fmla="*/ 277200 h 2057400"/>
              <a:gd name="textAreaBottom" fmla="*/ 8805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b2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36520" y="400536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193680" y="4335480"/>
            <a:ext cx="847080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Cl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reintegratore in casi di ipocalcemia, emostatico poiché astringent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aBr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sedativo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a(CH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OO)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reintegratore (anche in soluzioni per emodialisi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(OH)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, Ca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, Ca(H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acidi per via oral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aHPO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rachitico, anticari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S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usato nelle ingessatur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EDT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doto avvelenamenti da metalli pesanti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-lattato, Ca-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gluconato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, Ca-pantotenato, Ca-glicerofosf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reintegrato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5" name="Object 5"/>
          <p:cNvGraphicFramePr/>
          <p:nvPr/>
        </p:nvGraphicFramePr>
        <p:xfrm>
          <a:off x="1258920" y="115920"/>
          <a:ext cx="6738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5920"/>
                    <a:ext cx="6738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539640" y="5238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BAR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250920" y="1052640"/>
            <a:ext cx="87138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atione noto per le azioni tossiche (sali idrosolubili)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himicamente simile al Ca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, può provocare stati di acuta ipocalcem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ntossicazione 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vomito, diarrea, crampi muscolari, aritmie e morte per arresto cardia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Antido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solfati alcalini 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↓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BaS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 livello gastrico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50920" y="3527280"/>
            <a:ext cx="85690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COMPOSTO DI INTERESSE FARMACEUTIC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</a:rPr>
              <a:t>BaSO</a:t>
            </a:r>
            <a:r>
              <a:rPr b="0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radiopaco utilizzato nelle radiografie a raggi X (assorbe le radiazioni elettromagnetiche X)dell’apparato gastro-enter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"/>
          <p:cNvSpPr/>
          <p:nvPr/>
        </p:nvSpPr>
        <p:spPr>
          <a:xfrm>
            <a:off x="468360" y="4507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AGNES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466560" y="901800"/>
            <a:ext cx="84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essenziale (quantità media nell’uomo: 10 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79280" y="1484280"/>
            <a:ext cx="447372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ntra nella costituzione di ossa e denti come fosfat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importante per attività di molti enzimi cellulari e reazioni in cui è implicato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ostituente inorganico della </a:t>
            </a:r>
            <a:r>
              <a:rPr b="0" i="1" lang="it-IT" sz="1800" spc="-1" strike="noStrike">
                <a:solidFill>
                  <a:srgbClr val="66ff33"/>
                </a:solidFill>
                <a:latin typeface="Comic Sans MS"/>
              </a:rPr>
              <a:t>clorofill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zione lassativa e/o purgativa dovuta a facilità di solvatazione dello ione ed all’azione irritante loca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himismo competitivo con lo ione Ca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</a:rPr>
              <a:t>2+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(depressione a livello SNC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228600" y="518148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EFFETTI TOSSIC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zione ipnotica, analgesica e anestetica fino all’ arresto cardiaco ad alte dosi; potenti effetti ipotensivi; amianto (silicato) provoca tumori polmonar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24" name="Object 9"/>
          <p:cNvGraphicFramePr/>
          <p:nvPr/>
        </p:nvGraphicFramePr>
        <p:xfrm>
          <a:off x="4932360" y="1595520"/>
          <a:ext cx="3456000" cy="16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595520"/>
                    <a:ext cx="345600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10"/>
          <p:cNvGraphicFramePr/>
          <p:nvPr/>
        </p:nvGraphicFramePr>
        <p:xfrm>
          <a:off x="4859280" y="3429000"/>
          <a:ext cx="3924360" cy="27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429000"/>
                    <a:ext cx="392436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4"/>
          <p:cNvSpPr/>
          <p:nvPr/>
        </p:nvSpPr>
        <p:spPr>
          <a:xfrm>
            <a:off x="539640" y="333360"/>
            <a:ext cx="842508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gO, Mg(OH)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 Mg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(P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MgC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acid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gS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lassativo/purgante osmotico (sale ingles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gCl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 Mg-aspart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reintegratori per ev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2MgO 3Si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nH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acido, antiulcera, adsorbente intestin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2Mg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Si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6Si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Mg(OH)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attapulgite): adsorbente intestin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1173240" y="31417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LIT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79440" y="3668760"/>
            <a:ext cx="83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Li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 LiBr, gluconato, citrato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: utilizzati nelle psicosi maniaco-depressiv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171360" y="4124160"/>
            <a:ext cx="8972640" cy="24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AZIONE FARMAC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zione riequilibrante nelle sindromi bipolari per il controllo esercitato sulla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pompa sodio-potassi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delle cellule nervose e per gli effetti sui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I messaggeri cellulari (inositoli)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AZIONI TOSS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ssicazione 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disturbi tiroidei, gastroenteriti, obesità, lesioni cutane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ssicazione 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tremori, atassia muscolare, nausea, vomito, epilessia, com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4"/>
          <p:cNvSpPr/>
          <p:nvPr/>
        </p:nvSpPr>
        <p:spPr>
          <a:xfrm>
            <a:off x="755640" y="33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SOD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324000" y="1341360"/>
            <a:ext cx="604836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ione a concentrazione prevalentemente extra-cellulare (come C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 e a differenza di 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 Mg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intra-cellulare)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sua concentrazione intracellulare è mantenuta dalla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pompa sodio-potassio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.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gradiente di concentrazione viene sfruttato per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controllo della pressione osmotic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trasmissione nervos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539640" y="765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essenziale (300 mg/l nel plasma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35" name="Object 7"/>
          <p:cNvGraphicFramePr/>
          <p:nvPr/>
        </p:nvGraphicFramePr>
        <p:xfrm>
          <a:off x="2916360" y="4076640"/>
          <a:ext cx="3078000" cy="24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076640"/>
                    <a:ext cx="307800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7" name="Picture 9" descr="can na 2"/>
          <p:cNvPicPr/>
          <p:nvPr/>
        </p:nvPicPr>
        <p:blipFill>
          <a:blip r:embed="rId3"/>
          <a:stretch/>
        </p:blipFill>
        <p:spPr>
          <a:xfrm>
            <a:off x="6516720" y="2349360"/>
            <a:ext cx="2314440" cy="2824200"/>
          </a:xfrm>
          <a:prstGeom prst="rect">
            <a:avLst/>
          </a:prstGeom>
          <a:ln w="0">
            <a:noFill/>
          </a:ln>
        </p:spPr>
      </p:pic>
      <p:sp>
        <p:nvSpPr>
          <p:cNvPr id="438" name="Line 10"/>
          <p:cNvSpPr/>
          <p:nvPr/>
        </p:nvSpPr>
        <p:spPr>
          <a:xfrm>
            <a:off x="7524720" y="1916280"/>
            <a:ext cx="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Text Box 11"/>
          <p:cNvSpPr/>
          <p:nvPr/>
        </p:nvSpPr>
        <p:spPr>
          <a:xfrm>
            <a:off x="6948360" y="155736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i="1" lang="it-IT" sz="20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Text Box 12"/>
          <p:cNvSpPr/>
          <p:nvPr/>
        </p:nvSpPr>
        <p:spPr>
          <a:xfrm>
            <a:off x="6372360" y="544500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mic Sans MS"/>
              </a:rPr>
              <a:t>Trasmissione impulso nervos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Line 13"/>
          <p:cNvSpPr/>
          <p:nvPr/>
        </p:nvSpPr>
        <p:spPr>
          <a:xfrm>
            <a:off x="7596360" y="494172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4"/>
          <p:cNvSpPr/>
          <p:nvPr/>
        </p:nvSpPr>
        <p:spPr>
          <a:xfrm>
            <a:off x="324000" y="404640"/>
            <a:ext cx="8351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tilizzato come NaCl nelle soluzioni fisiologiche (0.9% p/v) iniettabili che devono essere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neutr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pH= 7.4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soton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uguali rapporti ionici ponderali del siero ematico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soosmot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uguale pressione osmotica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24000" y="2492280"/>
            <a:ext cx="83534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EFFETTI TOSSIC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↑ conc plasmatica di N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pernatriemia) porta ad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ipertens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 ha effetti anche sulla diuresi e sulla eccitabilità di nervi e muscoli. Avvelenamento acuto per ev può provocare arresto del cuore in sisto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219240" y="3986280"/>
            <a:ext cx="8451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MPOSTI DI INTERESSE FARMACEUTICO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Cl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integratore sod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S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purgante drastico per azione irritante sulla mucosa intestinale e           idratante la massa fecale (sale di Glauber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alcalinizzante in preparazioni farmaceutich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HC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acido per via or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Hcitr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coagulante ( il citrato chela il calcio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1258920" y="5954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POTASS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1042920" y="981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essenziale (dose media giornaliera 3 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24000" y="170028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one a concentrazione prevalentemente intracellulare, fondamentale per il biochimismo cellulare (vedi pompa N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mportante per il normale funzionamento del cuor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324000" y="3284640"/>
            <a:ext cx="83088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MPOSTI DI INTERESSE FARMACEUTICO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KCl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integratore potass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KAl(S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allume di rocca): astringente, emostatico ed antisettico per uso estern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24000" y="4869000"/>
            <a:ext cx="83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Comic Sans MS"/>
              </a:rPr>
              <a:t>EFFETTI TOSSICI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per via ev provoca aritmie, fibrillazione cardiaca ed a dosi elevate arresto del cuore in diasto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-396720" y="549360"/>
          <a:ext cx="9388440" cy="5989680"/>
        </p:xfrm>
        <a:graphic>
          <a:graphicData uri="http://schemas.openxmlformats.org/drawingml/2006/table">
            <a:tbl>
              <a:tblPr/>
              <a:tblGrid>
                <a:gridCol w="2454120"/>
                <a:gridCol w="693432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ANIO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ATTIVITA’ FARMACOLOGICA E COMPOSTI DI INTERESSE FARMACEUTI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SOLFA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a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SO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, MgSO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ssativi e/o purganti osmotic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LORU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aCl, CaCl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, KCl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integrator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H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l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pettorante, mucolitico per irritazione di mucosa respiratori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artecipa insieme al Na</a:t>
                      </a:r>
                      <a:r>
                        <a:rPr b="0" i="1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+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alla regolazione della p osmotica e alla trasmissione dell’impulso nervos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BROMU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aBr, KBr, CaBr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, LiBr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dativi, antiepilettici ma causano 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romismo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oggi in disuso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OSSALA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oni sequestranti il Ca</a:t>
                      </a:r>
                      <a:r>
                        <a:rPr b="0" i="1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+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(↓CaC</a:t>
                      </a:r>
                      <a:r>
                        <a:rPr b="0" i="1" lang="it-IT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i="1" lang="it-IT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 con conseguente ipocalcemia, calcolosi renale e trombosi vascolar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ACETA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H</a:t>
                      </a:r>
                      <a:r>
                        <a:rPr b="1" lang="it-IT" sz="1600" spc="-1" strike="noStrike" baseline="-25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OOH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: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sato in soluzioni diluite all’1% come antibatterico per uso topi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Acetil-SCoA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mportantissimo intermedio metaboli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4"/>
          <p:cNvSpPr/>
          <p:nvPr/>
        </p:nvSpPr>
        <p:spPr>
          <a:xfrm>
            <a:off x="324000" y="695160"/>
            <a:ext cx="8351640" cy="15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NITRATI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aN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 KN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sati come conservanti negli insaccati per azione ossidante su microrganismi (causano metaemoglobinemia a dosi superiori a quelle fisiologich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52" name="Object 5"/>
          <p:cNvGraphicFramePr/>
          <p:nvPr/>
        </p:nvGraphicFramePr>
        <p:xfrm>
          <a:off x="5651640" y="2079720"/>
          <a:ext cx="289224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2079720"/>
                    <a:ext cx="289224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Rectangle 7"/>
          <p:cNvSpPr/>
          <p:nvPr/>
        </p:nvSpPr>
        <p:spPr>
          <a:xfrm>
            <a:off x="396720" y="2152800"/>
            <a:ext cx="47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Nitroglicerina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estere nitrico della glicerina) usato come coronaro-dilatatore nei casi d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ngina pectori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395280" y="3916440"/>
            <a:ext cx="8434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NITRITI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sati come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nservanti negli insaccati (cui conferiscono colore rosso vivo), nell’ambiente acido dello stomaco formano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nitrosoammi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sostanze ad elevato potere cancerogeno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R-NH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+ HNO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→R-NH-N=O + H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5"/>
          <p:cNvSpPr/>
          <p:nvPr/>
        </p:nvSpPr>
        <p:spPr>
          <a:xfrm>
            <a:off x="324000" y="404640"/>
            <a:ext cx="8591400" cy="34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NITRITI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engono usati nel caso di avvelenamento da CIANURI.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o ione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N presenta una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ort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ffinità per il Fe con conseguente inattivazione  degli enzimi della catena respiratoria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itocromo ossid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 nitrit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anche i nitrati) causano la formazione di metaemoglobina che lega il cianuro. La successiva somministrazione di 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Na</a:t>
            </a:r>
            <a:r>
              <a:rPr b="0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S</a:t>
            </a:r>
            <a:r>
              <a:rPr b="0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O</a:t>
            </a:r>
            <a:r>
              <a:rPr b="0" lang="it-IT" sz="1800" spc="-1" strike="noStrike" baseline="-25000">
                <a:solidFill>
                  <a:srgbClr val="ffff66"/>
                </a:solidFill>
                <a:latin typeface="Comic Sans MS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orta a formazione del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CN (molto meno tossico ed eliminabile attraverso le urine) grazie all’enzima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rodan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0" y="378936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Line 7"/>
          <p:cNvSpPr/>
          <p:nvPr/>
        </p:nvSpPr>
        <p:spPr>
          <a:xfrm>
            <a:off x="1332000" y="4003560"/>
            <a:ext cx="1079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Line 8"/>
          <p:cNvSpPr/>
          <p:nvPr/>
        </p:nvSpPr>
        <p:spPr>
          <a:xfrm flipV="1">
            <a:off x="2413080" y="3547800"/>
            <a:ext cx="595080" cy="455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Line 9"/>
          <p:cNvSpPr/>
          <p:nvPr/>
        </p:nvSpPr>
        <p:spPr>
          <a:xfrm>
            <a:off x="2413080" y="3979800"/>
            <a:ext cx="496800" cy="455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2700360" y="328464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Line 11"/>
          <p:cNvSpPr/>
          <p:nvPr/>
        </p:nvSpPr>
        <p:spPr>
          <a:xfrm>
            <a:off x="3995640" y="3571920"/>
            <a:ext cx="119088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4284720" y="3355920"/>
            <a:ext cx="35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porto 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2556000" y="429264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Line 14"/>
          <p:cNvSpPr/>
          <p:nvPr/>
        </p:nvSpPr>
        <p:spPr>
          <a:xfrm>
            <a:off x="3851280" y="4508640"/>
            <a:ext cx="1079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4427640" y="4292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C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7" name="Line 16"/>
          <p:cNvSpPr/>
          <p:nvPr/>
        </p:nvSpPr>
        <p:spPr>
          <a:xfrm>
            <a:off x="6516720" y="450864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7539120" y="4826160"/>
            <a:ext cx="95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7020000" y="4292640"/>
            <a:ext cx="247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N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+S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2759040" y="51213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N</a:t>
            </a:r>
            <a:r>
              <a:rPr b="1" lang="it-IT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Line 20"/>
          <p:cNvSpPr/>
          <p:nvPr/>
        </p:nvSpPr>
        <p:spPr>
          <a:xfrm flipV="1">
            <a:off x="3780000" y="4652640"/>
            <a:ext cx="504720" cy="53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3780000" y="5516640"/>
            <a:ext cx="718920" cy="433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324000" y="5877000"/>
            <a:ext cx="35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citocromo</a:t>
            </a:r>
            <a:r>
              <a:rPr b="0" i="1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ossidas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Fe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Line 23"/>
          <p:cNvSpPr/>
          <p:nvPr/>
        </p:nvSpPr>
        <p:spPr>
          <a:xfrm flipV="1">
            <a:off x="3348000" y="6093000"/>
            <a:ext cx="197640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4622760" y="5877000"/>
            <a:ext cx="48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citocromo ossidas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Fe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C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Oval 25"/>
          <p:cNvSpPr/>
          <p:nvPr/>
        </p:nvSpPr>
        <p:spPr>
          <a:xfrm>
            <a:off x="2771640" y="5084640"/>
            <a:ext cx="1008360" cy="5050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Text Box 26"/>
          <p:cNvSpPr/>
          <p:nvPr/>
        </p:nvSpPr>
        <p:spPr>
          <a:xfrm>
            <a:off x="1332000" y="4003560"/>
            <a:ext cx="14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con NO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i="1" lang="it-IT" sz="1800" spc="-1" strike="noStrike" baseline="30000">
                <a:solidFill>
                  <a:srgbClr val="ffff66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Text Box 27"/>
          <p:cNvSpPr/>
          <p:nvPr/>
        </p:nvSpPr>
        <p:spPr>
          <a:xfrm>
            <a:off x="5940360" y="4581360"/>
            <a:ext cx="201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Na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S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O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Text Box 28"/>
          <p:cNvSpPr/>
          <p:nvPr/>
        </p:nvSpPr>
        <p:spPr>
          <a:xfrm>
            <a:off x="6227640" y="4172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333cc"/>
                </a:solidFill>
                <a:latin typeface="Comic Sans MS"/>
              </a:rPr>
              <a:t>rodanas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990720" y="609480"/>
            <a:ext cx="691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2" name="Group 24"/>
          <p:cNvGrpSpPr/>
          <p:nvPr/>
        </p:nvGrpSpPr>
        <p:grpSpPr>
          <a:xfrm>
            <a:off x="609480" y="1371600"/>
            <a:ext cx="8280360" cy="4249800"/>
            <a:chOff x="609480" y="1371600"/>
            <a:chExt cx="8280360" cy="4249800"/>
          </a:xfrm>
        </p:grpSpPr>
        <p:sp>
          <p:nvSpPr>
            <p:cNvPr id="123" name="Text Box 14"/>
            <p:cNvSpPr/>
            <p:nvPr/>
          </p:nvSpPr>
          <p:spPr>
            <a:xfrm>
              <a:off x="7010280" y="3276720"/>
              <a:ext cx="165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Comic Sans MS"/>
                </a:rPr>
                <a:t>tessuti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24" name="Group 21"/>
            <p:cNvGrpSpPr/>
            <p:nvPr/>
          </p:nvGrpSpPr>
          <p:grpSpPr>
            <a:xfrm>
              <a:off x="609480" y="1371600"/>
              <a:ext cx="8280360" cy="4249800"/>
              <a:chOff x="609480" y="1371600"/>
              <a:chExt cx="8280360" cy="4249800"/>
            </a:xfrm>
          </p:grpSpPr>
          <p:sp>
            <p:nvSpPr>
              <p:cNvPr id="125" name="Rectangle 5"/>
              <p:cNvSpPr/>
              <p:nvPr/>
            </p:nvSpPr>
            <p:spPr>
              <a:xfrm>
                <a:off x="2409480" y="1371600"/>
                <a:ext cx="3167280" cy="7207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" name="Text Box 6"/>
              <p:cNvSpPr/>
              <p:nvPr/>
            </p:nvSpPr>
            <p:spPr>
              <a:xfrm>
                <a:off x="2625480" y="1371600"/>
                <a:ext cx="2808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0000"/>
                    </a:solidFill>
                    <a:latin typeface="Comic Sans MS"/>
                  </a:rPr>
                  <a:t>Sito di somministrazio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" name="Line 7"/>
              <p:cNvSpPr/>
              <p:nvPr/>
            </p:nvSpPr>
            <p:spPr>
              <a:xfrm>
                <a:off x="3920760" y="2235240"/>
                <a:ext cx="0" cy="792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Rectangle 8"/>
              <p:cNvSpPr/>
              <p:nvPr/>
            </p:nvSpPr>
            <p:spPr>
              <a:xfrm>
                <a:off x="2914560" y="3171960"/>
                <a:ext cx="2087280" cy="504720"/>
              </a:xfrm>
              <a:prstGeom prst="rect">
                <a:avLst/>
              </a:prstGeom>
              <a:noFill/>
              <a:ln w="255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9" name="Text Box 9"/>
              <p:cNvSpPr/>
              <p:nvPr/>
            </p:nvSpPr>
            <p:spPr>
              <a:xfrm>
                <a:off x="3128760" y="3243240"/>
                <a:ext cx="165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0000"/>
                    </a:solidFill>
                    <a:latin typeface="Comic Sans MS"/>
                  </a:rPr>
                  <a:t>plasma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0" name="Line 10"/>
              <p:cNvSpPr/>
              <p:nvPr/>
            </p:nvSpPr>
            <p:spPr>
              <a:xfrm>
                <a:off x="5144760" y="3532320"/>
                <a:ext cx="1513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1" name="Line 11"/>
              <p:cNvSpPr/>
              <p:nvPr/>
            </p:nvSpPr>
            <p:spPr>
              <a:xfrm flipH="1">
                <a:off x="5144400" y="3387600"/>
                <a:ext cx="1368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2" name="Rectangle 12"/>
              <p:cNvSpPr/>
              <p:nvPr/>
            </p:nvSpPr>
            <p:spPr>
              <a:xfrm>
                <a:off x="6802200" y="3243240"/>
                <a:ext cx="2087640" cy="504720"/>
              </a:xfrm>
              <a:prstGeom prst="rect">
                <a:avLst/>
              </a:prstGeom>
              <a:noFill/>
              <a:ln w="255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3" name="Text Box 13"/>
              <p:cNvSpPr/>
              <p:nvPr/>
            </p:nvSpPr>
            <p:spPr>
              <a:xfrm>
                <a:off x="6945120" y="3316320"/>
                <a:ext cx="16556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4" name="Text Box 15"/>
              <p:cNvSpPr/>
              <p:nvPr/>
            </p:nvSpPr>
            <p:spPr>
              <a:xfrm>
                <a:off x="1112400" y="2451240"/>
                <a:ext cx="28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ff5050"/>
                    </a:solidFill>
                    <a:latin typeface="Comic Sans MS"/>
                  </a:rPr>
                  <a:t>1. ASSORBIMENTO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5" name="Text Box 16"/>
              <p:cNvSpPr/>
              <p:nvPr/>
            </p:nvSpPr>
            <p:spPr>
              <a:xfrm>
                <a:off x="4568400" y="2846520"/>
                <a:ext cx="288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66ff33"/>
                    </a:solidFill>
                    <a:latin typeface="Comic Sans MS"/>
                  </a:rPr>
                  <a:t>2. DISTRIBUZIO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6" name="Line 17"/>
              <p:cNvSpPr/>
              <p:nvPr/>
            </p:nvSpPr>
            <p:spPr>
              <a:xfrm>
                <a:off x="3920760" y="3892680"/>
                <a:ext cx="0" cy="93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7" name="Rectangle 18"/>
              <p:cNvSpPr/>
              <p:nvPr/>
            </p:nvSpPr>
            <p:spPr>
              <a:xfrm>
                <a:off x="2698560" y="5116320"/>
                <a:ext cx="2519280" cy="50508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8" name="Text Box 19"/>
              <p:cNvSpPr/>
              <p:nvPr/>
            </p:nvSpPr>
            <p:spPr>
              <a:xfrm>
                <a:off x="2984400" y="5187960"/>
                <a:ext cx="201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0000"/>
                    </a:solidFill>
                    <a:latin typeface="Comic Sans MS"/>
                  </a:rPr>
                  <a:t>feci, uri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9" name="Text Box 20"/>
              <p:cNvSpPr/>
              <p:nvPr/>
            </p:nvSpPr>
            <p:spPr>
              <a:xfrm>
                <a:off x="609480" y="3963960"/>
                <a:ext cx="3095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ffff66"/>
                    </a:solidFill>
                    <a:latin typeface="Comic Sans MS"/>
                  </a:rPr>
                  <a:t>3. METABOLISMO ED ESCREZIO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40" name="Text Box 23"/>
          <p:cNvSpPr/>
          <p:nvPr/>
        </p:nvSpPr>
        <p:spPr>
          <a:xfrm>
            <a:off x="129528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TOSSICOCINETICA 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4"/>
          <p:cNvSpPr/>
          <p:nvPr/>
        </p:nvSpPr>
        <p:spPr>
          <a:xfrm>
            <a:off x="423720" y="436680"/>
            <a:ext cx="84139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CARBONAT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HC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/H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più importante sistema tampone fisiolog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mette controllo respiratorio del pH emat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457200" y="1371600"/>
            <a:ext cx="849636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IODUR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NaI, KI usati nelle disfunzioni tiroidee e quali espettoranti e mucolitici; I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utilizzato per la sintesi di ormoni tiroidei T4 (tiroxina) e T3 (triiodotironina) fondamentali per metabolism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82" name="Object 0"/>
          <p:cNvGraphicFramePr/>
          <p:nvPr/>
        </p:nvGraphicFramePr>
        <p:xfrm>
          <a:off x="755640" y="2565360"/>
          <a:ext cx="7488360" cy="16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565360"/>
                    <a:ext cx="7488360" cy="16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Text Box 8"/>
          <p:cNvSpPr/>
          <p:nvPr/>
        </p:nvSpPr>
        <p:spPr>
          <a:xfrm>
            <a:off x="539640" y="4678200"/>
            <a:ext cx="849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CIANUR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elevata tossicità (dose letale media HCN 50-100 mg; KCN: 130-200 mg) dovuta a forte affinità per F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inattivazione enzimi catena respiratoria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tocromo ossid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doti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(N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nitriti e tiosolfati alcalin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838080" y="762120"/>
            <a:ext cx="72392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2" name="Group 8"/>
          <p:cNvGrpSpPr/>
          <p:nvPr/>
        </p:nvGrpSpPr>
        <p:grpSpPr>
          <a:xfrm>
            <a:off x="990720" y="838080"/>
            <a:ext cx="7162560" cy="5410080"/>
            <a:chOff x="990720" y="838080"/>
            <a:chExt cx="7162560" cy="5410080"/>
          </a:xfrm>
        </p:grpSpPr>
        <p:pic>
          <p:nvPicPr>
            <p:cNvPr id="143" name="Picture 4" descr="Cinetica"/>
            <p:cNvPicPr/>
            <p:nvPr/>
          </p:nvPicPr>
          <p:blipFill>
            <a:blip r:embed="rId1"/>
            <a:stretch/>
          </p:blipFill>
          <p:spPr>
            <a:xfrm>
              <a:off x="990720" y="838080"/>
              <a:ext cx="7162560" cy="538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6"/>
            <p:cNvSpPr/>
            <p:nvPr/>
          </p:nvSpPr>
          <p:spPr>
            <a:xfrm>
              <a:off x="990720" y="838080"/>
              <a:ext cx="7162560" cy="541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5" name="Text Box 7"/>
          <p:cNvSpPr/>
          <p:nvPr/>
        </p:nvSpPr>
        <p:spPr>
          <a:xfrm>
            <a:off x="190512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TOSSICOCINETICA I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116000" y="3078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ASSORBIMEN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24000" y="1197000"/>
            <a:ext cx="8351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dopo somministrazione per os: stomaco ed intestin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Dipende da vari fattori quali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l flusso ematico nel sito di assorbimento,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superficie totale disponibile per l’assorbimento,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empo di contatto con la superficie assorbente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4000" y="3789360"/>
            <a:ext cx="8569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può avvenire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diffusione passiva semplice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diffusione facilitata (carriers proteici)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trasporto attivo (carriers proteic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7" descr="membrana"/>
          <p:cNvPicPr/>
          <p:nvPr/>
        </p:nvPicPr>
        <p:blipFill>
          <a:blip r:embed="rId1"/>
          <a:stretch/>
        </p:blipFill>
        <p:spPr>
          <a:xfrm>
            <a:off x="5508720" y="3213000"/>
            <a:ext cx="3238560" cy="300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0" name="Line 8"/>
          <p:cNvSpPr/>
          <p:nvPr/>
        </p:nvSpPr>
        <p:spPr>
          <a:xfrm>
            <a:off x="6443640" y="2852640"/>
            <a:ext cx="216000" cy="201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7093080" y="278136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Picture 19" descr="farmaco"/>
          <p:cNvPicPr/>
          <p:nvPr/>
        </p:nvPicPr>
        <p:blipFill>
          <a:blip r:embed="rId2"/>
          <a:stretch/>
        </p:blipFill>
        <p:spPr>
          <a:xfrm>
            <a:off x="6823080" y="2205000"/>
            <a:ext cx="485640" cy="485640"/>
          </a:xfrm>
          <a:prstGeom prst="rect">
            <a:avLst/>
          </a:prstGeom>
          <a:ln w="0">
            <a:noFill/>
          </a:ln>
        </p:spPr>
      </p:pic>
      <p:sp>
        <p:nvSpPr>
          <p:cNvPr id="153" name="Line 20"/>
          <p:cNvSpPr/>
          <p:nvPr/>
        </p:nvSpPr>
        <p:spPr>
          <a:xfrm>
            <a:off x="7885080" y="242100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Picture 21" descr="farmaco"/>
          <p:cNvPicPr/>
          <p:nvPr/>
        </p:nvPicPr>
        <p:blipFill>
          <a:blip r:embed="rId3"/>
          <a:stretch/>
        </p:blipFill>
        <p:spPr>
          <a:xfrm>
            <a:off x="7667640" y="1844640"/>
            <a:ext cx="48564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08:16:16Z</dcterms:created>
  <dc:creator>Ilaria &amp; Vera</dc:creator>
  <dc:description/>
  <dc:language>en-US</dc:language>
  <cp:lastModifiedBy>Sergio  Valente</cp:lastModifiedBy>
  <dcterms:modified xsi:type="dcterms:W3CDTF">2018-12-19T07:44:42Z</dcterms:modified>
  <cp:revision>234</cp:revision>
  <dc:subject/>
  <dc:title>Presentazione di PowerPoint</dc:title>
</cp:coreProperties>
</file>