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64B96E-51D3-44F8-910F-C5567C686985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nk da precise indicazioni ad app_002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costruire una scala di Osgood è necess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dividuare l’oggetto sul quale si vogliono raccogliere atteggiamenti o reazion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le coppie di aggettivi adatti a valutare l’oggetto. Si devono scegliere aggettivi che possono essere applicati ai concetti prescelti e riferiti a tre dimensioni fondamentali: la valutazione (correlata alle coppie buono/cattivo; positivo/negativo; gentile/sgarbato); la potenza (forte/debole; leggero/pesante; aggressivo/pacifico) e l’attività (veloce/lento; attivo/passivo; giovane/vecchio) o almeno ad una di queste dimensioni. Per ogni scala si stabilisce un numero di punti corrispondenti al nuemro di intervalli prefissato (generalment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rivere la parola o la frase che designa l’oggetto della valutazione e farla seguire da aggettivi come nell’esempio sopra riporta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iegare, nelle istruzioni alla scala, che bisogna rispondere alla prova velocemente sulla base della prima impressione e senza riflettere trop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ito a scelat multipla. Risposte esat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sa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 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rr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. La risposta seleziona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k risposta non forni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Nota programmatore pop up su cautele metod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 del pop 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arire l’argomento generale del colloquio, insieme agli obiettivi e agli scopi. La predeterminazione degli stimoli e delle risposte possibili consente al valutatore di mettere a punto una griglia, da utilizzare nel corso del colloquio, per registrare, con segni di codifica molto semplici la risposte che vengono date e comunque di poter valutare i dati raccolti con massima obiettiv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iare il discorso da una domanda generale, per dare a ogni soggetto la possibilità di impostare il colloquio nel modo che ritiene più adegu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vitare di condizionare le risposte e di assumere comportamenti, verbali, non verbali che possano dimostrare disapprovazione o pregiudizi verso ciò che l’interlocutore sta dicendo. La strategia che si suggerisce di adottare è quella di partire da ciò che il soggetto esaminato decide di dire, nel modo che preferisce e nell’ordine di successione degli argomenti che sceglie, e solo successivamente intervenire per chiedere chiarimenti, precisazioni integ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inventari della personal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re metodi che generalmente si usano per misurare la personalità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descrizioni fornite dai sogg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st e tecniche proiettive che richiedono al soggetto di descrivere o interpretare materiale verbale o vi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zione del comportamento, basata sulla registrazione di informazioni da parte di un osservatore esterno attraverso l’impiego di diverse tecniche di osservazione: liste di controllo, analisi dei comportamenti espressivi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tecniche per la misurazione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teressi sono generalmente misurati tramite questionari (inventari) che utilizzano sia domande della scala di atteggiamento sia quesiti autovalutativi. Vengono utilizzati per l’orientamento scolastico-profess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 imamgine 730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a programmatore: quesito a scelta multipla. Risposta esat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atto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enzione, l’opzione da te selezionata non è cor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non for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co la risposta corretta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E55-5EF2-4321-B597-BE1D167F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143-D156-4EB2-9B05-7E434D30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A87-2D0F-4FAA-9815-A5F20C6E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614-1D8E-485E-8BE1-6EC353AE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EAC-24E9-434E-AFFD-9E9C49D2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0AF-2C9A-4506-A26A-97DFDAAA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E7A-517A-48BB-BDD1-6837900B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ACD-E5F5-4556-A907-473548DE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D44C-23AA-4782-B9EE-8538DE04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9C7-EE5E-4200-99AA-2838D4C4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46E-EEFE-40BF-830D-97664B20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DB4-1A6E-4BE1-833E-73F7AF4D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7. Prove di personalità e 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1840" y="349200"/>
            <a:ext cx="179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1DC98FFF-345D-4804-A894-7468439B4CC0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FDDA-13CD-4056-9012-42498FCB48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68760"/>
            <a:ext cx="4800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0769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 pulsante           per iniziare, o seleziona un titolo per andare direttamente all’argomento che ti interes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2311560" y="5321160"/>
            <a:ext cx="355320" cy="254160"/>
          </a:xfrm>
          <a:custGeom>
            <a:avLst/>
            <a:gdLst>
              <a:gd name="textAreaLeft" fmla="*/ 16200 w 355320"/>
              <a:gd name="textAreaRight" fmla="*/ 339120 w 355320"/>
              <a:gd name="textAreaTop" fmla="*/ 16200 h 254160"/>
              <a:gd name="textAreaBottom" fmla="*/ 237960 h 25416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5" h="21600">
                <a:moveTo>
                  <a:pt x="8086" y="3794"/>
                </a:moveTo>
                <a:lnTo>
                  <a:pt x="22099" y="10800"/>
                </a:lnTo>
                <a:lnTo>
                  <a:pt x="80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0" y="2133720"/>
            <a:ext cx="39625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evalentemente utilizzato nella misura degli atteggiamenti è costituito dai differenti tipi delle cosiddett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Le scale di atteggiamento più diffuse sono quelle di Thurstone, Likert, Osgo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387680"/>
            <a:ext cx="228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2770200"/>
            <a:ext cx="25185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3608280"/>
            <a:ext cx="19638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276720"/>
            <a:ext cx="71629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71600"/>
            <a:ext cx="8305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siste in un elenco di affermazioni che esprimono una gamma di opinioni realative al’oggetto dell’atteggiamento: un fatto, una situaizone, una perso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affermazioni devono rappresentare le opzioni possibili, dall’atteggiamento più favorevole a quello meno favorevo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ito dei soggetti è quello di elencare le affermazioni con le quali si è in accordo o in disacco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Thu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240" y="3630600"/>
            <a:ext cx="4179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farsi rispettare dai più gi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 necessario i più vecchi possono picchiare i più piccoli per farsi obbed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sacrificarsi per aiutare i più giu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720" y="335916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62280" y="3352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429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47920"/>
            <a:ext cx="8381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 metodo dei punteggi sommati è statat proposta per la prima volta intorno agli anni trenta (Likert 1932). Essa consente, meglio do quella di Thurstone di rilevare l’intensità di un atteggiamento e risulta essere oggi la procedura più utilizzata nella rilevazione degli attegg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domande che compongono questa scala presentano una serie di affermazioni rispetto alle quali si chiede al soggetto di esprimere il proprio grado di accordo utilizzando una scala generalmente a cinque intervalli di rispo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Lik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05320"/>
            <a:ext cx="807696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96540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cuni insegnanti sanno coinvolgere gli studenti nelle loro le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i insegnanti dovrebbero essere pagati di p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4560" y="35211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5360" y="3581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3400" y="35812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6200" y="35812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442880"/>
            <a:ext cx="86108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detta anche ‘differenziale semantico’ è stata elaborata, intornoagli anni ’50 da Osgood, Suci e Tanembaum. Obiettivo di questo strumento è quello di rilevare il grado di tensione emotiva, positiva o negativa, verso un dato concetto o ter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scala può essere costruita utilizzando un qualunque tipo di coppie di aggettivi bipolari: sia aderenti alla realtà dell’oggetto da valutare, sia indipendenti dalla realtà dell’oggetto (nel senso che sono oggettivi che solitamente non si applicano all’oggetto da valuta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Os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276720"/>
            <a:ext cx="655308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09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09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8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81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81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60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5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53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532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65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6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44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3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37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916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409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88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81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81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60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g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utazione dell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3341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pio di differenziale semantico con aggettivi aderenti alla realtà dell’ogg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86800" y="5835600"/>
            <a:ext cx="42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ahoma"/>
              </a:rPr>
              <a:t>Fai clic qui per avere maggiori inform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00200"/>
            <a:ext cx="77594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scala è quella rappresent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11480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di 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OSs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1040" y="553068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e risposte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09680"/>
            <a:ext cx="807696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6701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livello di interesse al corso da parte tua è st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8560" y="22255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6200" y="2286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760" y="2286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0040" y="228600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1240" y="220968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286000"/>
            <a:ext cx="4419360" cy="1523880"/>
            <a:chOff x="2819520" y="2286000"/>
            <a:chExt cx="441936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2286000"/>
              <a:ext cx="0" cy="14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447920"/>
            <a:ext cx="769608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le ricerche riguardanti la misurazione e lo studio della psiche umana, del carattere, delle intenzioni e dell’intelligenza degli individui sono state costruite appositi strumenti di valutazione e  misura tra che possiamo classificare in due grandi categor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attegg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ono costituite in gran parte da test di varia natura in particol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misura degli atteggiamenti avviene utilizzando le cosidett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più diffuse sono quelle d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Osg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1600200"/>
            <a:ext cx="39625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isurazione e lo studio della psiche umana, del carattere, delle intenzioni e dell’intelligenza degli individui ha sempre affascinato i ricercatori nel campo dell’educazione della formazione e della psicolo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questo tipo di ricerche sono state costruite appositi strumenti di valutazione e  misura tra che possiamo classificare in due grandi categor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523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Stock_000000212340_1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95480"/>
            <a:ext cx="43434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no infatti costituite in gran parte da test di varia natura. Tra i principali tipi di test analizzere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58680"/>
            <a:ext cx="28191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3119" descr=""/>
          <p:cNvPicPr/>
          <p:nvPr/>
        </p:nvPicPr>
        <p:blipFill>
          <a:blip r:embed="rId1"/>
          <a:stretch/>
        </p:blipFill>
        <p:spPr>
          <a:xfrm>
            <a:off x="685800" y="1949400"/>
            <a:ext cx="2717640" cy="372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1371600"/>
            <a:ext cx="2666880" cy="1371600"/>
          </a:xfrm>
          <a:prstGeom prst="wedgeRectCallout">
            <a:avLst>
              <a:gd name="adj1" fmla="val -49462"/>
              <a:gd name="adj2" fmla="val 99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diamo ora quali sono le principali tipologie prove di personalità in relazione alle funzioni che essi intendono assolv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0" y="1482840"/>
            <a:ext cx="42670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st di intelligenz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surano abilità intellettive apprese senza un insegnamento specifico, come ad esempio, la capacità logica, l’intuizione, le correlazioni tra simboli numeri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entrano in questo tipo di test: prove di abilità di attenzione, prove di abilità percettive, prove di abilità di memoria, prove di abilità linguistica, prove di abilità di ragionament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mente questi test danno luogo a un unico punteggio, ossia esprimono un quoziente di intelligenza (QI), che indica il livello intellettuale totale di un soggetto relativamente alla prestazione ha quello stesso test di un gruppo confront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958680"/>
            <a:ext cx="2590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 intelli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9000" y="1600200"/>
            <a:ext cx="3219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267080"/>
            <a:ext cx="2286000" cy="838440"/>
          </a:xfrm>
          <a:prstGeom prst="wedgeRectCallout">
            <a:avLst>
              <a:gd name="adj1" fmla="val 32916"/>
              <a:gd name="adj2" fmla="val -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co G, F, M, A, quale sarà la prossima lette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 test attitudi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600200"/>
            <a:ext cx="4267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attitudine o attitudin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ono basati sulle concezioni fattoriali dell’intelligenza e forniscono punteggi relativi alle diverse attitudini misurate in un sogget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differenza dei test di intelligenza che misurano una funzione ‘astratta’, queste prove trattano abilità più concrete (attitudini musicali, artistiche, meccaniche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no utilizzati nella selezione del personale, per l’ammissione a corsi di addestramento, per l’orientamento professionale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si servono infatti a verificare le attitudini in relazione a mansioni e a ruoli cui saranno destinati i soggetti selezionati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73093" descr=""/>
          <p:cNvPicPr/>
          <p:nvPr/>
        </p:nvPicPr>
        <p:blipFill>
          <a:blip r:embed="rId1"/>
          <a:stretch/>
        </p:blipFill>
        <p:spPr>
          <a:xfrm>
            <a:off x="838080" y="1835280"/>
            <a:ext cx="2884680" cy="394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4648320"/>
            <a:ext cx="2743200" cy="1218960"/>
          </a:xfrm>
          <a:prstGeom prst="wedgeRectCallout">
            <a:avLst>
              <a:gd name="adj1" fmla="val -6597"/>
              <a:gd name="adj2" fmla="val -11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l test risulta una buona propensione nella gestione di progetti, ha mai avuto esperienze lavorative di questo tip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320" y="958680"/>
            <a:ext cx="23619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finiti anche test non cognitivi, servono a valutare tutti quegli aspetti o tratti della personalità del soggetto, distinti dalle abilità cognitive come la motivazione, i sentimenti, i rapporti interpers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alcune variabili che possono essere misurate con i test dlla personalit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276880"/>
            <a:ext cx="1151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048120"/>
            <a:ext cx="31240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tte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si riferisce alla misura in cui un soggetto si adegua a criteri largamente accettati di comportamento etico o mora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048120"/>
            <a:ext cx="312408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ratti soci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ossia il comportamento di un individuao nei confronti di altre persone (timidezza, malinconia, umorisomo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267080"/>
            <a:ext cx="289548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dattamento situazi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aspetti oggettivamente buoni o cattivi dell’ambiente familiare o scolastico di un ragaz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6000" y="4724280"/>
            <a:ext cx="193788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attia 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4864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mente i test di personalità sono distiinti i tre categorie principali: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inventari della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tecniche per la misurazione degli interes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1833480"/>
            <a:ext cx="4267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ivilegiato per la misurazione delle variabili concernenti al dimensione affettivo esperenziale è rappresentato dall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tendi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concetto di atteggiamento non è solo caratterizzato dalla direzione a favore o sfavore di un certo oggetto ma anche dal grado di accordo o disaccordo definito come valen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3063" descr=""/>
          <p:cNvPicPr/>
          <p:nvPr/>
        </p:nvPicPr>
        <p:blipFill>
          <a:blip r:embed="rId1"/>
          <a:srcRect l="0" t="0" r="0" b="35904"/>
          <a:stretch/>
        </p:blipFill>
        <p:spPr>
          <a:xfrm>
            <a:off x="457200" y="2597040"/>
            <a:ext cx="3552840" cy="311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600200"/>
            <a:ext cx="2133720" cy="1523880"/>
          </a:xfrm>
          <a:prstGeom prst="cloudCallout">
            <a:avLst>
              <a:gd name="adj1" fmla="val -44421"/>
              <a:gd name="adj2" fmla="val 51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lio allacciare la cintura… non si sa ma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2836800"/>
            <a:ext cx="6248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mostra una forte carica aggressiva in situazioni di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è favorevole all’introduzione dell’E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soffre di inson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ha un elevato quoziente intellet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95868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00200"/>
            <a:ext cx="77594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endo dalla definizione di atteggiamento, quale fra queste è la descrizione di un atteggiamento di un individu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48640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a risposta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2133720"/>
            <a:ext cx="41907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surare e quantificare gli atteggiamenti, con uno specifico strumento, non è però un compito facile. È infatti difficile rendere ‘oggettivi’ stati mentali soggettivi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cora più difficile se si tratta di misurare attegiamenti su temi scotta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nza contare che talvolta l’atteggiamento non coincide con il comportamento: ad esempio non ritengo la carta di credito uno strumento di pagamento sicuro ma per alcuni acquisti sono costretto ad usar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78145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cp:keywords/>
  <dc:language>en-US</dc:language>
  <cp:lastModifiedBy>Università degli studi di Roma "La Sapienza"</cp:lastModifiedBy>
  <cp:lastPrinted>2000-05-14T18:13:16Z</cp:lastPrinted>
  <dcterms:modified xsi:type="dcterms:W3CDTF">2009-06-30T14:55:11Z</dcterms:modified>
  <cp:revision>320</cp:revision>
  <dc:subject>Presentazione piero</dc:subject>
  <dc:title>Presentazione forum P.A. del 9/05/96</dc:title>
</cp:coreProperties>
</file>