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8145E1A-6332-40DB-92AB-20A73D680F9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65240" y="860400"/>
            <a:ext cx="4600440" cy="3449520"/>
          </a:xfrm>
          <a:prstGeom prst="rect">
            <a:avLst/>
          </a:prstGeom>
          <a:ln w="0">
            <a:noFill/>
          </a:ln>
        </p:spPr>
      </p:sp>
      <p:sp>
        <p:nvSpPr>
          <p:cNvPr id="23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risposta multipla. Risposta esatta  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65240" y="860400"/>
            <a:ext cx="4600440" cy="3449520"/>
          </a:xfrm>
          <a:prstGeom prst="rect">
            <a:avLst/>
          </a:prstGeom>
          <a:ln w="0">
            <a:noFill/>
          </a:ln>
        </p:spPr>
      </p:sp>
      <p:sp>
        <p:nvSpPr>
          <p:cNvPr id="23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65240" y="860400"/>
            <a:ext cx="4600440" cy="3449520"/>
          </a:xfrm>
          <a:prstGeom prst="rect">
            <a:avLst/>
          </a:prstGeom>
          <a:ln w="0">
            <a:noFill/>
          </a:ln>
        </p:spPr>
      </p:sp>
      <p:sp>
        <p:nvSpPr>
          <p:cNvPr id="22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65240" y="860400"/>
            <a:ext cx="4600440" cy="3449520"/>
          </a:xfrm>
          <a:prstGeom prst="rect">
            <a:avLst/>
          </a:prstGeom>
          <a:ln w="0">
            <a:noFill/>
          </a:ln>
        </p:spPr>
      </p:sp>
      <p:sp>
        <p:nvSpPr>
          <p:cNvPr id="22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 up su chiuse, ape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questionario può essere composto da domande a risposta chiusa o a risposta aperta o da entrambi i tipi di do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nendo domande a risposta chiusa si ha il vantaggio di poter analizzare con maggiore facilità e rapidità le risposte date, perché esse rientrano tra le alternative di risposta predefinite e consentono un facile confronto tra i 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alisi delle risposte aperte è molto più laboriosa ma consente di acquisire un maggior numero di informazioni. Tali domande offrono infatti al rispondente la possibilità di scrivere tutte le informazioni e le precisazioni che desid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65240" y="860400"/>
            <a:ext cx="4600440" cy="3449520"/>
          </a:xfrm>
          <a:prstGeom prst="rect">
            <a:avLst/>
          </a:prstGeom>
          <a:ln w="0">
            <a:noFill/>
          </a:ln>
        </p:spPr>
      </p:sp>
      <p:sp>
        <p:nvSpPr>
          <p:cNvPr id="22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 up su: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 esempio nella domanda: &lt;&lt;Quanto ti piace leggere e con quale frequenza?&gt;&gt; si stanno chiedendo non una ma due c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2)</a:t>
            </a:r>
            <a:r>
              <a:rPr b="0" lang="en-US" sz="1000" spc="-1" strike="noStrike">
                <a:solidFill>
                  <a:srgbClr val="000000"/>
                </a:solidFill>
                <a:latin typeface="Arial"/>
              </a:rPr>
              <a:t> Per evitare questo tipo di problemi è sempre bene garantire l’anonimato del rispond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3)</a:t>
            </a:r>
            <a:r>
              <a:rPr b="0" lang="en-US" sz="1000" spc="-1" strike="noStrike">
                <a:solidFill>
                  <a:srgbClr val="000000"/>
                </a:solidFill>
                <a:latin typeface="Arial"/>
              </a:rPr>
              <a:t>  Ad esempio la domanda &lt;&lt;Hai letto </a:t>
            </a:r>
            <a:r>
              <a:rPr b="0" i="1" lang="en-US" sz="1000" spc="-1" strike="noStrike">
                <a:solidFill>
                  <a:srgbClr val="000000"/>
                </a:solidFill>
                <a:latin typeface="Arial"/>
              </a:rPr>
              <a:t>almeno</a:t>
            </a:r>
            <a:r>
              <a:rPr b="0" lang="en-US" sz="1000" spc="-1" strike="noStrike">
                <a:solidFill>
                  <a:srgbClr val="000000"/>
                </a:solidFill>
                <a:latin typeface="Arial"/>
              </a:rPr>
              <a:t> un libro negli ultimi sei mesi?&gt;&gt; contiene nell’almeno una valutazione, dunque condizione a rispondere in senso afferma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4)</a:t>
            </a:r>
            <a:r>
              <a:rPr b="0" lang="en-US" sz="1000" spc="-1" strike="noStrike">
                <a:solidFill>
                  <a:srgbClr val="000000"/>
                </a:solidFill>
                <a:latin typeface="Arial"/>
              </a:rPr>
              <a:t> Ad esempio è inutile inserire in un questionario indirizzato ad allievi di scuola elementare domande relative al titolo di studio dei genitori. Numerose ricerche hanno evidenziato che il dato raccolto risulta essere poco affidab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5)</a:t>
            </a:r>
            <a:r>
              <a:rPr b="0" lang="en-US" sz="1000" spc="-1" strike="noStrike">
                <a:solidFill>
                  <a:srgbClr val="000000"/>
                </a:solidFill>
                <a:latin typeface="Arial"/>
              </a:rPr>
              <a:t> Ad esempio una domanda in cui si chiede &lt;&lt;Che lavoro fa attualmente? A) lavoro a tempo pieno B) non lavoro sarebbe incompleta perché manca sia l’alternativa &lt;&lt;Lavoro a tempo parziale&gt;&gt; sia &lt;&lt;altro&gt;&gt; (ad esempio pensionato, casalinga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6) </a:t>
            </a:r>
            <a:r>
              <a:rPr b="0" lang="en-US" sz="1000" spc="-1" strike="noStrike">
                <a:solidFill>
                  <a:srgbClr val="000000"/>
                </a:solidFill>
                <a:latin typeface="Arial"/>
              </a:rPr>
              <a:t>A volte per il gusto di raccogliere informazioni si pongono domande che non hanno nulla a che fare con l’oggetto della ricerca e la cui conoscenza è un dato irrileva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7)</a:t>
            </a:r>
            <a:r>
              <a:rPr b="0" lang="en-US" sz="1000" spc="-1" strike="noStrike">
                <a:solidFill>
                  <a:srgbClr val="000000"/>
                </a:solidFill>
                <a:latin typeface="Arial"/>
              </a:rPr>
              <a:t> Si pensi alla domanda: &lt;&lt;È o non è d’accordo con l’attuale politica economica?&gt;&gt; Se la risposte fossero semplicemente A) Si e B) No, come dovrebbe rispondere l’intervistato per dire che non è d’accordo? Si tratta di una domanda formulata male con risposte altrettanto ambig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8)</a:t>
            </a:r>
            <a:r>
              <a:rPr b="0" lang="en-US" sz="1000" spc="-1" strike="noStrike">
                <a:solidFill>
                  <a:srgbClr val="000000"/>
                </a:solidFill>
                <a:latin typeface="Arial"/>
              </a:rPr>
              <a:t> Ad esempio la domanda &lt;&lt;Hai difficoltà a consultare l’enciclopedia? A) Si B) No&gt;&gt; senza aver chiesto prima all’intervistato se possiede una enciclopedia, In questo caso la risposta ‘Si’ potrebbe anche significare &lt;&lt;ho difficoltà dato che non possiedo un’enciclopedia&gt;&g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65240" y="860400"/>
            <a:ext cx="4600440" cy="3449520"/>
          </a:xfrm>
          <a:prstGeom prst="rect">
            <a:avLst/>
          </a:prstGeom>
          <a:ln w="0">
            <a:noFill/>
          </a:ln>
        </p:spPr>
      </p:sp>
      <p:sp>
        <p:nvSpPr>
          <p:cNvPr id="22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ta programmat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sito scelta multipla. Risposta esatta  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atto, la prima domanda risulta infatti chiedere due cose al tempo stesso (se si reca al cinema e quali film predilige) la domanda numero due può influenzare il rispondente condizi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erra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enzione. La risposta non è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non forni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posta esatta è la numero quattro. La prima domanda risulta infatti chiedere due cose al tempo stesso (se si reca al cinema e quali film predilige) la domanda numero due può influenzare il rispondente e condizio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AE604-ECD9-4012-9358-92A62BAE7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F432E-51B7-489C-88B6-C81338679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AA052-DFEA-4D7D-92FE-6BDA9B0D6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767CE-B57C-414F-9A88-E9010B6DA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981DF-0B6B-40F0-A301-50619C2AA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A1420-9912-400C-A694-844703EB3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327D9-CE8E-4D42-95C1-566293AC0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6079C-9875-4B20-8ADB-38AF4B247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C66EA-05E6-4D34-A8CC-EB0DC9908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8F04A-2391-4831-9C64-1AB5FCB6A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9A8A4-BFAD-469A-8541-5E6B88D35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C2A96-5780-45FC-8E10-4E70800AA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4. I questionari</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AA74B3F1-CD85-4DE8-A53C-D1F122F8C68E}"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AD32-D98D-4753-A881-087799E8CD0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linee guida pel la costruzione di un questionario valido e affidabil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struttura del questionari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rdine delle domande  </a:t>
            </a:r>
            <a:r>
              <a:rPr b="0" lang="en-US" sz="1600" spc="-1" strike="noStrike" u="sng">
                <a:solidFill>
                  <a:srgbClr val="000000"/>
                </a:solidFill>
                <a:uFillTx/>
                <a:latin typeface="Verdana"/>
              </a:rPr>
              <a:t> </a:t>
            </a:r>
            <a:endParaRPr b="0" lang="en-US" sz="1600" spc="-1" strike="noStrike">
              <a:solidFill>
                <a:srgbClr val="000000"/>
              </a:solidFill>
              <a:latin typeface="Times New Roman"/>
            </a:endParaRPr>
          </a:p>
        </p:txBody>
      </p:sp>
      <p:sp>
        <p:nvSpPr>
          <p:cNvPr id="163" name=""/>
          <p:cNvSpPr/>
          <p:nvPr/>
        </p:nvSpPr>
        <p:spPr>
          <a:xfrm>
            <a:off x="533520" y="5257800"/>
            <a:ext cx="807696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 pulsante           per iniziare, o seleziona un titolo per andare direttamente all’argomento che ti interessa.</a:t>
            </a:r>
            <a:endParaRPr b="0" lang="en-US" sz="1400" spc="-1" strike="noStrike">
              <a:solidFill>
                <a:srgbClr val="000000"/>
              </a:solidFill>
              <a:latin typeface="Times New Roman"/>
            </a:endParaRPr>
          </a:p>
        </p:txBody>
      </p:sp>
      <p:sp>
        <p:nvSpPr>
          <p:cNvPr id="164" name="">
            <a:hlinkClick r:id="" action="ppaction://hlinkshowjump?jump=nextslide"/>
          </p:cNvPr>
          <p:cNvSpPr/>
          <p:nvPr/>
        </p:nvSpPr>
        <p:spPr>
          <a:xfrm>
            <a:off x="2311560" y="5321160"/>
            <a:ext cx="355320" cy="254160"/>
          </a:xfrm>
          <a:custGeom>
            <a:avLst/>
            <a:gdLst>
              <a:gd name="textAreaLeft" fmla="*/ 16200 w 355320"/>
              <a:gd name="textAreaRight" fmla="*/ 339120 w 355320"/>
              <a:gd name="textAreaTop" fmla="*/ 16200 h 254160"/>
              <a:gd name="textAreaBottom" fmla="*/ 237960 h 254160"/>
            </a:gdLst>
            <a:ahLst/>
            <a:rect l="textAreaLeft" t="textAreaTop" r="textAreaRight" b="textAreaBottom"/>
            <a:pathLst>
              <a:path w="30185" h="21600">
                <a:moveTo>
                  <a:pt x="0" y="0"/>
                </a:moveTo>
                <a:lnTo>
                  <a:pt x="30185" y="0"/>
                </a:lnTo>
                <a:lnTo>
                  <a:pt x="30185" y="21600"/>
                </a:lnTo>
                <a:lnTo>
                  <a:pt x="0" y="21600"/>
                </a:lnTo>
                <a:close/>
              </a:path>
              <a:path fill="lightenLess" w="30185" h="21600">
                <a:moveTo>
                  <a:pt x="0" y="0"/>
                </a:moveTo>
                <a:lnTo>
                  <a:pt x="30185" y="0"/>
                </a:lnTo>
                <a:lnTo>
                  <a:pt x="28785" y="1400"/>
                </a:lnTo>
                <a:lnTo>
                  <a:pt x="1400" y="1400"/>
                </a:lnTo>
                <a:close/>
              </a:path>
              <a:path fill="darken" w="30185" h="21600">
                <a:moveTo>
                  <a:pt x="30185" y="0"/>
                </a:moveTo>
                <a:lnTo>
                  <a:pt x="30185" y="21600"/>
                </a:lnTo>
                <a:lnTo>
                  <a:pt x="28785" y="20200"/>
                </a:lnTo>
                <a:lnTo>
                  <a:pt x="28785" y="1400"/>
                </a:lnTo>
                <a:close/>
              </a:path>
              <a:path fill="darkenLess" w="30185" h="21600">
                <a:moveTo>
                  <a:pt x="30185" y="21600"/>
                </a:moveTo>
                <a:lnTo>
                  <a:pt x="0" y="21600"/>
                </a:lnTo>
                <a:lnTo>
                  <a:pt x="1400" y="20200"/>
                </a:lnTo>
                <a:lnTo>
                  <a:pt x="28785" y="20200"/>
                </a:lnTo>
                <a:close/>
              </a:path>
              <a:path fill="lighten" w="30185" h="21600">
                <a:moveTo>
                  <a:pt x="0" y="21600"/>
                </a:moveTo>
                <a:lnTo>
                  <a:pt x="0" y="0"/>
                </a:lnTo>
                <a:lnTo>
                  <a:pt x="1400" y="1400"/>
                </a:lnTo>
                <a:lnTo>
                  <a:pt x="1400" y="20200"/>
                </a:lnTo>
                <a:close/>
              </a:path>
              <a:path fill="darken" w="30185" h="21600">
                <a:moveTo>
                  <a:pt x="8086" y="3794"/>
                </a:moveTo>
                <a:lnTo>
                  <a:pt x="22099" y="10800"/>
                </a:lnTo>
                <a:lnTo>
                  <a:pt x="8086"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324160"/>
            <a:ext cx="41907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5. Precodificare le risposte, laddove è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cune domande trattano argomenti per i quali la codifica è ovvia (ad esempio il sesso di una persona) altre presentano invece una gamma di risposte possibili (ad esempio l’età) che è difficile precodificare in antic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i casi è possibile prevedere delle categorie più ampie (ad esempio fasce d’età) entro le quali far rientrare le risposte.</a:t>
            </a:r>
            <a:endParaRPr b="0" lang="en-US" sz="1600" spc="-1" strike="noStrike">
              <a:solidFill>
                <a:srgbClr val="000000"/>
              </a:solidFill>
              <a:latin typeface="Times New Roman"/>
            </a:endParaRPr>
          </a:p>
        </p:txBody>
      </p:sp>
      <p:sp>
        <p:nvSpPr>
          <p:cNvPr id="20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4" name=""/>
          <p:cNvSpPr/>
          <p:nvPr/>
        </p:nvSpPr>
        <p:spPr>
          <a:xfrm>
            <a:off x="5486400" y="2768760"/>
            <a:ext cx="2452680" cy="206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quanti anni inseg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no di 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5 a 10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11 a 1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15 an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1492200"/>
            <a:ext cx="8382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perazione importante è quella di scegliere l’ordine in cui presentare le domande. Per una corretta stesura è necessario:</a:t>
            </a:r>
            <a:endParaRPr b="0" lang="en-US" sz="1600" spc="-1" strike="noStrike">
              <a:solidFill>
                <a:srgbClr val="000000"/>
              </a:solidFill>
              <a:latin typeface="Times New Roman"/>
            </a:endParaRPr>
          </a:p>
        </p:txBody>
      </p:sp>
      <p:sp>
        <p:nvSpPr>
          <p:cNvPr id="206"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07" name=""/>
          <p:cNvSpPr/>
          <p:nvPr/>
        </p:nvSpPr>
        <p:spPr>
          <a:xfrm>
            <a:off x="533520" y="2438280"/>
            <a:ext cx="792468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ocare nell’ultima parte del questionario le domande delicate e potenzialmente imbarazzanti. Se tali domande vengono poste all’inizio l’intervistato può reagire negativamente rifiutandosi di proseguire.  </a:t>
            </a:r>
            <a:endParaRPr b="0" lang="en-US" sz="1200" spc="-1" strike="noStrike">
              <a:solidFill>
                <a:srgbClr val="000000"/>
              </a:solidFill>
              <a:latin typeface="Times New Roman"/>
            </a:endParaRPr>
          </a:p>
        </p:txBody>
      </p:sp>
      <p:sp>
        <p:nvSpPr>
          <p:cNvPr id="208" name=""/>
          <p:cNvSpPr/>
          <p:nvPr/>
        </p:nvSpPr>
        <p:spPr>
          <a:xfrm>
            <a:off x="533520" y="3048120"/>
            <a:ext cx="7848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are le prime domande a cui è facile rispondere. Se è possibile le domande iniziali dovrebbero essere anche interessanti in modo da stimolare e motivare l’intervistato a rispondere.  </a:t>
            </a:r>
            <a:endParaRPr b="0" lang="en-US" sz="1200" spc="-1" strike="noStrike">
              <a:solidFill>
                <a:srgbClr val="000000"/>
              </a:solidFill>
              <a:latin typeface="Times New Roman"/>
            </a:endParaRPr>
          </a:p>
        </p:txBody>
      </p:sp>
      <p:sp>
        <p:nvSpPr>
          <p:cNvPr id="209" name=""/>
          <p:cNvSpPr/>
          <p:nvPr/>
        </p:nvSpPr>
        <p:spPr>
          <a:xfrm>
            <a:off x="533520" y="3657600"/>
            <a:ext cx="78483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e domande aperte alla fine del questionario perché richiedono più impegno, concentrazione e tempi maggiori di risposta.</a:t>
            </a:r>
            <a:endParaRPr b="0" lang="en-US" sz="1200" spc="-1" strike="noStrike">
              <a:solidFill>
                <a:srgbClr val="000000"/>
              </a:solidFill>
              <a:latin typeface="Times New Roman"/>
            </a:endParaRPr>
          </a:p>
        </p:txBody>
      </p:sp>
      <p:sp>
        <p:nvSpPr>
          <p:cNvPr id="210" name=""/>
          <p:cNvSpPr/>
          <p:nvPr/>
        </p:nvSpPr>
        <p:spPr>
          <a:xfrm>
            <a:off x="533520" y="4267080"/>
            <a:ext cx="784836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guire un ordine logico nella collocazione delle domande</a:t>
            </a:r>
            <a:endParaRPr b="0" lang="en-US" sz="1200" spc="-1" strike="noStrike">
              <a:solidFill>
                <a:srgbClr val="000000"/>
              </a:solidFill>
              <a:latin typeface="Times New Roman"/>
            </a:endParaRPr>
          </a:p>
        </p:txBody>
      </p:sp>
      <p:sp>
        <p:nvSpPr>
          <p:cNvPr id="211" name=""/>
          <p:cNvSpPr/>
          <p:nvPr/>
        </p:nvSpPr>
        <p:spPr>
          <a:xfrm>
            <a:off x="533520" y="4724280"/>
            <a:ext cx="7848360" cy="45900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arare le coppie di domande che fungono da controllo di attendibilità (coppie di domande formulate in modo tale da stabilire se alcune delle informazioni inserite sono veritiere).</a:t>
            </a:r>
            <a:endParaRPr b="0" lang="en-US" sz="1200" spc="-1" strike="noStrike">
              <a:solidFill>
                <a:srgbClr val="000000"/>
              </a:solidFill>
              <a:latin typeface="Times New Roman"/>
            </a:endParaRPr>
          </a:p>
        </p:txBody>
      </p:sp>
      <p:sp>
        <p:nvSpPr>
          <p:cNvPr id="212" name=""/>
          <p:cNvSpPr/>
          <p:nvPr/>
        </p:nvSpPr>
        <p:spPr>
          <a:xfrm>
            <a:off x="533520" y="5257800"/>
            <a:ext cx="7848360" cy="45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care di variare le modalità e il tipo di domande facendo però attenzione a spiegare ogni volta in che modo rispond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12120" y="2666880"/>
            <a:ext cx="53820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è il suo titolo di stud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 conseguito il diplom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hanno scolastico ha ripetu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ltimo libro che ha letto in quale genere rientr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dirmi il titolo dell’ultimo libro che ha letto?</a:t>
            </a:r>
            <a:endParaRPr b="0" lang="en-US" sz="1600" spc="-1" strike="noStrike">
              <a:solidFill>
                <a:srgbClr val="000000"/>
              </a:solidFill>
              <a:latin typeface="Times New Roman"/>
            </a:endParaRPr>
          </a:p>
        </p:txBody>
      </p:sp>
      <p:sp>
        <p:nvSpPr>
          <p:cNvPr id="214" name=""/>
          <p:cNvSpPr/>
          <p:nvPr/>
        </p:nvSpPr>
        <p:spPr>
          <a:xfrm>
            <a:off x="851040" y="1600200"/>
            <a:ext cx="7683480" cy="824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una serie di domande per un ipotetico questionario. Due di queste dovrebbero essere presentate con una certa  ‘distanza’ l’una dall’altra. Indica quali.</a:t>
            </a:r>
            <a:endParaRPr b="0" lang="en-US" sz="1600" spc="-1" strike="noStrike">
              <a:solidFill>
                <a:srgbClr val="000000"/>
              </a:solidFill>
              <a:latin typeface="Times New Roman"/>
            </a:endParaRPr>
          </a:p>
        </p:txBody>
      </p:sp>
      <p:sp>
        <p:nvSpPr>
          <p:cNvPr id="215"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987560"/>
            <a:ext cx="411480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regole dobbiamo aggiungere quella di  applicare, se possibile, la tecnica dell’imbuto, che consiste nel formulare prima domande generali e poi domande più specif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sta tecnica è strettamente connessa alla formulazione di domande filtro, ossia di domande che chiedono al rispondente di dare al un’informazione la cui risposta determina il percorso successivo che l’intervistato dovrà segu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rispondere alla domande seguente o saltare completamente una o più domande.</a:t>
            </a:r>
            <a:endParaRPr b="0" lang="en-US" sz="1600" spc="-1" strike="noStrike">
              <a:solidFill>
                <a:srgbClr val="000000"/>
              </a:solidFill>
              <a:latin typeface="Times New Roman"/>
            </a:endParaRPr>
          </a:p>
        </p:txBody>
      </p:sp>
      <p:sp>
        <p:nvSpPr>
          <p:cNvPr id="217"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18" name=""/>
          <p:cNvSpPr/>
          <p:nvPr/>
        </p:nvSpPr>
        <p:spPr>
          <a:xfrm>
            <a:off x="4952880" y="1706400"/>
            <a:ext cx="3733920" cy="405144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e volte ti danno i compiti per cas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ti una crocetta su una sola rispos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o 2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o 4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giorni alla settiman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i risposto &lt;&lt;mai&gt;&gt; passa alla domanda 22</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rispondi alle domande che seguono.</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tempo impieghi per fare i compit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do te li dann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o a un’or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1 a 2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2 a 3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3 a 4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ù di 4 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20"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38080" y="1676520"/>
            <a:ext cx="7391520" cy="41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struzione di un questionario è un processo complesso che segue precisi</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iteri metodolog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struire un questionario valido e attendibile è necessar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operazione importante è quella di scegliere l’ordine in cui presentare 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in particolare occorre valutare quando e come applicare la tec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ell’imbuto e l’utilizzo delle domande fil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0" y="2209680"/>
            <a:ext cx="4343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i hanno avuto l’esperienza di subire un questionario molti quella di costruirne qualc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questionari sono, infatti, strumenti ampiamente utilizzati nella ricerca educ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sono essere utilizzati su un vasto campione di soggetti in un tempo limitato (basti pensare alla possibilità di inviarli per via elettronica) con una elevata attendibilità dei dati raccolti.</a:t>
            </a:r>
            <a:endParaRPr b="0" lang="en-US" sz="1600" spc="-1" strike="noStrike">
              <a:solidFill>
                <a:srgbClr val="000000"/>
              </a:solidFill>
              <a:latin typeface="Times New Roman"/>
            </a:endParaRPr>
          </a:p>
        </p:txBody>
      </p:sp>
      <p:sp>
        <p:nvSpPr>
          <p:cNvPr id="167"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8" name="" descr=""/>
          <p:cNvPicPr/>
          <p:nvPr/>
        </p:nvPicPr>
        <p:blipFill>
          <a:blip r:embed="rId1"/>
          <a:srcRect l="0" t="0" r="0" b="12503"/>
          <a:stretch/>
        </p:blipFill>
        <p:spPr>
          <a:xfrm>
            <a:off x="838080" y="1828800"/>
            <a:ext cx="31114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161928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costruzione di un questionario è un processo complesso che segue precisi criteri metodologici. Occorre in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finire un modello generale di riferimento (chiedersi che cosa si vuole misurare e se l’informazione che si vuole raccogliere è utile o necessaria)</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aborare un insieme strutturato di domande (</a:t>
            </a:r>
            <a:r>
              <a:rPr b="0" lang="en-US" sz="1600" spc="-1" strike="noStrike" u="sng">
                <a:solidFill>
                  <a:srgbClr val="336699"/>
                </a:solidFill>
                <a:uFillTx/>
                <a:latin typeface="Tahoma"/>
              </a:rPr>
              <a:t>chiuse, aperte</a:t>
            </a:r>
            <a:r>
              <a:rPr b="0" lang="en-US" sz="1600" spc="-1" strike="noStrike">
                <a:solidFill>
                  <a:srgbClr val="000000"/>
                </a:solidFill>
                <a:latin typeface="Tahoma"/>
              </a:rPr>
              <a:t>) dirette a verificare le ipotesi di ricerca.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ificare che ciascuna domanda risponda a obiettivi precisi e fornisca una risposta che consenta un’interpretazione univoca di elementi utili alla decision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digere le istruzioni per la sua compilazione.</a:t>
            </a:r>
            <a:endParaRPr b="0" lang="en-US" sz="1600" spc="-1" strike="noStrike">
              <a:solidFill>
                <a:srgbClr val="000000"/>
              </a:solidFill>
              <a:latin typeface="Times New Roman"/>
            </a:endParaRPr>
          </a:p>
        </p:txBody>
      </p:sp>
      <p:sp>
        <p:nvSpPr>
          <p:cNvPr id="170"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71" name="" descr=""/>
          <p:cNvPicPr/>
          <p:nvPr/>
        </p:nvPicPr>
        <p:blipFill>
          <a:blip r:embed="rId1"/>
          <a:srcRect l="0" t="0" r="0" b="18557"/>
          <a:stretch/>
        </p:blipFill>
        <p:spPr>
          <a:xfrm>
            <a:off x="609480" y="1714680"/>
            <a:ext cx="35895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0" y="1981080"/>
            <a:ext cx="4267080" cy="353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Per costruire un questionario valido 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ttendibile è necessario</a:t>
            </a:r>
            <a:r>
              <a:rPr b="0" lang="it-IT" sz="1600" spc="-1" strike="noStrike">
                <a:solidFill>
                  <a:srgbClr val="000000"/>
                </a:solidFill>
                <a:latin typeface="Tahoma"/>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p:txBody>
      </p:sp>
      <p:sp>
        <p:nvSpPr>
          <p:cNvPr id="17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74" name="" descr=""/>
          <p:cNvPicPr/>
          <p:nvPr/>
        </p:nvPicPr>
        <p:blipFill>
          <a:blip r:embed="rId1"/>
          <a:srcRect l="0" t="0" r="0" b="18462"/>
          <a:stretch/>
        </p:blipFill>
        <p:spPr>
          <a:xfrm>
            <a:off x="609480" y="1676520"/>
            <a:ext cx="36115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23760" y="5562720"/>
            <a:ext cx="7294680" cy="243720"/>
          </a:xfrm>
          <a:prstGeom prst="rect">
            <a:avLst/>
          </a:prstGeom>
          <a:solidFill>
            <a:srgbClr val="ffff66"/>
          </a:solidFill>
          <a:ln w="0">
            <a:noFill/>
          </a:ln>
        </p:spPr>
        <p:style>
          <a:lnRef idx="0"/>
          <a:fillRef idx="0"/>
          <a:effectRef idx="0"/>
          <a:fontRef idx="minor"/>
        </p:style>
        <p:txBody>
          <a:bodyPr lIns="0" rIns="0" tIns="0" bIns="0" anchor="t">
            <a:spAutoFit/>
          </a:bodyPr>
          <a:p>
            <a:pPr marL="95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ai clic su ciascun rettangolo per esaminare un esempio specifico</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endParaRPr b="0" lang="en-US" sz="4400" spc="-1" strike="noStrike">
              <a:solidFill>
                <a:srgbClr val="003366"/>
              </a:solidFill>
              <a:latin typeface="Verdana"/>
            </a:endParaRPr>
          </a:p>
        </p:txBody>
      </p:sp>
      <p:sp>
        <p:nvSpPr>
          <p:cNvPr id="177" name=""/>
          <p:cNvSpPr/>
          <p:nvPr/>
        </p:nvSpPr>
        <p:spPr>
          <a:xfrm>
            <a:off x="698760" y="1492200"/>
            <a:ext cx="76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Prestare particolare attenzione al modo in cui si formulano le domande</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8" name=""/>
          <p:cNvSpPr/>
          <p:nvPr/>
        </p:nvSpPr>
        <p:spPr>
          <a:xfrm>
            <a:off x="914400" y="2209680"/>
            <a:ext cx="274320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Evitare con una sola domanda di chiedere due o più cose diverse alle quali non si deve necessariamente dare la stessa risposta</a:t>
            </a:r>
            <a:endParaRPr b="0" lang="en-US" sz="1200" spc="-1" strike="noStrike">
              <a:solidFill>
                <a:srgbClr val="000000"/>
              </a:solidFill>
              <a:latin typeface="Times New Roman"/>
            </a:endParaRPr>
          </a:p>
        </p:txBody>
      </p:sp>
      <p:sp>
        <p:nvSpPr>
          <p:cNvPr id="179" name=""/>
          <p:cNvSpPr/>
          <p:nvPr/>
        </p:nvSpPr>
        <p:spPr>
          <a:xfrm>
            <a:off x="5410080" y="403848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 Eliminare ogni genere di ambiguità e vaghezza terminologica</a:t>
            </a:r>
            <a:endParaRPr b="0" lang="en-US" sz="1200" spc="-1" strike="noStrike">
              <a:solidFill>
                <a:srgbClr val="000000"/>
              </a:solidFill>
              <a:latin typeface="Times New Roman"/>
            </a:endParaRPr>
          </a:p>
        </p:txBody>
      </p:sp>
      <p:sp>
        <p:nvSpPr>
          <p:cNvPr id="180" name=""/>
          <p:cNvSpPr/>
          <p:nvPr/>
        </p:nvSpPr>
        <p:spPr>
          <a:xfrm>
            <a:off x="914400" y="4038480"/>
            <a:ext cx="281952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Controllare la possibile influenza che la domanda esercita sul rispondente</a:t>
            </a:r>
            <a:endParaRPr b="0" lang="en-US" sz="1200" spc="-1" strike="noStrike">
              <a:solidFill>
                <a:srgbClr val="000000"/>
              </a:solidFill>
              <a:latin typeface="Times New Roman"/>
            </a:endParaRPr>
          </a:p>
        </p:txBody>
      </p:sp>
      <p:sp>
        <p:nvSpPr>
          <p:cNvPr id="181" name=""/>
          <p:cNvSpPr/>
          <p:nvPr/>
        </p:nvSpPr>
        <p:spPr>
          <a:xfrm>
            <a:off x="5410080" y="3170160"/>
            <a:ext cx="26672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Eliminare tutte le domande di cui non si ha chiaro in che modo debbano essere analizzate</a:t>
            </a:r>
            <a:endParaRPr b="0" lang="en-US" sz="1200" spc="-1" strike="noStrike">
              <a:solidFill>
                <a:srgbClr val="000000"/>
              </a:solidFill>
              <a:latin typeface="Times New Roman"/>
            </a:endParaRPr>
          </a:p>
        </p:txBody>
      </p:sp>
      <p:sp>
        <p:nvSpPr>
          <p:cNvPr id="182" name=""/>
          <p:cNvSpPr/>
          <p:nvPr/>
        </p:nvSpPr>
        <p:spPr>
          <a:xfrm>
            <a:off x="5410080" y="4648320"/>
            <a:ext cx="27432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 Evitare la formulazione di domande incomplete </a:t>
            </a:r>
            <a:endParaRPr b="0" lang="en-US" sz="1200" spc="-1" strike="noStrike">
              <a:solidFill>
                <a:srgbClr val="000000"/>
              </a:solidFill>
              <a:latin typeface="Times New Roman"/>
            </a:endParaRPr>
          </a:p>
        </p:txBody>
      </p:sp>
      <p:sp>
        <p:nvSpPr>
          <p:cNvPr id="183" name=""/>
          <p:cNvSpPr/>
          <p:nvPr/>
        </p:nvSpPr>
        <p:spPr>
          <a:xfrm>
            <a:off x="914400" y="464832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Verificare che il destinatario sia in grado di rispondere alla domanda</a:t>
            </a:r>
            <a:endParaRPr b="0" lang="en-US" sz="1200" spc="-1" strike="noStrike">
              <a:solidFill>
                <a:srgbClr val="000000"/>
              </a:solidFill>
              <a:latin typeface="Times New Roman"/>
            </a:endParaRPr>
          </a:p>
        </p:txBody>
      </p:sp>
      <p:sp>
        <p:nvSpPr>
          <p:cNvPr id="184" name=""/>
          <p:cNvSpPr/>
          <p:nvPr/>
        </p:nvSpPr>
        <p:spPr>
          <a:xfrm>
            <a:off x="914400" y="317016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Evitare che le domande poste possano ledere il diritto alla riservatezza di chi deve rispondere</a:t>
            </a:r>
            <a:endParaRPr b="0" lang="en-US" sz="1200" spc="-1" strike="noStrike">
              <a:solidFill>
                <a:srgbClr val="000000"/>
              </a:solidFill>
              <a:latin typeface="Times New Roman"/>
            </a:endParaRPr>
          </a:p>
        </p:txBody>
      </p:sp>
      <p:sp>
        <p:nvSpPr>
          <p:cNvPr id="185" name=""/>
          <p:cNvSpPr/>
          <p:nvPr/>
        </p:nvSpPr>
        <p:spPr>
          <a:xfrm>
            <a:off x="5410080" y="2209680"/>
            <a:ext cx="266724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ssicurarsi che nel caso di domande chiuse, le alternative proposte esauriscano il numero delle possibili risposte</a:t>
            </a:r>
            <a:endParaRPr b="0" lang="en-US" sz="1200" spc="-1" strike="noStrike">
              <a:solidFill>
                <a:srgbClr val="000000"/>
              </a:solidFill>
              <a:latin typeface="Times New Roman"/>
            </a:endParaRPr>
          </a:p>
        </p:txBody>
      </p:sp>
      <p:sp>
        <p:nvSpPr>
          <p:cNvPr id="186"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87" name="" descr=""/>
          <p:cNvPicPr/>
          <p:nvPr/>
        </p:nvPicPr>
        <p:blipFill>
          <a:blip r:embed="rId1"/>
          <a:srcRect l="0" t="0" r="0" b="12503"/>
          <a:stretch/>
        </p:blipFill>
        <p:spPr>
          <a:xfrm>
            <a:off x="3936960" y="2971800"/>
            <a:ext cx="1270080" cy="1523880"/>
          </a:xfrm>
          <a:prstGeom prst="rect">
            <a:avLst/>
          </a:prstGeom>
          <a:ln w="28440">
            <a:solidFill>
              <a:srgbClr val="99cc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9"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0" name=""/>
          <p:cNvSpPr/>
          <p:nvPr/>
        </p:nvSpPr>
        <p:spPr>
          <a:xfrm>
            <a:off x="1591200" y="3197160"/>
            <a:ext cx="706788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te volte si reca al cinema in un mese e quali film predilig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tiene di avere una competenza </a:t>
            </a:r>
            <a:r>
              <a:rPr b="0" i="1" lang="en-US" sz="1600" spc="-1" strike="noStrike">
                <a:solidFill>
                  <a:srgbClr val="000000"/>
                </a:solidFill>
                <a:latin typeface="Tahoma"/>
              </a:rPr>
              <a:t>anche minima</a:t>
            </a:r>
            <a:r>
              <a:rPr b="0" lang="en-US" sz="1600" spc="-1" strike="noStrike">
                <a:solidFill>
                  <a:srgbClr val="000000"/>
                </a:solidFill>
                <a:latin typeface="Tahoma"/>
              </a:rPr>
              <a:t> nella lingua ingles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i stato mai boccia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difficoltà a navigare su Internet?</a:t>
            </a:r>
            <a:endParaRPr b="0" lang="en-US" sz="1600" spc="-1" strike="noStrike">
              <a:solidFill>
                <a:srgbClr val="000000"/>
              </a:solidFill>
              <a:latin typeface="Times New Roman"/>
            </a:endParaRPr>
          </a:p>
        </p:txBody>
      </p:sp>
      <p:sp>
        <p:nvSpPr>
          <p:cNvPr id="191"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tanto una fra le domande qui riportate rispetta i criteri di buona formulazione. Indica quale.</a:t>
            </a:r>
            <a:endParaRPr b="0" lang="en-US" sz="1600" spc="-1" strike="noStrike">
              <a:solidFill>
                <a:srgbClr val="000000"/>
              </a:solidFill>
              <a:latin typeface="Times New Roman"/>
            </a:endParaRPr>
          </a:p>
        </p:txBody>
      </p:sp>
      <p:sp>
        <p:nvSpPr>
          <p:cNvPr id="192"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0" y="2133720"/>
            <a:ext cx="4191120" cy="37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Fare in modo che sia il più breve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generale si può dire che quanto più sono lunghe e impegnative le domande tanto minori sono le probabilità di ottenere risposte affidabi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troppo lunghe si corre infatti il rischio di confondere il rispond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questionario non deve essere tanto lungo da stancare o annoiare l’intervist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9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863640" y="1676520"/>
            <a:ext cx="294624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0" y="1523880"/>
            <a:ext cx="419112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Curare la presentazione grafica e l’impagin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È errato fare in modo che le domande di un questionario entrino in ogni caso in una sola pagina, magari diminuendo al amassimo i margini del foglio e utilizzando caratteri più picco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una maggiore leggibilità e bene porre le risposte una al di sotto dell’altra e non una accanto all’alt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aperte, è bene lasciare uno spazio adeguato per scrivere le rispo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ine è necessario numerare progressivamente le domande per evitare errori di immissione dati.</a:t>
            </a:r>
            <a:endParaRPr b="0" lang="en-US" sz="1600" spc="-1" strike="noStrike">
              <a:solidFill>
                <a:srgbClr val="000000"/>
              </a:solidFill>
              <a:latin typeface="Times New Roman"/>
            </a:endParaRPr>
          </a:p>
        </p:txBody>
      </p:sp>
      <p:sp>
        <p:nvSpPr>
          <p:cNvPr id="19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8" name="" descr=""/>
          <p:cNvPicPr/>
          <p:nvPr/>
        </p:nvPicPr>
        <p:blipFill>
          <a:blip r:embed="rId1"/>
          <a:srcRect l="12640" t="21030" r="17829" b="4683"/>
          <a:stretch/>
        </p:blipFill>
        <p:spPr>
          <a:xfrm>
            <a:off x="228600" y="2171880"/>
            <a:ext cx="4191120" cy="312408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2343240"/>
            <a:ext cx="4191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4. Fornire istruzioni precise e dett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questionario deve prevedere sempre una presentazione dello strumento in cui speigare e chiarire sinteticamente gli scopi dell’indagine, rendere chiaro che non esistono risposte giuste o sb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istruzioni devono essere chiare e complete e formulate in modo che siano comprese da tutti.</a:t>
            </a:r>
            <a:endParaRPr b="0" lang="en-US" sz="1600" spc="-1" strike="noStrike">
              <a:solidFill>
                <a:srgbClr val="000000"/>
              </a:solidFill>
              <a:latin typeface="Times New Roman"/>
            </a:endParaRPr>
          </a:p>
        </p:txBody>
      </p:sp>
      <p:sp>
        <p:nvSpPr>
          <p:cNvPr id="20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1" name=""/>
          <p:cNvSpPr/>
          <p:nvPr/>
        </p:nvSpPr>
        <p:spPr>
          <a:xfrm>
            <a:off x="4859280" y="2060640"/>
            <a:ext cx="3746520" cy="3117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mpio di istruzioni di un questiona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alve, sono il dott. Xxx. Collaboro con alla realizzazione di una ricerca sui laureati in filosofia condotta presso le cattedre di Pedagogia dell’Università di Roma ‘La Sapienz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obiettivo di questa ricerca è analizzare gli esiti lavorativi dei laureati in filosofia presso la nostra università. A questo scopo è per noi estremanete utile avere da Lei alcune informazioni su tali argomenti.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he Lei ci fornirà rimarrano riservate e, qualora Lei fosse interessata, al termine della ricerca saremmo a sua disposizione epr comunicarle i risultati ottenuti. Il nostro recapito è: xxxx. Può chiedere di me o di xx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0T15:24:53Z</dcterms:modified>
  <cp:revision>221</cp:revision>
  <dc:subject>Presentazione piero</dc:subject>
  <dc:title>Presentazione forum P.A. del 9/05/96</dc:title>
</cp:coreProperties>
</file>