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F6FBF0-2321-4992-9112-AEC3C587134A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analisi del contenu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analisi del contenuto può avvalersi di tecniche compèuterizzate che consentono una maggiore qualità e rilevanza delle interpretazioni proposte (validità)  aggiunto ad una maggiore trasparenza e riproducibilità delle procedure seguite (affidabilità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e tecniche infatti consentono di estendere l’analisi al teso nel suo complesso offrendo la garanzia della ripetibilità e dell’intersoggettività dell’anali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oltre, l’analisi statistico testuale, rispetto all’analisi di contenuto tradizionale, consente di esamninare corpus testuali di notevoli dimensioni, grazie a programmi informatici che permettono l’indicizzazione (o numerizzazione)rapida dei corpora testuali, l’attuazione di tutti i confronti possibili e l’individuazione delle “dimensioni fondamentali di senso presenti in un testo oggetto di studio” (Balas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ito scelta multipla. Risposta esatt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corret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tto,  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. La rispos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non forni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DDDA-985F-4CEC-A00D-B58FEEE6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27A-545B-49B8-B067-8EC5FA10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F33-CA7E-40B7-B0A8-55493B84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64A-ECC6-403D-A52C-7889C9DF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896-7D23-4D2E-BF5C-393163FE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1B55-4A23-463F-9C3D-34D040A0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594F-87FD-488C-934D-A1C1E03D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0E4-F461-4E5D-855E-ECDA8F4F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B08-D11F-4E85-9BC7-FABC5D2F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AD4C-4C95-4D7E-A7E9-9F504E89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DBC-71CC-402A-9D4B-F4E0A0AA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36AC-7757-429F-9860-3849D481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2. Le fonti bibliografiche e i docu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5440" y="349200"/>
            <a:ext cx="18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E10FC0AD-72F9-4CD7-BF1B-0A8E66EA356B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2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8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9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38CF-C8D9-4F96-83F5-C0BDC7A55C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768760"/>
            <a:ext cx="4190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fonti bibliografiche i 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e guida per la raccolta delle fonti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1600200"/>
            <a:ext cx="434340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 di analisi che consentano una classificazione il più possibile oggettiva dei dati raccolti e e che siano lontane  da interpretazioni arbitrarie e sogge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nt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che consiste nella rilevazione della presenza o assenza di categorie generali individuate a prior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l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el contesto ossia del tipo di informazioni in esso contenute detta anch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analisi del contenu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78096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962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952880" y="1905120"/>
            <a:ext cx="373392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 notevole rilevanza è l’analisi statistico testuale che rappresenta una strategia ponte tra metodiche qualitative e quantit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’analisi statistico testuale computerizz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senti di individu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chi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vra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tto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segmenti ripetu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contesto d’u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269568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78125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523880"/>
            <a:ext cx="7925040" cy="449604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6765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qualsiasi ambito di ricerca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, 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nt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levazione della presenza o assenza di categorie generali individuate a prior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l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alisi tipo di informazioni contenute ne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0" y="175248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e in qualsiasi ambito di ricerca, anche nel caso delle ricerche educative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ell’ambito di una ricerca si deve quindi saper raccogliere, selezionare e classificare le informazioni bibliografiche relative al settore di indagine preso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iamoli nel dettagli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14400" y="1676520"/>
            <a:ext cx="3038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160956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n il  termin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i 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care diversi tipi di fonti di informazion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i opere di consultazione la cui funzione 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lla di fornire indicazioni di caratt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e. Possiamo distingu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pere generali (manuali, trattati,  enciclopedie, dizionari, glossari ecc,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gislazione e documenti normativ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pertori di notizie dati e statist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grafie e banche dati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teche e cataloghi special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assegne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iodic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ditoria professiona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nti di informazione in re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Servizi di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807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ermine ‘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’ sta ad indicare una modalità non convenzionale di  diffusione dell’informazione specialistica, costituita da ricerche e dati non pubblicati o divulgati in maniera ufficiale che presenta il vantaggio di garantire una rapida circolazione (non è infatti legata a tempi, luoghi di edizione, risorse finanziarie disponibili ecc.) ma, proprio per questo, estremamente difficile da reperi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73193" descr=""/>
          <p:cNvPicPr/>
          <p:nvPr/>
        </p:nvPicPr>
        <p:blipFill>
          <a:blip r:embed="rId1"/>
          <a:stretch/>
        </p:blipFill>
        <p:spPr>
          <a:xfrm>
            <a:off x="914400" y="1873080"/>
            <a:ext cx="291636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consider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cumen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gni genere di materiale scritto che possa  essere utilizzato quale fonte di informazione e fornire dati relativi al fenomeno che si vuole esaminar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e tali, i documenti rientrano tra gli strumenti utilizzabili nella ricerca in ambito educativo e risultano particolarmente necessari soprattutto nella fase iniziale di una ricer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iStock_000000093740_1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781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48320" y="1219320"/>
            <a:ext cx="4267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l punto di vista della relazione con l’evento cui si riferiscono i documenti possono essere distinti 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im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esoconti di testimoni oculari che hanno vissuto un particolare ev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iferiti da persone che non erano presenti sulla scena ma che hanno ottenuto l’informazione necessarie per compilare il documento intervistando testimoni oculari o leggendo documenti primar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empio: un autobiografia è un documento primario, mentre una bibliografia è un documento second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51814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a classificazione ulteriore riguarda la natura dei “dati” che i documenti possono contenere. I documenti possono infatti essere sia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s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scritti in prima persona) che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 istituzi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di carattere pubblico e fortemente strutturat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78175" descr=""/>
          <p:cNvPicPr/>
          <p:nvPr/>
        </p:nvPicPr>
        <p:blipFill>
          <a:blip r:embed="rId1"/>
          <a:srcRect l="0" t="0" r="0" b="9327"/>
          <a:stretch/>
        </p:blipFill>
        <p:spPr>
          <a:xfrm>
            <a:off x="861840" y="1371600"/>
            <a:ext cx="2948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48320" y="1987560"/>
            <a:ext cx="42465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 linee guid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per condurre una analisi bibliografica e documenta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plorare le possibilità che offrono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quind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viduare e consultare la cosiddett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are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assare a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ratt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ei da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ssia all’analisi delle informazioni, numeriche o testuali contenute nelle fo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990720"/>
            <a:ext cx="4267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inee guida per l’analisi docu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73161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714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548640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cord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non si può parlare di ricerca se i dati contenuti in un documento vengono riportati così come s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990720"/>
            <a:ext cx="1143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36360" y="3565440"/>
            <a:ext cx="33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Passare al trattamento dei 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52120" y="3124080"/>
            <a:ext cx="528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Consultare bibliografie e banche dati bibliograf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89200" y="4006800"/>
            <a:ext cx="461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Individuare e consultare la 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1600200"/>
            <a:ext cx="7441920" cy="824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ricercatore Mario Rossi sta eseguendo una ricerca nel campo della formazione. Ha già raccolto numerose informazioni mediante i servizi di reference e i documenti disponibili. Cosa gli consigli di fare o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1040" y="510552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i clic sulla risposta di tua sc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90720" y="2800440"/>
            <a:ext cx="12952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952880" y="2438280"/>
            <a:ext cx="396252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analizzare i dati raccolti è necessario porsi alcune domande necessarie per controllare l’attendibilità degli stes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atti, i dati non sono mai neutrali ma sono un insieme composto da un oggetto osservato e un soggetto che osserva. Tutte le informazioni presenti in un documento sono quindi  l’interpretazione dell’oggetto fatta da chi  ha prodotto l’inform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91440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Alcune domand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05120"/>
            <a:ext cx="403848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e sono stati raccolti i dati?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 sono utilizzati strumenti effettivamente adatti allo scopo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misurazi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819520"/>
            <a:ext cx="403848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che modo sono stati registrati e inseri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registrazione o di elaborazion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413160"/>
            <a:ext cx="4038480" cy="82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quale periodo sono stati rileva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venti episodici o periodici  di cui non si è a conoscenza che possono aver inficiato i dati raccolt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4191120"/>
            <a:ext cx="4038480" cy="641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 dati sono stati oggetto di ulteriori analis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È stata rispettata la riservatezz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no state occultate alcune informazion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105520"/>
            <a:ext cx="403848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ino a che punto i dati sono rappresentativi della popolazione presa in es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 dati sono realmente attinenti alla variabili oggetto dello stud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dc:language>en-US</dc:language>
  <cp:lastModifiedBy>Riccardo</cp:lastModifiedBy>
  <cp:lastPrinted>2000-05-14T18:13:16Z</cp:lastPrinted>
  <dcterms:modified xsi:type="dcterms:W3CDTF">2004-04-26T06:46:35Z</dcterms:modified>
  <cp:revision>193</cp:revision>
  <dc:subject>Presentazione piero</dc:subject>
  <dc:title>Presentazione forum P.A. del 9/05/96</dc:title>
</cp:coreProperties>
</file>