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CDD6-6DAD-4362-957D-8883640FF8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813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. Tipo di quesito: abb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dall’alto: aperto, chiuso, chiuso, chiuso, ap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Esatto. Con gli anedoctal records e gli strumenti “carta e penna” 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dificazione dei dati avviene senza aver predefinito categorie di analisi; gli altri strumenti utilizzano invece categorie predefi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rrata: Attenzione, non hai assegnato tutti i valori corret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non fornita: Anedoctal records e strumenti “carta e penna” sono aperti in quanto 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dificazione dei dati avviene senza aver predefinito categorie di analisi; gli altri sono strumenti chiusi perché non utilizzano categorie predefi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81024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grafico: immagine 73030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: Quesito vero/f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: l’osservazione viene effettuata, per definizione, in contesti real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atto. Infatti si tratta di un esperimento condotto in un contesto artifici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0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19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: Quesito a scelta multip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posta esatta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zione: in questo caso l’obiettivo dell’osservazione va oltre la semplice descri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rio così! L’osservazione è finalizzata a una decisione di tipo forma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si tratta di verifica in quanto non si sta utilizzando l’osservazione per misurare la validità di un’ipotesi, ma piuttosto per agire in futu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20280" y="4343400"/>
            <a:ext cx="576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Testo degli approfondiment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trutturata (o sistematica)/Non struttur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struttura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ha uno scopo preciso definito a priori, opera su soggetti ben delimitati e dispone di un sistema pianificato di raccolta e classificazione delle informazioni. 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non strutturat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è utilizzata in genere a fini esplorativi, allo scopo di raccogliere informazioni “sul campo” in vista di una precisazione delle ipotesi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artecipante/Non partecipa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partecipan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è il metodo tipicamente usato in etnografia e consiste nella raccolta di informazioni da parte di un ricercatore che osserva e registra quanto avviene in un gruppo con il quale interagisce e nel quale si inserisce allo scopo di studiarne la realtà. Nel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non partecipant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osservatore è esterno alla realtà studiata, anche se utilizza gli stessi strumenti dell’osservatore partecipant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pontanea (o occasionale)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Questo tipo di osservazione è scientificamente meno valida e affidabile. Ogni persona può raccogliere informazioni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iretta/ Indiret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diret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è centrata sui processi e prevede che l’osservazione e la registrazione degli eventi avvengano contemporaneamente. 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indirett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è centrata sui prodotti e lo scopo è osservare determinati comportamenti e situazioni in differita rispetto alla situazione in esam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28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03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264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41904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45820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76201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firstslide"/>
          </p:cNvPr>
          <p:cNvSpPr/>
          <p:nvPr/>
        </p:nvSpPr>
        <p:spPr>
          <a:xfrm>
            <a:off x="3049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>
            <a:off x="64771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20640" y="14400"/>
            <a:ext cx="790884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Gli strumenti di rile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1. L’osservazione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                                    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Pagina </a:t>
            </a:r>
            <a:fld id="{13FB95E3-38B8-41A3-870C-FE5E41CEA0A8}" type="slidenum">
              <a:rPr b="1" lang="it-I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 di 17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86520" y="207504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0574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048120"/>
            <a:ext cx="52578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alità di classificazione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000" y="2362320"/>
            <a:ext cx="544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36640" y="146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1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codificazione dei dati avviene senza aver predefinito categorie di anali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261936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codificazione dei dati avviene utilizzando categorie prestabil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886200"/>
            <a:ext cx="3597480" cy="179748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sservazioni dal vivo “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rta e penn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gistrazioni audio e 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otografie e le diapos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hede di registrazione di brevi episodi (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nedoctal record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61080" y="3962520"/>
            <a:ext cx="3444840" cy="155412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riglie di osservazione (liste di controllo 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heck-list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 sistemi 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griglie di categori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e di valut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(rating sc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867280"/>
            <a:ext cx="815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diamo insieme alcuni di questi strument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209680"/>
            <a:ext cx="35812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APE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209680"/>
            <a:ext cx="350532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CHI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600200"/>
            <a:ext cx="830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 strumenti utilizzati per l’osservazione possono esser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ert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hius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3276720"/>
            <a:ext cx="76176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3352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3200"/>
            <a:ext cx="8305920" cy="3200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8912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iste di controll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 lis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) sono elenchi di comportamenti attesi, o di caratteristiche, la cui presenza o frequenza viene rilevata in un soggetto durante una definita unità di tempo. 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895480"/>
            <a:ext cx="754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lasse ……………….   Sigla osservatore…………….. Data ………….    Ora ………………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Nome e cognome  dell’alunno coordinatore del gruppo …………………..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rgomento della discussione ……………….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71680" y="3733920"/>
            <a:ext cx="8000640" cy="2057400"/>
            <a:chOff x="571680" y="3733920"/>
            <a:chExt cx="8000640" cy="2057400"/>
          </a:xfrm>
        </p:grpSpPr>
        <p:grpSp>
          <p:nvGrpSpPr>
            <p:cNvPr id="121" name=""/>
            <p:cNvGrpSpPr/>
            <p:nvPr/>
          </p:nvGrpSpPr>
          <p:grpSpPr>
            <a:xfrm>
              <a:off x="578880" y="3736080"/>
              <a:ext cx="7985520" cy="2052360"/>
              <a:chOff x="578880" y="3736080"/>
              <a:chExt cx="7985520" cy="205236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578880" y="3736080"/>
                <a:ext cx="4396320" cy="342000"/>
                <a:chOff x="578880" y="3736080"/>
                <a:chExt cx="4396320" cy="3420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6920" y="3736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78880" y="3736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4975560" y="3736080"/>
                <a:ext cx="3588840" cy="342000"/>
                <a:chOff x="4975560" y="3736080"/>
                <a:chExt cx="3588840" cy="342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043600" y="3736080"/>
                  <a:ext cx="34524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embri del grupp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975560" y="3736080"/>
                  <a:ext cx="358884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578880" y="4078080"/>
                <a:ext cx="4396320" cy="342000"/>
                <a:chOff x="578880" y="4078080"/>
                <a:chExt cx="4396320" cy="3420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46920" y="4078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78880" y="4078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975560" y="4078080"/>
                <a:ext cx="896760" cy="342000"/>
                <a:chOff x="4975560" y="4078080"/>
                <a:chExt cx="896760" cy="3420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043600" y="4078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Pier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97556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5872680" y="4078080"/>
                <a:ext cx="896760" cy="342000"/>
                <a:chOff x="5872680" y="4078080"/>
                <a:chExt cx="896760" cy="3420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5941080" y="407808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ori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87268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6769800" y="4078080"/>
                <a:ext cx="897120" cy="342000"/>
                <a:chOff x="6769800" y="4078080"/>
                <a:chExt cx="897120" cy="3420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838200" y="407808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ar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769800" y="407808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7667640" y="4078080"/>
                <a:ext cx="896760" cy="342000"/>
                <a:chOff x="7667640" y="4078080"/>
                <a:chExt cx="896760" cy="3420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7735680" y="4078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66764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78880" y="4420080"/>
                <a:ext cx="4396320" cy="342000"/>
                <a:chOff x="578880" y="4420080"/>
                <a:chExt cx="4396320" cy="3420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46920" y="4420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. Invita ad esprimers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8880" y="4420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975560" y="4420080"/>
                <a:ext cx="896760" cy="342000"/>
                <a:chOff x="4975560" y="4420080"/>
                <a:chExt cx="896760" cy="3420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043600" y="4420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97556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872680" y="4420080"/>
                <a:ext cx="896760" cy="342000"/>
                <a:chOff x="5872680" y="4420080"/>
                <a:chExt cx="896760" cy="3420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5941080" y="442008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87268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769800" y="4420080"/>
                <a:ext cx="897120" cy="342000"/>
                <a:chOff x="6769800" y="4420080"/>
                <a:chExt cx="897120" cy="3420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838200" y="442008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769800" y="442008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667640" y="4420080"/>
                <a:ext cx="896760" cy="342000"/>
                <a:chOff x="7667640" y="4420080"/>
                <a:chExt cx="896760" cy="3420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7735680" y="4420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66764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578880" y="4762440"/>
                <a:ext cx="4396320" cy="342000"/>
                <a:chOff x="578880" y="4762440"/>
                <a:chExt cx="4396320" cy="3420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46920" y="4762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. Discute, polemizza, si mostra in disaccord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78880" y="4762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4975560" y="4762440"/>
                <a:ext cx="896760" cy="342000"/>
                <a:chOff x="4975560" y="4762440"/>
                <a:chExt cx="896760" cy="3420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5043600" y="4762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97556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872680" y="4762440"/>
                <a:ext cx="896760" cy="342000"/>
                <a:chOff x="5872680" y="4762440"/>
                <a:chExt cx="896760" cy="3420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41080" y="4762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87268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769800" y="4762440"/>
                <a:ext cx="897120" cy="342000"/>
                <a:chOff x="6769800" y="4762440"/>
                <a:chExt cx="897120" cy="342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838200" y="4762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769800" y="4762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7667640" y="4762440"/>
                <a:ext cx="896760" cy="342000"/>
                <a:chOff x="7667640" y="4762440"/>
                <a:chExt cx="896760" cy="3420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735680" y="4762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66764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78880" y="5104440"/>
                <a:ext cx="4396320" cy="342000"/>
                <a:chOff x="578880" y="5104440"/>
                <a:chExt cx="4396320" cy="3420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646920" y="5104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3. Privilegia le idee di alcun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78880" y="5104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975560" y="5104440"/>
                <a:ext cx="896760" cy="342000"/>
                <a:chOff x="4975560" y="5104440"/>
                <a:chExt cx="896760" cy="3420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043600" y="5104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97556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5872680" y="5104440"/>
                <a:ext cx="896760" cy="342000"/>
                <a:chOff x="5872680" y="5104440"/>
                <a:chExt cx="896760" cy="3420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941080" y="5104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87268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6769800" y="5104440"/>
                <a:ext cx="897120" cy="342000"/>
                <a:chOff x="6769800" y="5104440"/>
                <a:chExt cx="897120" cy="3420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6838200" y="5104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769800" y="5104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7667640" y="5104440"/>
                <a:ext cx="896760" cy="342000"/>
                <a:chOff x="7667640" y="5104440"/>
                <a:chExt cx="896760" cy="3420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735680" y="5104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66764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78880" y="5446440"/>
                <a:ext cx="4396320" cy="342000"/>
                <a:chOff x="578880" y="5446440"/>
                <a:chExt cx="4396320" cy="3420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46920" y="5446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. Sostiene, aiuta, incorag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78880" y="5446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4975560" y="5446440"/>
                <a:ext cx="896760" cy="342000"/>
                <a:chOff x="4975560" y="5446440"/>
                <a:chExt cx="896760" cy="3420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043600" y="5446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97556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872680" y="5446440"/>
                <a:ext cx="896760" cy="342000"/>
                <a:chOff x="5872680" y="5446440"/>
                <a:chExt cx="896760" cy="3420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941080" y="5446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87268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769800" y="5446440"/>
                <a:ext cx="897120" cy="342000"/>
                <a:chOff x="6769800" y="5446440"/>
                <a:chExt cx="897120" cy="342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838200" y="5446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769800" y="5446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7667640" y="5446440"/>
                <a:ext cx="896760" cy="342000"/>
                <a:chOff x="7667640" y="5446440"/>
                <a:chExt cx="896760" cy="3420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735680" y="5446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66764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571680" y="3733920"/>
              <a:ext cx="8000640" cy="2057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1600200"/>
            <a:ext cx="83822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iglie di osservaz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sono guide che forniscono indicazioni sui comportamenti da osservare corredate da uno spazio per annotare tali comportamen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osservatore sa già così “cosa cercare” nel comportamento altrui ed è aiutato nella rilevazione di tali comportamen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Questo è un esempio di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iglia di categori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828800" y="3809880"/>
          <a:ext cx="5562720" cy="167508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ha amici in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accetta i consigli dei compag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aiuta i compagni in difficolt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parla volentieri di sé in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studia a casa con i compagni di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1519200"/>
            <a:ext cx="84582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cale di valutaz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ating sc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 consentono di rilevare l'intensità o la frequenza di un comportamento, oppure di esprimere un giudizio su intenzioni/opinioni o atteggiamenti dei soggetti osserv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’osservatore effettua la valutazione indicando il su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ado di accord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con un’ipotesi o il su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iudizi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di presenza di un dato carattere, in corrispondenza di una serie di proposizion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563868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’attribuzione del giudizio viene fatta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ttraverso l’indicazione di un numero, un aggettivo o scegliendo tra diverse descrizioni analitiche for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80880" y="3352680"/>
          <a:ext cx="8305920" cy="2057400"/>
        </p:xfrm>
        <a:graphic>
          <a:graphicData uri="http://schemas.openxmlformats.org/drawingml/2006/table">
            <a:tbl>
              <a:tblPr/>
              <a:tblGrid>
                <a:gridCol w="3276720"/>
                <a:gridCol w="914400"/>
                <a:gridCol w="685800"/>
                <a:gridCol w="1219320"/>
                <a:gridCol w="990360"/>
                <a:gridCol w="12193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 n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basta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tiss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 Sorveglia l’andamento del lavo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 Regola il lavoro di grup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 Cura l’uso de tem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. Si limita a seguire gli altri, è pas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0880" y="1600200"/>
            <a:ext cx="853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brevi episod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edoctal record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consentono la registrazione di brevi episodi all’interno di schede che prevedono l’esplicitazione del contesto in cui avvengono tali episodi. 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67080" y="589608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onte: GATTULLO-GIOVANNINI, 1989, p.14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2590920"/>
            <a:ext cx="7391160" cy="32907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lasse…………….. Sigla osservatore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ata ………………. Ora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Nome e cognome dell’alunno………………………………………………………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Situazione generale in cui si inserisce l’osserv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Breve episo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formazioni aggiun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0880" y="16002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fine, questo è un esempio di strumento “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arta e penna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2209680"/>
            <a:ext cx="7924680" cy="3717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segue F e la osserva mentre F canticchia. A gironzola osservando F che canticchia e dispone di mobiletti. A sparisce per un po’ dalla visuale, torna con due bambole. A mostra una bambola a F chiedendole “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questa è la tua bambin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?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risponde “sì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 dice “to’ allora che piange” e porge la bambola a F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la rifiuta dicendo “no, non è la mia bambina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con le due bambole va alla cucinetta dove osserva due compagne che giocano con le stoviglie. Torna al tavolo a guardare F che dispone i mobiletti sul tavolo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e chiede “è la casetta della tua bambina?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risponde “sì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dice “anch’io sono una mamma”, poi mostra a C una bambola e le chiede “è la tua bambina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C non rispon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depone una delle bambole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tringe l’altro bambolotto al petto e dice “sst ss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, poi dice qualcosa sottovoce a D. Osserva F e la segue. Dice qualcosa di incomprensibile, si gratta la testa, va verso la finestra, tocca alcuni oggetti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ulla il bambolotto tenendolo in braccio, dice “questa è la sua amica” e prende un’altra bambol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. Osserva le bambine alla cas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29200" y="57913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ONTE: BONDIOLI- SAVIO, 1994, p.118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0880" y="16002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assumendo, sapresti classificare i seguenti strument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5781600"/>
            <a:ext cx="53337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nelle caselle corrisponden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2286000"/>
            <a:ext cx="24382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APE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62840" y="2286000"/>
            <a:ext cx="23619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CHI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69440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sservazioni dal vivo “carta e penn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274320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hede di registrazione di brevi episodi (anedoctal recor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4329000"/>
            <a:ext cx="3276720" cy="3373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heck-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3357720"/>
            <a:ext cx="3276720" cy="3373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riglie di catego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71484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ale di valutazione (rating sc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467532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273852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4309920"/>
            <a:ext cx="2438280" cy="3621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3352680"/>
            <a:ext cx="2438280" cy="3621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71016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468000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274320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72200" y="4314960"/>
            <a:ext cx="2438280" cy="3618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72200" y="3357720"/>
            <a:ext cx="2438280" cy="3618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71484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971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15200" y="29764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343836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34434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94344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5200" y="39481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4146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44197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4871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15200" y="48769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62600" y="1035000"/>
            <a:ext cx="1128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600200"/>
            <a:ext cx="7924680" cy="43434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676520"/>
            <a:ext cx="7391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sservare significa descrivere le caratteristiche di un  evento, di un comportamento o di una situazione in contesti reali e non artificialmente predisposti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’osservazione può avere diverse funzioni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crittiva, Euristica, (diagnostica o di scoperta), Formativa, di Verifica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lutativ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base al modo in cui viene condotta, l’osservazione può essere classificata come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tturata (sistematica)/ Non strutturata, Partecipante/ Non partecipante, Spontanea (occasionale), Diretta/ Indi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Gli strumenti di osservazione possono essere chiusi (osservazioni dal vivo “carta e penna”, anedoctal records, etc.) o aperti (check-list, scale di valutazione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59400" y="1066680"/>
            <a:ext cx="3441600" cy="4711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3809880"/>
            <a:ext cx="3124080" cy="1524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311560"/>
            <a:ext cx="327672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questa lezione parleremo della funzione e dei metodi dell’osserv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ma di iniziare definiamo il concetto di osservazi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sservare significa descrivere le caratteristiche di un  evento, di un comportamento o di una situazione in contesti reali e non artificialmente predisposti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981080"/>
            <a:ext cx="1752840" cy="1676520"/>
          </a:xfrm>
          <a:prstGeom prst="donut">
            <a:avLst>
              <a:gd name="adj" fmla="val 6564"/>
            </a:avLst>
          </a:prstGeom>
          <a:solidFill>
            <a:srgbClr val="5f5f5f"/>
          </a:solidFill>
          <a:ln w="12600">
            <a:solidFill>
              <a:srgbClr val="182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2819520"/>
            <a:ext cx="35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o te, l’attività descritta qui accanto è un esempio di osservazion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15160" y="412596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15160" y="4492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334120"/>
            <a:ext cx="33530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la risposta che preferis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4021200"/>
            <a:ext cx="1752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2808000" cy="3581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1905120"/>
            <a:ext cx="3200400" cy="914400"/>
          </a:xfrm>
          <a:prstGeom prst="wedgeRectCallout">
            <a:avLst>
              <a:gd name="adj1" fmla="val -51092"/>
              <a:gd name="adj2" fmla="val 9774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diamo come si comporta quest’uomo all’interno di un labirinto. Come troverà l’usci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2155680"/>
            <a:ext cx="381024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osservazione permette d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endere in esame variabili ritenute import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sservare un evento nel suo ambiente naturale e nel momento in cui ac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tudiare per un determinato periodo di tempo una situazi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izzare in profondità un ca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496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56852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iù in particolare, l’osservazione ha le seguenti funzio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09480" y="2057400"/>
          <a:ext cx="8001000" cy="4057560"/>
        </p:xfrm>
        <a:graphic>
          <a:graphicData uri="http://schemas.openxmlformats.org/drawingml/2006/table">
            <a:tbl>
              <a:tblPr/>
              <a:tblGrid>
                <a:gridCol w="1600200"/>
                <a:gridCol w="6400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n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cri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crit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descrivere la situazione o il fenomeno osservat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uristica (diagnostica o di scopert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far emergere ipotesi pertinenti, che saranno ulteriormente sottoposte ad attività di controll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agire sulla base di quanto osservato e si agisce per formar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eri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una situazione manipolata o provocata per poter verificare un’ipotesi e quindi si utilizza l’osservazione come strumento di misurazione delle variabili riguardanti l’ipotesi stess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alut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fare delle valutazioni e sulla loro base assumere decisioni sull’azione da intraprendere. L’azione sarà a sua volta sottoposta a valutazione, e dunque all’osservazione, per una nuova decision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543040"/>
            <a:ext cx="358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 tipo di funzione ha l’osservazione che sarà effettuata da questa insegnan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3581280"/>
            <a:ext cx="2438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cri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m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i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68604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402444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5334120"/>
            <a:ext cx="33530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la risposta che preferis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438624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18229"/>
          <a:stretch/>
        </p:blipFill>
        <p:spPr>
          <a:xfrm>
            <a:off x="1219320" y="2971800"/>
            <a:ext cx="2722320" cy="3048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1676520"/>
            <a:ext cx="3810240" cy="1295280"/>
          </a:xfrm>
          <a:prstGeom prst="wedgeRectCallout">
            <a:avLst>
              <a:gd name="adj1" fmla="val -1500"/>
              <a:gd name="adj2" fmla="val 6409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ndo osservare il rendimento scolastico degli studenti nel primo semestre. Su questa base deciderò come impostare il programma di insegnamento del secondo semest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905120" y="2768760"/>
          <a:ext cx="4647960" cy="2184120"/>
        </p:xfrm>
        <a:graphic>
          <a:graphicData uri="http://schemas.openxmlformats.org/drawingml/2006/table">
            <a:tbl>
              <a:tblPr/>
              <a:tblGrid>
                <a:gridCol w="464796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457200" y="1523880"/>
            <a:ext cx="8001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bbiamo visto che l’osservazione può avere diversi scopi (o funzioni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sa può essere anche condotta in diversi modi, in base ai quali può essere classificata co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996840"/>
            <a:ext cx="4952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Modalità di classificazione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5629320"/>
            <a:ext cx="45720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 ogni opzione per leggere la descrizi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2844720"/>
            <a:ext cx="480060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trutturata (sistematica)/ Non struttur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artecipante/ Non partecip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pontanea (occasional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iretta/ Indire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765520"/>
            <a:ext cx="4876920" cy="32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reattività dei soggetti osservati e dell’osservat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difficoltà di quantificazione dei d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dimensioni ridotte del camp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mancanza di anonimato di chi viene osserva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 scarso grado di attendibilità della mis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caratteristiche dell’osservatore/ricercatore:  paradigmi, valori o condizioni psico-fisich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tecniche di registrazione e di codifica dei dati che varia in relazione all’uso di sistemi strutturati o non strutturati di osserv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scarsa attenzione al contes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96840"/>
            <a:ext cx="3657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841400"/>
            <a:ext cx="495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ando si utilizza la tecnica dell’osservazione, occorre tener presenti i seguenti problemi che sono ad essa leg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106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1600200"/>
            <a:ext cx="35816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556272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981080"/>
            <a:ext cx="4191120" cy="40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superare i limiti dell’osservazione è necessari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he cos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ome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quand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sservare. E’ necessario perciò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elimitare i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mpo di osserv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ciò che si vuole osserva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cedura, criteri e stru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 utilizzare per l’osservazione e la registrazione dei dat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 tempi e i luogh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n cui effettuare l’osservazion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l’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unità di osserv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i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ipo di anali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 effettua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996840"/>
            <a:ext cx="3657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3:38:17Z</dcterms:created>
  <dc:creator>Pentium Processor</dc:creator>
  <dc:description/>
  <dc:language>en-US</dc:language>
  <cp:lastModifiedBy>Poste Italiane S.p.A.</cp:lastModifiedBy>
  <dcterms:modified xsi:type="dcterms:W3CDTF">2005-03-07T11:21:36Z</dcterms:modified>
  <cp:revision>202</cp:revision>
  <dc:subject/>
  <dc:title>Presentazione di PowerPoint</dc:title>
</cp:coreProperties>
</file>