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32588" cy="9848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732000" cy="984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1800" y="1080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4"/>
          </p:nvPr>
        </p:nvSpPr>
        <p:spPr>
          <a:xfrm>
            <a:off x="3814560" y="1080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ftr" idx="5"/>
          </p:nvPr>
        </p:nvSpPr>
        <p:spPr>
          <a:xfrm>
            <a:off x="-1800" y="937692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sldNum" idx="6"/>
          </p:nvPr>
        </p:nvSpPr>
        <p:spPr>
          <a:xfrm>
            <a:off x="3814560" y="937692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7F06859-9C81-42F6-ADBE-9104BCACF83A}" type="slidenum"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Img"/>
          </p:nvPr>
        </p:nvSpPr>
        <p:spPr>
          <a:xfrm>
            <a:off x="1063800" y="860400"/>
            <a:ext cx="4603680" cy="34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 up su analisi del contenu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’analisi del contenuto può avvalersi di tecniche compèuterizzate che consentono una maggiore qualità e rilevanza delle interpretazioni proposte (validità)  aggiunto ad una maggiore trasparenza e riproducibilità delle procedure seguite (affidabilità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Queste tecniche infatti consentono di estendere l’analisi al teso nel suo complesso offrendo la garanzia della ripetibilità e dell’intersoggettività dell’analis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oltre, l’analisi statistico testuale, rispetto all’analisi di contenuto tradizionale, consente di esamninare corpus testuali di notevoli dimensioni, grazie a programmi informatici che permettono l’indicizzazione (o numerizzazione)rapida dei corpora testuali, l’attuazione di tutti i confronti possibili e l’individuazione delle “dimensioni fondamentali di senso presenti in un testo oggetto di studio” (Balasc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agine 73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ito scelta multipla. Risposta esatt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 risposta corrett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atto,  la letteratura grigia rappresenta un’importante fonte di informazione da individuare e consultare prima di passare al trattamento dei da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 risposta err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zione. La risposta non è corret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 risposta non fornit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letteratura grigia rappresenta un’importante fonte di informazione da individuare e consultare prima di passare al trattamento dei da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BAA4-9415-4FAD-9794-4089BF31D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944E-044E-499C-A939-52FE3D6B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F3CE-D90F-453E-A13D-684740BE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A109-2A04-4B19-A777-1A9F7D7D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E331-950B-4BBA-9DDE-35CC6D7E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A437-829A-4FD0-BB4F-65CAC8AF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9937-A72F-4413-85B1-DA9424C1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84A3-AA16-4342-A0B3-CC4E6EA0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1334-7795-428A-A828-12E16C36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2442-CED0-403F-B197-70FF4B2F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9C19-42C2-4D17-A9C9-6EC7442EB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44C7-559B-46B4-9386-A68EEA9C6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9144000" cy="380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845820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76201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firstslide"/>
          </p:cNvPr>
          <p:cNvSpPr/>
          <p:nvPr/>
        </p:nvSpPr>
        <p:spPr>
          <a:xfrm>
            <a:off x="3049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6187" y="3837"/>
                </a:moveTo>
                <a:lnTo>
                  <a:pt x="18764" y="6448"/>
                </a:ln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lnTo>
                  <a:pt x="23150" y="10800"/>
                </a:lnTo>
                <a:lnTo>
                  <a:pt x="21497" y="10800"/>
                </a:lnTo>
                <a:lnTo>
                  <a:pt x="21497" y="17989"/>
                </a:lnTo>
                <a:lnTo>
                  <a:pt x="10878" y="17989"/>
                </a:lnTo>
                <a:lnTo>
                  <a:pt x="10878" y="10800"/>
                </a:lnTo>
                <a:lnTo>
                  <a:pt x="9224" y="10800"/>
                </a:lnTo>
                <a:close/>
              </a:path>
              <a:path fill="darkenLess" w="32375" h="21600">
                <a:moveTo>
                  <a:pt x="18764" y="6448"/>
                </a:move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close/>
              </a:path>
              <a:path fill="darkenLess" w="32375" h="21600">
                <a:moveTo>
                  <a:pt x="15265" y="14299"/>
                </a:moveTo>
                <a:lnTo>
                  <a:pt x="17110" y="14299"/>
                </a:lnTo>
                <a:lnTo>
                  <a:pt x="17110" y="17989"/>
                </a:lnTo>
                <a:lnTo>
                  <a:pt x="21497" y="17989"/>
                </a:lnTo>
                <a:lnTo>
                  <a:pt x="21497" y="10800"/>
                </a:lnTo>
                <a:lnTo>
                  <a:pt x="10878" y="10800"/>
                </a:lnTo>
                <a:lnTo>
                  <a:pt x="10878" y="17989"/>
                </a:lnTo>
                <a:lnTo>
                  <a:pt x="15265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64771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2688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10843" y="3794"/>
                </a:lnTo>
                <a:lnTo>
                  <a:pt x="10843" y="17806"/>
                </a:lnTo>
                <a:lnTo>
                  <a:pt x="918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60" y="-108000"/>
            <a:ext cx="909324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3. Tecniche e strumenti di rilev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3.2. Le fonti bibliografiche e i docum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15440" y="349200"/>
            <a:ext cx="1852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</a:t>
            </a:r>
            <a:fld id="{9E8C3EF3-443A-4045-93AF-DB3EB868A3DC}" type="slidenum">
              <a:rPr b="1" lang="en-US" sz="1600" spc="-1" strike="noStrike">
                <a:solidFill>
                  <a:srgbClr val="eaeaea"/>
                </a:solidFill>
                <a:latin typeface="Tahoma"/>
              </a:rPr>
              <a:t>&lt;number&gt;</a:t>
            </a:fld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di 2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48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49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0F11-F172-4900-89D9-B614A6C9A97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28600" y="996840"/>
            <a:ext cx="20574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n questa le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2514600"/>
            <a:ext cx="8076960" cy="25146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13372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questa lezione saranno trattati i seguenti argomen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2768760"/>
            <a:ext cx="4190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 fonti bibliografiche i docu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e guida per la raccolta delle fonti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78137" descr=""/>
          <p:cNvPicPr/>
          <p:nvPr/>
        </p:nvPicPr>
        <p:blipFill>
          <a:blip r:embed="rId1"/>
          <a:stretch/>
        </p:blipFill>
        <p:spPr>
          <a:xfrm>
            <a:off x="6095880" y="25146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3157560"/>
            <a:ext cx="10031400" cy="37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1600200"/>
            <a:ext cx="4343400" cy="41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l trattamento dei dati inferibili dai documenti viene effettuato utilizzando alcune categorie di analisi che consentano una classificazione il più possibile oggettiva dei dati raccolti e e che siano lontane  da interpretazioni arbitrarie e sogget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particolare possiamo procedere a due tipi di esam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same quantitativ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che consiste nella rilevazione della presenza o assenza di categorie generali individuate a prior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same qualitativ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del contesto ossia del tipo di informazioni in esso contenute detta anche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ahoma"/>
              </a:rPr>
              <a:t>analisi del contenut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914400"/>
            <a:ext cx="29718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l trattamento statis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78096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39621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952880" y="1905120"/>
            <a:ext cx="3733920" cy="36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 notevole rilevanza è l’analisi statistico testuale che rappresenta una strategia ponte tra metodiche qualitative e quantita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particolar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’analisi statistico testuale computerizzat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consenti di individua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parole chi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parole 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parole sovra rappresen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parole sotto rappresen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 segmenti ripetu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l contesto d’us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2695680"/>
            <a:ext cx="4191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914400"/>
            <a:ext cx="29718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l trattamento statis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78125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04920" y="914400"/>
            <a:ext cx="12952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Riepi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1523880"/>
            <a:ext cx="7925040" cy="449604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8080" y="1676520"/>
            <a:ext cx="73915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iepilogando quanto visto finor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n qualsiasi ambito di ricerca è necessario saper utilizzare le fonti bibliografiche e i docu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principali fonti di informazione sono rappresentate d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rvizi di </a:t>
            </a: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tteratura gri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ocumenti 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l trattamento dei dati inferibili dai documenti viene effettuato utilizzando alcune categorie, in particolare possiamo procedere a due tipi di esam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Esame quantitativo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ilevazione della presenza o assenza di categorie generali individuate a prior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Esame qualitativo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nalisi tipo di informazioni contenute nei docu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572000" y="1752480"/>
            <a:ext cx="43434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me in qualsiasi ambito di ricerca, anche nel caso delle ricerche educative è necessario saper utilizzare le fonti bibliografiche e i docu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Nell’ambito di una ricerca si deve quindi saper raccogliere, selezionare e classificare le informazioni bibliografiche relative al settore di indagine preso in es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principali fonti di informazione sono rappresentate d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rvizi di </a:t>
            </a: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tteratura gri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ocumenti 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aminiamoli nel dettaglio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990720"/>
            <a:ext cx="1981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ntrodu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73178" descr=""/>
          <p:cNvPicPr/>
          <p:nvPr/>
        </p:nvPicPr>
        <p:blipFill>
          <a:blip r:embed="rId1"/>
          <a:srcRect l="0" t="0" r="0" b="4862"/>
          <a:stretch/>
        </p:blipFill>
        <p:spPr>
          <a:xfrm>
            <a:off x="914400" y="1676520"/>
            <a:ext cx="30384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572000" y="1609560"/>
            <a:ext cx="43434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n il  termin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rvizi di </a:t>
            </a: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referenc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si u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ndicare diversi tipi di fonti di informazione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di opere di consultazione la cui funzione 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quella di fornire indicazioni di caratt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generale. Possiamo distingue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Opere generali (manuali, trattati,  enciclopedie, dizionari, glossari ecc,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gislazione e documenti normativ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epertori di notizie dati e statistich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Bibliografie e banche dati bibliografich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Biblioteche e cataloghi special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assegne bibliografich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Periodic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ditoria professional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onti di informazione in re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990720"/>
            <a:ext cx="22860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Tahoma"/>
              </a:rPr>
              <a:t>Servizi di 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78075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572000" y="2362320"/>
            <a:ext cx="43434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l termine ‘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tteratura grigi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’ sta ad indicare una modalità non convenzionale di  diffusione dell’informazione specialistica, costituita da ricerche e dati non pubblicati o divulgati in maniera ufficiale che presenta il vantaggio di garantire una rapida circolazione (non è infatti legata a tempi, luoghi di edizione, risorse finanziarie disponibili ecc.) ma, proprio per questo, estremamente difficile da reperi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990720"/>
            <a:ext cx="22860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Letteratura gri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73193" descr=""/>
          <p:cNvPicPr/>
          <p:nvPr/>
        </p:nvPicPr>
        <p:blipFill>
          <a:blip r:embed="rId1"/>
          <a:stretch/>
        </p:blipFill>
        <p:spPr>
          <a:xfrm>
            <a:off x="914400" y="1873080"/>
            <a:ext cx="291636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572000" y="2362320"/>
            <a:ext cx="43434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 considera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ocument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ogni genere di materiale scritto che possa  essere utilizzato quale fonte di informazione e fornire dati relativi al fenomeno che si vuole esaminar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e tali, i documenti rientrano tra gli strumenti utilizzabili nella ricerca in ambito educativo e risultano particolarmente necessari soprattutto nella fase iniziale di una ricerc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990720"/>
            <a:ext cx="14475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Docu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iStock_000000093740_1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2781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48320" y="1219320"/>
            <a:ext cx="42670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l punto di vista della relazione con l’evento cui si riferiscono i documenti possono essere distinti i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imar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cioè resoconti di testimoni oculari che hanno vissuto un particolare ev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condar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cioè riferiti da persone che non erano presenti sulla scena ma che hanno ottenuto l’informazione necessarie per compilare il documento intervistando testimoni oculari o leggendo documenti primar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empio: un autobiografia è un documento primario, mentre una bibliografia è un documento secondar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5181480"/>
            <a:ext cx="86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a classificazione ulteriore riguarda la natura dei “dati” che i documenti possono contenere. I documenti possono infatti essere sia d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ip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ersonal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scritti in prima persona) che d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ipo istituzional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di carattere pubblico e fortemente strutturati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990720"/>
            <a:ext cx="14475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Docu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78175" descr=""/>
          <p:cNvPicPr/>
          <p:nvPr/>
        </p:nvPicPr>
        <p:blipFill>
          <a:blip r:embed="rId1"/>
          <a:srcRect l="0" t="0" r="0" b="9327"/>
          <a:stretch/>
        </p:blipFill>
        <p:spPr>
          <a:xfrm>
            <a:off x="861840" y="1371600"/>
            <a:ext cx="2948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648320" y="1987560"/>
            <a:ext cx="424656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cco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 linee guid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per condurre una analisi bibliografica e documenta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plorare le possibilità che offrono 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rvizi di referenc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quindi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ndividuare e consultare la cosiddetta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tteratura grigi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aminare 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ocumen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Passare al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trattament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ei da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ossia all’analisi delle informazioni, numeriche o testuali contenute nelle fo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990720"/>
            <a:ext cx="4267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Linee guida per l’analisi documen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83" name="73161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114800" cy="27147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80880" y="5486400"/>
            <a:ext cx="807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cord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non si può parlare di ricerca se i dati contenuti in un documento vengono riportati così come son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3157560"/>
            <a:ext cx="10031400" cy="37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990720"/>
            <a:ext cx="11430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Eserciz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36360" y="3565440"/>
            <a:ext cx="33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. Passare al trattamento dei da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52120" y="3124080"/>
            <a:ext cx="528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. Consultare bibliografie e banche dati bibliografi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689200" y="4006800"/>
            <a:ext cx="461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. Individuare e consultare la letteratura gri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1040" y="1600200"/>
            <a:ext cx="7441920" cy="8240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l ricercatore Mario Rossi sta eseguendo una ricerca nel campo della formazione. Ha già raccolto numerose informazioni mediante i servizi di reference e i documenti disponibili. Cosa gli consigli di fare or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51040" y="5105520"/>
            <a:ext cx="74419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i clic sulla risposta di tua sce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73178" descr=""/>
          <p:cNvPicPr/>
          <p:nvPr/>
        </p:nvPicPr>
        <p:blipFill>
          <a:blip r:embed="rId1"/>
          <a:srcRect l="0" t="0" r="0" b="4862"/>
          <a:stretch/>
        </p:blipFill>
        <p:spPr>
          <a:xfrm>
            <a:off x="990720" y="2800440"/>
            <a:ext cx="129528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952880" y="2438280"/>
            <a:ext cx="3962520" cy="25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 analizzare i dati raccolti è necessario porsi alcune domande necessarie per controllare l’attendibilità degli stess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fatti, i dati non sono mai neutrali ma sono un insieme composto da un oggetto osservato e un soggetto che osserva. Tutte le informazioni presenti in un documento sono quindi  l’interpretazione dell’oggetto fatta da chi  ha prodotto l’informaz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914400"/>
            <a:ext cx="3124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Alcune domande importa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1905120"/>
            <a:ext cx="4038480" cy="824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me sono stati raccolti i dati?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 sono utilizzati strumenti effettivamente adatti allo scopo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 sono stati errori di misurazio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2819520"/>
            <a:ext cx="4038480" cy="459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n che modo sono stati registrati e inseriti i dati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 sono stati errori di registrazione o di elaborazion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3413160"/>
            <a:ext cx="4038480" cy="8240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n quale periodo sono stati rilevati i dati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 sono stati eventi episodici o periodici  di cui non si è a conoscenza che possono aver inficiato i dati raccolti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4191120"/>
            <a:ext cx="4038480" cy="641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 dati sono stati oggetto di ulteriori analisi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È stata rispettata la riservatezza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no state occultate alcune informazioni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5105520"/>
            <a:ext cx="4038480" cy="824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Fino a che punto i dati sono rappresentativi della popolazione presa in esa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 dati sono realmente attinenti alla variabili oggetto dello studi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1T18:57:48Z</dcterms:created>
  <dc:creator/>
  <dc:description/>
  <dc:language>en-US</dc:language>
  <cp:lastModifiedBy>Riccardo</cp:lastModifiedBy>
  <cp:lastPrinted>2000-05-14T18:13:16Z</cp:lastPrinted>
  <dcterms:modified xsi:type="dcterms:W3CDTF">2004-04-26T06:46:35Z</dcterms:modified>
  <cp:revision>193</cp:revision>
  <dc:subject>Presentazione piero</dc:subject>
  <dc:title>Presentazione forum P.A. del 9/05/96</dc:title>
</cp:coreProperties>
</file>