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3DC474-F1FE-4056-A901-E0CB6F07148D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analisi del contenu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nalisi del contenuto può avvalersi di tecniche compèuterizzate che consentono una maggiore qualità e rilevanza delle interpretazioni proposte (validità)  aggiunto ad una maggiore trasparenza e riproducibilità delle procedure seguite (affidabilità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e tecniche infatti consentono di estendere l’analisi al teso nel suo complesso offrendo la garanzia della ripetibilità e dell’intersoggettività dell’anali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oltre, l’analisi statistico testuale, rispetto all’analisi di contenuto tradizionale, consente di esamninare corpus testuali di notevoli dimensioni, grazie a programmi informatici che permettono l’indicizzazione (o numerizzazione)rapida dei corpora testuali, l’attuazione di tutti i confronti possibili e l’individuazione delle “dimensioni fondamentali di senso presenti in un testo oggetto di studio” (Bala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ito scelta multipla. Risposta esatt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corret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tto,  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. La rispos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non forni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17B-C863-4914-A296-2F35D006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229-1968-4C7E-9C4B-9D5FAE14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B17-B5ED-4F1A-AD54-A31EA09C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FB8-2984-4255-8D50-A6007B7E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46A-FBF5-4853-B270-2301611C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E1D-98E9-45BD-B36D-3F1A454C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D08-35E2-454A-9BEE-F529B7A0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BFE-3FD9-4F9C-B6E9-A04D243E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B87-76F8-4ABE-B221-E703757D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AD5-ABD5-4D01-83F3-0332DE7F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665C-3F2F-4D9A-AFB4-26E8C335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976-BF50-477F-B1BB-D37124BE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2. Le fonti bibliografiche e i doc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5440" y="349200"/>
            <a:ext cx="18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40C00509-F1A5-444B-9E98-96D98CE284FB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CAC5-CD68-4FD3-B23D-D74991A4C96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68760"/>
            <a:ext cx="4190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fonti bibliografiche i 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e guida per la raccolta delle fonti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1600200"/>
            <a:ext cx="43434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 di analisi che consentano una classificazione il più possibile oggettiva dei dati raccolti e e che siano lontane  da interpretazioni arbitrarie e sogge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nt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che consiste nella rilevazione della presenza o assenza di categorie generali individuate a prio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l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l contesto ossia del tipo di informazioni in esso contenute detta anc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analisi del contenu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7809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52880" y="1905120"/>
            <a:ext cx="37339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notevole rilevanza è l’analisi statistico testuale che rappresenta una strategia ponte tra metodiche qualitative e quantit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’analisi statistico testuale computerizz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senti di individu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chi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vra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tto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segmenti ripe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contesto d’u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69568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7812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523880"/>
            <a:ext cx="7925040" cy="449604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6765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qualsiasi ambito di ricerca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, 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nt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levazione della presenza o assenza di categorie generali individuate a prior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l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alisi tipo di informazioni contenute ne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175248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e in qualsiasi ambito di ricerca, anche nel caso delle ricerche educative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ell’ambito di una ricerca si deve quindi saper raccogliere, selezionare e classificare le informazioni bibliografiche relative al settore di indagine preso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iamoli nel dettagl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14400" y="1676520"/>
            <a:ext cx="303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160956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n il  termin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care diversi tipi di fonti di informazion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i opere di consultazione la cui funzione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lla di fornire indicazioni di caratt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e. Possiamo distingu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pere generali (manuali, trattati,  enciclopedie, dizionari, glossari ecc,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gislazione e documenti normativ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pertori di notizie dati e statist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grafie e banche dati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teche e cataloghi specia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ssegne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iodic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ditoria professiona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nti di informazione in re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Servizi di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807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ermine ‘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’ sta ad indicare una modalità non convenzionale di  diffusione dell’informazione specialistica, costituita da ricerche e dati non pubblicati o divulgati in maniera ufficiale che presenta il vantaggio di garantire una rapida circolazione (non è infatti legata a tempi, luoghi di edizione, risorse finanziarie disponibili ecc.) ma, proprio per questo, estremamente difficile da reper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73193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29163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consider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gni genere di materiale scritto che possa  essere utilizzato quale fonte di informazione e fornire dati relativi al fenomeno che si vuole esamina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e tali, i documenti rientrano tra gli strumenti utilizzabili nella ricerca in ambito educativo e risultano particolarmente necessari soprattutto nella fase iniziale di una ricer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iStock_000000093740_1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8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48320" y="1219320"/>
            <a:ext cx="4267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 punto di vista della relazione con l’evento cui si riferiscono i documenti possono essere distinti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esoconti di testimoni oculari che hanno vissuto un particolare 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iferiti da persone che non erano presenti sulla scena ma che hanno ottenuto l’informazione necessarie per compilare il documento intervistando testimoni oculari o leggendo documenti primar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mpio: un autobiografia è un documento primario, mentre una bibliografia è un documento second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1814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 classificazione ulteriore riguarda la natura dei “dati” che i documenti possono contenere. I documenti possono infatti essere sia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s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scritti in prima persona) che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 istituzi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di carattere pubblico e fortemente strutturat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78175" descr=""/>
          <p:cNvPicPr/>
          <p:nvPr/>
        </p:nvPicPr>
        <p:blipFill>
          <a:blip r:embed="rId1"/>
          <a:srcRect l="0" t="0" r="0" b="9327"/>
          <a:stretch/>
        </p:blipFill>
        <p:spPr>
          <a:xfrm>
            <a:off x="861840" y="1371600"/>
            <a:ext cx="2948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1987560"/>
            <a:ext cx="4246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 linee guid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condurre una analisi bibliografica e document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plorare le possibilità che offrono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quind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re e consultare la cosiddett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are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ssare a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ratt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ei da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ssia all’analisi delle informazioni, numeriche o testuali contenute nelle fo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4267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inee guida per l’analisi docu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73161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548640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cord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non si può parlare di ricerca se i dati contenuti in un documento vengono riportati così come s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90720"/>
            <a:ext cx="1143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360" y="356544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Passare al trattamento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2120" y="312408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Consultare bibliografie e banche dati bibliogra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9200" y="400680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Individuare e consultare la 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1600200"/>
            <a:ext cx="7441920" cy="824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ricercatore Mario Rossi sta eseguendo una ricerca nel campo della formazione. Ha già raccolto numerose informazioni mediante i servizi di reference e i documenti disponibili. Cosa gli consigli di fare 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040" y="510552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i clic sulla risposta di tua sc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90720" y="2800440"/>
            <a:ext cx="1295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952880" y="2438280"/>
            <a:ext cx="39625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analizzare i dati raccolti è necessario porsi alcune domande necessarie per controllare l’attendibilità degli stes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atti, i dati non sono mai neutrali ma sono un insieme composto da un oggetto osservato e un soggetto che osserva. Tutte le informazioni presenti in un documento sono quindi  l’interpretazione dell’oggetto fatta da chi  ha prodotto l’inform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lcune domand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05120"/>
            <a:ext cx="403848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e sono stati raccolti i dati?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 sono utilizzati strumenti effettivamente adatti allo scop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misurazi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19520"/>
            <a:ext cx="403848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che modo sono stati registrati e inseri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registrazione o di elaborazion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413160"/>
            <a:ext cx="403848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quale periodo sono stati rileva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venti episodici o periodici  di cui non si è a conoscenza che possono aver inficiato i dati raccolt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191120"/>
            <a:ext cx="4038480" cy="64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 dati sono stati oggetto di ulteriori analis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È stata rispettata la riservatezz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no state occultate alcune informazio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05520"/>
            <a:ext cx="403848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o a che punto i dati sono rappresentativi della popolazione presa in es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dati sono realmente attinenti alla variabili oggetto dello stud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dc:language>en-US</dc:language>
  <cp:lastModifiedBy>Riccardo</cp:lastModifiedBy>
  <cp:lastPrinted>2000-05-14T18:13:16Z</cp:lastPrinted>
  <dcterms:modified xsi:type="dcterms:W3CDTF">2004-04-26T06:46:35Z</dcterms:modified>
  <cp:revision>193</cp:revision>
  <dc:subject>Presentazione piero</dc:subject>
  <dc:title>Presentazione forum P.A. del 9/05/96</dc:title>
</cp:coreProperties>
</file>