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6FE-0D8F-4C74-BB0D-83B506A74D0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: pop up su alcuni esempi su cui riflettere a pagina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 programmatore. Pop up su proporc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82760" y="380880"/>
            <a:ext cx="10109520" cy="649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" name=""/>
          <p:cNvGraphicFramePr/>
          <p:nvPr/>
        </p:nvGraphicFramePr>
        <p:xfrm>
          <a:off x="-453960" y="6858000"/>
          <a:ext cx="101059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453960" y="6858000"/>
                    <a:ext cx="10105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" name=""/>
          <p:cNvGraphicFramePr/>
          <p:nvPr/>
        </p:nvGraphicFramePr>
        <p:xfrm>
          <a:off x="-482760" y="-27000"/>
          <a:ext cx="10109520" cy="79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482760" y="-27000"/>
                    <a:ext cx="1010952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1042920" y="501480"/>
            <a:ext cx="4081680" cy="24624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Lezione 1: i fattori che incidono nella scelta della ricer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2920" y="58680"/>
            <a:ext cx="5851440" cy="58068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Metodologia della ricerca  in educazione e formazione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25880" y="6948360"/>
            <a:ext cx="900000" cy="234000"/>
          </a:xfrm>
          <a:prstGeom prst="rect">
            <a:avLst/>
          </a:prstGeom>
          <a:solidFill>
            <a:srgbClr val="0400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B3C3-8668-44FC-93AC-4069DD318874}" type="slidenum">
              <a:rPr b="1" lang="it-IT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1" lang="it-IT" sz="800" spc="-1" strike="noStrike">
                <a:solidFill>
                  <a:srgbClr val="ffffff"/>
                </a:solidFill>
                <a:latin typeface="Verdana"/>
              </a:rPr>
              <a:t> i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-466560" y="803160"/>
            <a:ext cx="8820000" cy="24156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468360" y="804960"/>
            <a:ext cx="8791560" cy="239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62000" y="2478240"/>
            <a:ext cx="655344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 fattori che incidono nel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 questa lezione saranno trattati i seguenti argoment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roduzione: la scelta della rice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>
            <a:lum contrast="-6000"/>
          </a:blip>
          <a:stretch/>
        </p:blipFill>
        <p:spPr>
          <a:xfrm>
            <a:off x="666720" y="2259000"/>
            <a:ext cx="12002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7680" y="14763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cciamo un altro esempio. Leggi la frase seguente, secondo te cosa signific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438280" y="5892840"/>
            <a:ext cx="424836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666880" y="5854680"/>
            <a:ext cx="381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i alla pagina successiva per vedere la risp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143000" y="4387680"/>
            <a:ext cx="6858000" cy="1325520"/>
            <a:chOff x="1143000" y="4387680"/>
            <a:chExt cx="6858000" cy="1325520"/>
          </a:xfrm>
        </p:grpSpPr>
        <p:sp>
          <p:nvSpPr>
            <p:cNvPr id="116" name=""/>
            <p:cNvSpPr/>
            <p:nvPr/>
          </p:nvSpPr>
          <p:spPr>
            <a:xfrm>
              <a:off x="1143000" y="48765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a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e rispettive mogli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18240" y="4387680"/>
              <a:ext cx="494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Questa frase può essere interpretata in due modi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4889160"/>
              <a:ext cx="3276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b) Carlo e Luigi fanno l’amor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con la moglie di Carlo du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volte la settiman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438280" y="6076800"/>
            <a:ext cx="426744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Tratto da: Umberto Eco,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Lector in Fabula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,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" y="2557440"/>
            <a:ext cx="8076960" cy="1595520"/>
          </a:xfrm>
          <a:prstGeom prst="rect">
            <a:avLst/>
          </a:prstGeom>
          <a:solidFill>
            <a:srgbClr val="bfcfe0"/>
          </a:solidFill>
          <a:ln w="15840">
            <a:solidFill>
              <a:srgbClr val="0000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85760" y="2905200"/>
            <a:ext cx="73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  <a:ea typeface="Tahoma"/>
              </a:rPr>
              <a:t>«Carlo fa l'amore con sua moglie due  volte la settimana, anche Luigi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2404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8800" y="2095560"/>
            <a:ext cx="4114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o dei principali condizionamenti è il contest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stituziona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rmativ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62480" y="3429000"/>
          <a:ext cx="4267080" cy="1938240"/>
        </p:xfrm>
        <a:graphic>
          <a:graphicData uri="http://schemas.openxmlformats.org/drawingml/2006/table">
            <a:tbl>
              <a:tblPr/>
              <a:tblGrid>
                <a:gridCol w="1600200"/>
                <a:gridCol w="26668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tituzion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 Loca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me inter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stitu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gg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ola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osizioni amministr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28560" y="2432160"/>
            <a:ext cx="2374920" cy="267948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514440" y="5859360"/>
            <a:ext cx="8115120" cy="8226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sbon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l’Unione Europea ha chiesto che tutti i paesi membri raggiungano entro il 2010 alcuni standard formativi. Per cui, le singole autorità politiche dei paesi dovrebbero chiedere ai ricercatori gli strumenti idonei a raggiungere tali risultat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133720"/>
            <a:ext cx="37339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collettività e i decisori politivi possono influenzare gli orientamenti della rice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esto aspetto è in parte ragionevole e condivisibile, in parte rischio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010120" y="4540320"/>
            <a:ext cx="714240" cy="7398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5410080" y="4724280"/>
            <a:ext cx="26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en-US" sz="1200" spc="-1" strike="noStrike" u="sng">
                <a:solidFill>
                  <a:srgbClr val="000099"/>
                </a:solidFill>
                <a:uFillTx/>
                <a:latin typeface="Verdana"/>
              </a:rPr>
              <a:t>Alcuni esempi sui cui riflett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66720" y="1905120"/>
            <a:ext cx="2671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2854440"/>
            <a:ext cx="25444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ubblic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ione Europ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en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UR -&gt; COF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NISTER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TI LOC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inanziamenti privat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pre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nda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43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fare una ricerca occorrono risorse finanziarie, ecco alcune fonti di finanz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81600" y="2743200"/>
            <a:ext cx="41907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-242280" y="76212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es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2038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 le risorse che incidono sulla scelta del problema c’è anche il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po disponibi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e volte tale tempo è assegnato, altre volte è condizionato da fattori che sfuggono al controll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generale è consigliabile progettare con cura i tempi di una ricerca, perché si possono commettere molti error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38120" y="2038320"/>
            <a:ext cx="3390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81160" y="2187720"/>
            <a:ext cx="68580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epilogando quanto visto finor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la ricerca intervengono degli elementi condizionanti interni ed estern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nti interni sono: i valori del ricercatore, il paradigma scientifico, la metodologia del ricercato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l paradigma scientifico è un quadro di riferimento che rappresenta la prospettiva dalla quale osserviamo la realtà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19044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condizionamenti esterni sono: il contesto istituzionale, le politiche educative, le risorse disponibil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330120" y="762120"/>
            <a:ext cx="101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Riepi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0" y="1768320"/>
            <a:ext cx="1177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1454040"/>
            <a:ext cx="8763120" cy="4730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569960"/>
            <a:ext cx="8763120" cy="43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cco alcuni esempi su cui riflett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Italia, ad esempio il referendum sull’energia nucleare ha portato all’abbandono di quest’area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 legge sulle cellule staminali limita la ricerca e ha provocato reazioni da gran parte della comunità scientif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cardinale Roberto Bellarmino, successivamente Santo, costrinse Galileo ad abiurare rispetto ai risultati delle ricerche da lui ottenu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urante il fascismo si decise di non favorire lo sviluppo della ricerca in Psicologia e Sociologia tanto che nel nostro Paese le prima facoltà di Psicologia e Sociologia nascono negli anni ’60. Sempre durante il fascismo si richiedeva ai docenti universitari un giuramento di fedeltà al reg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mpre durante il fascismo si richiese ai docenti universitari un giuramento di fedeltà al regime che, inevitabilmente, poneva seri limiti alla libertà di rice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7208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37160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’ambito dell’educazione e della formazione, la ricerca nasce dalla consapevolezza di un problem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tuazione problematic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e dall’idea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potesi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che esista una risposta utile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oluzione del problem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a ristabilire l’equilib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6457"/>
          <a:stretch/>
        </p:blipFill>
        <p:spPr>
          <a:xfrm>
            <a:off x="0" y="2197080"/>
            <a:ext cx="843912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53000" y="762120"/>
            <a:ext cx="331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ntroduzione: la scelta della ricer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33640" y="2762280"/>
            <a:ext cx="335304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2440" y="4119480"/>
            <a:ext cx="307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radigma scientif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alori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etodologia del ricerca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87320" y="4691160"/>
            <a:ext cx="24998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ntesto istituzion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olitiche educ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orse disponi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760" y="15717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lla scelta del problema e nella definizione delle ipotesi, intervengono degli elementi condizionanti che provengono sia dall’interno che dall’es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361800" y="3905280"/>
            <a:ext cx="3295440" cy="16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2960" y="3676680"/>
            <a:ext cx="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10360" y="4654440"/>
            <a:ext cx="2933640" cy="134640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4425840"/>
            <a:ext cx="0" cy="228600"/>
          </a:xfrm>
          <a:prstGeom prst="line">
            <a:avLst/>
          </a:prstGeom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86680" y="3659040"/>
            <a:ext cx="2133360" cy="785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ster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2914560"/>
            <a:ext cx="1876320" cy="1059840"/>
          </a:xfrm>
          <a:prstGeom prst="rect">
            <a:avLst/>
          </a:prstGeom>
          <a:solidFill>
            <a:srgbClr val="bfcfe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dizionament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ter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57880" y="30672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do sia meglio fare così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2090880"/>
            <a:ext cx="40384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l primo condizionamento interno è il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aradigma scientific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vale a dire un quadro di riferimento che rappresenta la prospettiva dalla quale osserviamo la realtà e, nel nostro caso, la nostra società e i fatti educativ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diamo più in dettaglio di cosa si tratta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2362320" cy="22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438280" y="2530440"/>
            <a:ext cx="19051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2266920"/>
            <a:ext cx="3429000" cy="26668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705720" y="2878200"/>
            <a:ext cx="1600200" cy="1522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0840" y="2000160"/>
            <a:ext cx="4192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ssiamo definire il paradigma scientifico come la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spettiva teorica condivisa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 riconosciuta dalla comunità degli scienziati di una determinato momento sto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le prospettiva teorica si basa sulle precedenti acquisizioni della scienza stessa ed indirizza la ricerc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formulazione delle ipotesi entr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ui collocare la spiegazione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nomeno osserv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lla scelta delle tecniche di ricer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mpir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22840" y="2571840"/>
            <a:ext cx="1982880" cy="19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986600" y="3029040"/>
            <a:ext cx="8524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25236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0200" y="2438280"/>
            <a:ext cx="1684440" cy="7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SSU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14760" y="1279440"/>
            <a:ext cx="40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 paradigmi sono costituiti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ff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 nostri giudizi su come vanno le cose nel mondo empi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ssi comprendono l’insieme delle conoscenze di cui disponiamo nel modo in cui le abbiamo riassunte in teorie e legg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07080" y="2438280"/>
            <a:ext cx="168444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AL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3581280"/>
            <a:ext cx="4011840" cy="21337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iò che le persone ritengono giusto o desiderabi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nno connotazione puramente soggettiva. Qualcuno tenta di negare l'esistenza di una propria particolare prospettiva di analisi e la assume come prospettiva assolu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81400" y="2825640"/>
            <a:ext cx="4343400" cy="366840"/>
          </a:xfrm>
          <a:prstGeom prst="rect">
            <a:avLst/>
          </a:prstGeom>
          <a:solidFill>
            <a:srgbClr val="cfdcf5"/>
          </a:solidFill>
          <a:ln w="9360">
            <a:solidFill>
              <a:srgbClr val="2845c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ahoma"/>
              </a:rPr>
              <a:t>IL FINE DELL’EDUCAZIONE 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26640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640" y="15177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gi le seguenti due definizioni del fine dell’educazione,  sono antitetiche perché hanno alla loro base valori oppos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343400"/>
            <a:ext cx="3429000" cy="161856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smare il comportamento dei giovani in modo che possano integrarsi nella società a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4343400"/>
            <a:ext cx="3581640" cy="916920"/>
          </a:xfrm>
          <a:prstGeom prst="rect">
            <a:avLst/>
          </a:prstGeom>
          <a:solidFill>
            <a:srgbClr val="bfcfe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parare i giovani in modo che possano cambiare in meglio la società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4068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Verdana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43400" y="4495680"/>
            <a:ext cx="457200" cy="5335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309840" y="3333600"/>
            <a:ext cx="389160" cy="85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43560" y="3352680"/>
            <a:ext cx="38880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2473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447920"/>
            <a:ext cx="3962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cuni ricercatori vivono l’approccio metodologico in termini di appartenenza ad una scuo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 questa ragione, selezionano i problemi in relazione a come si prestano ad essere esaminati con gli strumenti della scuola stes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2286000"/>
            <a:ext cx="2400120" cy="2743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666720" y="5489640"/>
            <a:ext cx="8115480" cy="1189800"/>
          </a:xfrm>
          <a:prstGeom prst="rect">
            <a:avLst/>
          </a:prstGeom>
          <a:solidFill>
            <a:srgbClr val="ffffcc"/>
          </a:solidFill>
          <a:ln w="9360">
            <a:solidFill>
              <a:srgbClr val="ff9900"/>
            </a:solidFill>
            <a:miter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ricercatore di scuola cognitivista, ad esempio, affronterà problemi relativi alla memoria e all’elaborazione dell’informazione, piuttosto che fare ricerche su problemi relativi gli aspetti sociali ed emotivi nell’apprend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209520" y="76212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I condizionamenti inter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41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 forte condizionamento interno è costituito dagli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chemi mental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Ognuno di noi, infatti, e quindi anche il ricercatore, vede le cose attraverso i propri schemi. Facciamo un esempio. Nell’immagine sottos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5715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cuni vedono una le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86400" y="563868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ri vedono un’ana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581280" y="3060720"/>
            <a:ext cx="2011320" cy="1282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19320" y="4313160"/>
            <a:ext cx="1331640" cy="132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18240" y="4167360"/>
            <a:ext cx="16732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09:19:28Z</dcterms:created>
  <dc:creator>riccardo santilli</dc:creator>
  <dc:description/>
  <dc:language>en-US</dc:language>
  <cp:lastModifiedBy>Università degli studi di Roma "La Sapienza"</cp:lastModifiedBy>
  <dcterms:modified xsi:type="dcterms:W3CDTF">2011-03-24T14:00:26Z</dcterms:modified>
  <cp:revision>581</cp:revision>
  <dc:subject/>
  <dc:title>Presentazione di PowerPoint</dc:title>
</cp:coreProperties>
</file>