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7B04-B4BD-481E-85BF-537D37DCBBD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pop up su alcuni esempi su cui riflettere a pagina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. Pop up su propor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C83F-9E2B-444F-A8C1-C1E136B08519}" type="slidenum">
              <a:rPr b="1" lang="it-IT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fattori che incidono nel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zione: 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680" y="14763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ciamo un altro esempio. Leggi la frase seguente, secondo te cosa signific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8280" y="5892840"/>
            <a:ext cx="424836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66880" y="5854680"/>
            <a:ext cx="38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i alla pagina successiva per vedere la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43000" y="4387680"/>
            <a:ext cx="6858000" cy="1325520"/>
            <a:chOff x="1143000" y="4387680"/>
            <a:chExt cx="6858000" cy="1325520"/>
          </a:xfrm>
        </p:grpSpPr>
        <p:sp>
          <p:nvSpPr>
            <p:cNvPr id="116" name=""/>
            <p:cNvSpPr/>
            <p:nvPr/>
          </p:nvSpPr>
          <p:spPr>
            <a:xfrm>
              <a:off x="1143000" y="48765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e rispettive mogli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8240" y="4387680"/>
              <a:ext cx="494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Questa frase può essere interpretata in due mod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48891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a moglie di Carlo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38280" y="6076800"/>
            <a:ext cx="426744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ratto da: Umberto Eco,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Lector in Fabu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2404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8800" y="20955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o dei principali condizionamenti è il contes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stituzion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62480" y="3429000"/>
          <a:ext cx="4267080" cy="1938240"/>
        </p:xfrm>
        <a:graphic>
          <a:graphicData uri="http://schemas.openxmlformats.org/drawingml/2006/table">
            <a:tbl>
              <a:tblPr/>
              <a:tblGrid>
                <a:gridCol w="1600200"/>
                <a:gridCol w="2666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ituzio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i Loc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 inte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itu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g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ola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osizioni amminist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8560" y="2432160"/>
            <a:ext cx="2374920" cy="267948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14440" y="5859360"/>
            <a:ext cx="81151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sbo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l’Unione Europea ha chiesto che tutti i paesi membri raggiungano entro il 2010 alcuni standard formativi. Per cui, le singole autorità politiche dei paesi dovrebbero chiedere ai ricercatori gli strumenti idonei a raggiungere tali risult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133720"/>
            <a:ext cx="3733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collettività e i decisori politivi possono influenzare gli orientamenti della ricer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sto aspetto è in parte ragionevole e condivisibile, in parte rischi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10120" y="4540320"/>
            <a:ext cx="714240" cy="739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410080" y="4724280"/>
            <a:ext cx="26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Alcuni esempi sui cui riflett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66720" y="1905120"/>
            <a:ext cx="2671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1400" y="2854440"/>
            <a:ext cx="25444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ubblic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one Europ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en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UR -&gt; COF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IS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G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I LO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rivat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nd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43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fare una ricerca occorrono risorse finanziarie, ecco alcune fonti di finanz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81600" y="274320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038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 le risorse che incidono sulla scelta del problema c’è anche i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po disponibi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e volte tale tempo è assegnato, altre volte è condizionato da fattori che sfuggono al contro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e è consigliabile progettare con cura i tempi di una ricerca, perché si possono commettere molti error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8120" y="2038320"/>
            <a:ext cx="33908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1160" y="218772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la ricerca intervengono degli elementi condizionanti interni ed ester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nti interni sono: i valori del ricercatore, il paradigma scientifico, la metodologia del ricerca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paradigma scientifico è un quadro di riferimento che rappresenta la prospettiva dalla quale osserviamo la real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 sono: il contesto istituzionale, le politiche educative, le risorse disponibi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454040"/>
            <a:ext cx="8763120" cy="4730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569960"/>
            <a:ext cx="876312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cco alcuni esempi su cui riflett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Italia, ad esempio il referendum sull’energia nucleare ha portato all’abbandono di quest’area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legge sulle cellule staminali limita la ricerca e ha provocato reazioni da gran parte della comunità scientif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ardinale Roberto Bellarmino, successivamente Santo, costrinse Galileo ad abiurare rispetto ai risultati delle ricerche da lui otten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urante il fascismo si decise di non favorire lo sviluppo della ricerca in Psicologia e Sociologia tanto che nel nostro Paese le prima facoltà di Psicologia e Sociologia nascono negli anni ’60. Sempre durante il fascismo si richiedeva ai docenti universitari un giuramento di fedeltà al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mpre durante il fascismo si richiese ai docenti universitari un giuramento di fedeltà al regime che, inevitabilmente, poneva seri limiti alla libertà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7208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3716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’ambito dell’educazione e della formazione, la ricerca nasce dalla consapevolezza di un problem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tuazione problematic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e dall’ide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otes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che esista una risposta utile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oluzione del problem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a ristabilire l’equilib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16457"/>
          <a:stretch/>
        </p:blipFill>
        <p:spPr>
          <a:xfrm>
            <a:off x="0" y="2197080"/>
            <a:ext cx="843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5300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33640" y="2762280"/>
            <a:ext cx="335304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352440" y="4119480"/>
            <a:ext cx="3071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adigma scienti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alori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todologia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87320" y="4691160"/>
            <a:ext cx="2499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litiche educ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orse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760" y="15717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 problema e nella definizione delle ipotesi, intervengono degli elementi condizionanti che provengono sia dall’interno che dall’es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361800" y="3905280"/>
            <a:ext cx="3295440" cy="16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2960" y="3676680"/>
            <a:ext cx="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10360" y="4654440"/>
            <a:ext cx="2933640" cy="1346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34280" y="4425840"/>
            <a:ext cx="0" cy="228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86680" y="3659040"/>
            <a:ext cx="2133360" cy="785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tern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0120" y="2914560"/>
            <a:ext cx="1876320" cy="1059840"/>
          </a:xfrm>
          <a:prstGeom prst="rect">
            <a:avLst/>
          </a:prstGeom>
          <a:solidFill>
            <a:srgbClr val="bfcfe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57880" y="30672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do sia meglio fare così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090880"/>
            <a:ext cx="4038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imo condizionamento interno è i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adigma scientific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vale a dire un quadro di riferimento che rappresenta la prospettiva dalla quale osserviamo la realtà e, nel nostro caso, la nostra società e i fatti educati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diamo più in dettaglio di cosa si tratt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362320" cy="22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253044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266920"/>
            <a:ext cx="3429000" cy="2666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05720" y="2878200"/>
            <a:ext cx="1600200" cy="152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0840" y="2000160"/>
            <a:ext cx="41925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amo definire il paradigma scientifico come 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spettiva teorica condivis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riconosciuta dalla comunità degli scienziati di una determinato momento sto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le prospettiva teorica si basa sulle precedenti acquisizioni della scienza stessa ed indirizza la ricer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formulazione delle ipotesi en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i collocare la spiegazione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nomeno osserva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scelta delle tecniche di ricer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ir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22840" y="2571840"/>
            <a:ext cx="1982880" cy="19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986600" y="3029040"/>
            <a:ext cx="852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236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2438280"/>
            <a:ext cx="1684440" cy="7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SU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14760" y="1279440"/>
            <a:ext cx="40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aradigmi sono costituiti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nostri giudizi su come vanno le cose nel mondo empi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si comprendono l’insieme delle conoscenze di cui disponiamo nel modo in cui le abbiamo riassunte in teorie e legg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07080" y="2438280"/>
            <a:ext cx="16844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le persone ritengono giusto o desiderab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onnotazione puramente soggettiva. Qualcuno tenta di negare l'esistenza di una propria particolare prospettiva di analisi e la assume come prospettiva assolu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81400" y="2825640"/>
            <a:ext cx="4343400" cy="366840"/>
          </a:xfrm>
          <a:prstGeom prst="rect">
            <a:avLst/>
          </a:prstGeom>
          <a:solidFill>
            <a:srgbClr val="cfdcf5"/>
          </a:solidFill>
          <a:ln w="9360">
            <a:solidFill>
              <a:srgbClr val="2845c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ahoma"/>
              </a:rPr>
              <a:t>IL FINE DELL’EDUCAZIONE 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26640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1517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le seguenti due definizioni del fine dell’educazione,  sono antitetiche perché hanno alla loro base valori oppo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343400"/>
            <a:ext cx="3429000" cy="161856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smare il comportamento dei giovani in modo che possano integrarsi nella società att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343400"/>
            <a:ext cx="3581640" cy="91692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parare i giovani in modo che possano cambiare in meglio la società att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0687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Verdana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43400" y="4495680"/>
            <a:ext cx="457200" cy="5335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09840" y="3333600"/>
            <a:ext cx="389160" cy="8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43560" y="3352680"/>
            <a:ext cx="388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44792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i ricercatori vivono l’approccio metodologico in termini di appartenenza ad una scu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questa ragione, selezionano i problemi in relazione a come si prestano ad essere esaminati con gli strumenti della scuola stes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2400120" cy="2743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66720" y="5489640"/>
            <a:ext cx="8115480" cy="118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ricercatore di scuola cognitivista, ad esempio, affronterà problemi relativi alla memoria e all’elaborazione dell’informazione, piuttosto che fare ricerche su problemi relativi gli aspetti sociali ed emotivi nell’apprend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095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41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forte condizionamento interno è costituito dagl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chemi mental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Ognuno di noi, infatti, e quindi anche il ricercatore, vede le cose attraverso i propri schemi. Facciamo un esempio. Nell’immagine sotto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715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cuni vedono una le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5638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ri vedono un’ana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3060720"/>
            <a:ext cx="2011320" cy="128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4313160"/>
            <a:ext cx="1331640" cy="132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18240" y="4167360"/>
            <a:ext cx="1673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4:00:26Z</dcterms:modified>
  <cp:revision>581</cp:revision>
  <dc:subject/>
  <dc:title>Presentazione di PowerPoint</dc:title>
</cp:coreProperties>
</file>